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126-78A5-45B2-85ED-9D733EBE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156-8732-4E3C-8B36-EBEDD1A4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C8DE-C383-414D-B123-A66185AA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03A8-8832-4085-B9A4-A88D6635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E33-C926-4137-B658-9E926496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BDA7-0200-48DE-90D8-C4F60ADE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34E-1033-48F7-9410-3DBA9E23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ACE-4BF6-4552-BC9E-1434B6AB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C10-8E5F-4899-AED0-1EB06D08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104-893A-42E1-8820-547B949C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FB6-4A8F-4890-8633-1481B159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599-F0B3-4071-B3D1-7C09B393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5C81-2DD8-42FC-9B93-C6A6E79F3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9400"/>
          </a:xfrm>
          <a:prstGeom prst="rect">
            <a:avLst/>
          </a:prstGeom>
          <a:noFill/>
          <a:ln w="9360">
            <a:solidFill>
              <a:srgbClr val="cc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w man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alls </a:t>
            </a:r>
            <a:r>
              <a:rPr b="0" lang="en-US" sz="4400" spc="-1" strike="noStrike" u="sng">
                <a:solidFill>
                  <a:srgbClr val="cc3399"/>
                </a:solidFill>
                <a:uFillTx/>
                <a:latin typeface="Arial"/>
              </a:rPr>
              <a:t>are the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here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e blue ball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here 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ree red bal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4360" y="1844640"/>
            <a:ext cx="1008000" cy="93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3716280"/>
            <a:ext cx="1008000" cy="93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95640" y="3716280"/>
            <a:ext cx="1008000" cy="93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3716280"/>
            <a:ext cx="1008360" cy="93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snak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re the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997360"/>
            <a:ext cx="324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is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92360" y="1773360"/>
            <a:ext cx="5489640" cy="41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l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re the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997360"/>
            <a:ext cx="324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is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284720" y="3716280"/>
            <a:ext cx="1616040" cy="194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00720" y="1557360"/>
            <a:ext cx="1674720" cy="201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443640" y="3933720"/>
            <a:ext cx="1914480" cy="2303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780000" y="1773360"/>
            <a:ext cx="1555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a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re the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2997360"/>
            <a:ext cx="324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is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360" y="2997360"/>
            <a:ext cx="2449800" cy="1322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05080" y="1413000"/>
            <a:ext cx="2449440" cy="1322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419640" y="4724280"/>
            <a:ext cx="2449440" cy="1322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372360" y="4653000"/>
            <a:ext cx="2449440" cy="1322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229440" y="2852640"/>
            <a:ext cx="2449440" cy="1322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940360" y="1413000"/>
            <a:ext cx="2449440" cy="132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396720" y="1341360"/>
            <a:ext cx="2449800" cy="1322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539640" y="4581360"/>
            <a:ext cx="244980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clow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re the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2997360"/>
            <a:ext cx="324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is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291924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kitte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re the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2997360"/>
            <a:ext cx="324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is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067280" y="1700280"/>
            <a:ext cx="2222280" cy="1952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588000" y="2565360"/>
            <a:ext cx="2222640" cy="1952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00720" y="4221000"/>
            <a:ext cx="22222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4400" spc="-1" strike="noStrike">
                <a:solidFill>
                  <a:srgbClr val="cc3399"/>
                </a:solidFill>
                <a:latin typeface="Arial"/>
              </a:rPr>
              <a:t>cak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re the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2997360"/>
            <a:ext cx="324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is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780000" y="1268280"/>
            <a:ext cx="2124000" cy="1944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300720" y="1268280"/>
            <a:ext cx="2124000" cy="194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2124000" cy="1944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443640" y="4508640"/>
            <a:ext cx="2124000" cy="1944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059280" y="4437000"/>
            <a:ext cx="2124000" cy="1944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4859280" y="3141720"/>
            <a:ext cx="2124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boy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re the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2997360"/>
            <a:ext cx="324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is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00720" y="1197000"/>
            <a:ext cx="36576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enci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re the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997360"/>
            <a:ext cx="324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is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067280" y="2205000"/>
            <a:ext cx="482580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ballo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re the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997360"/>
            <a:ext cx="324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is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24360" y="1197000"/>
            <a:ext cx="3916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0:36:46Z</dcterms:created>
  <dc:creator>Teacher</dc:creator>
  <dc:description/>
  <dc:language>en-US</dc:language>
  <cp:lastModifiedBy>Teacher</cp:lastModifiedBy>
  <dcterms:modified xsi:type="dcterms:W3CDTF">2011-12-15T06:11:45Z</dcterms:modified>
  <cp:revision>3</cp:revision>
  <dc:subject/>
  <dc:title>How many balls are there?   There is one blue ball.   There are three red balls.</dc:title>
</cp:coreProperties>
</file>