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gif" ContentType="image/gif"/>
  <Override PartName="/ppt/media/image8.wmf" ContentType="image/x-wmf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588-557A-4DDD-843C-6D8F268E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ACA-4426-4A9E-862A-BF6B7C64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7DEAA-3181-4F75-A91E-68BA92A3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13041-3A34-4578-8BF1-F4BC072A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D331A-DC3F-4724-A80F-60C9E6CE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CD3CD-3873-4EAD-8034-4FC1ED4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80BBF-6DEF-4D64-BBF7-A300E6CD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57B5A-8C9D-461E-B029-7F3DC6EE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DB315-E65B-4B4E-8E4F-72FC55CB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18C53-3D2B-4A18-AF73-C329EF3F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790C0-643E-452B-A1AB-FB07637D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FF160-29C6-4277-B9C8-4B018160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9F4-9785-48B8-A539-17A5A56C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9BA80-52B9-41D3-B7DE-5314DD75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62A0C-0A34-42F3-8A9D-ABF41F36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DB3A4-7654-4D37-AE44-66D430E8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426A4-6ED7-4797-9F67-B8CDC7BB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94363-0BE8-4629-8CC1-B0F56A7C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18773-04F1-458F-9E89-C95D67A5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EED5C-3946-44B2-8D61-66C91DC9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00CF8-2ECB-43EE-800C-67208C7F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92CA0-B533-4A7F-B5F2-69F88DC1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C6614-7A09-4756-B45F-FCD10793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FF8-358D-42A3-B75E-1F6D4654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A060F-6A5B-43E3-A33A-48D0C660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74A2-EE3A-43A3-9C06-58B4EAF4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0EC5-E2AD-47CD-B502-EFA4FCD4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C5D6-4954-43F3-8E32-EDB80860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CF1B-28F0-4094-B974-98CD8881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87EE-0CE7-4536-8784-79C0BC45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14CC-2F90-4845-812D-A865949F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04CA-C9EC-4B15-9016-58390A7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1F6-3BD1-4FB1-93C5-E6EFB9CA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A8F6-457F-4D9F-8071-A77CB58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439-AF9E-484D-864E-D6E1A175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9D8F-A43A-4AD8-B531-22C6ADB1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B6E3-6DEE-4DC9-A5FB-67CBCFC5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A0C5-3E90-4072-8F8F-9E7BBBD3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52DA-4602-4161-9766-84A4243B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0B54-A9BE-45EE-95C1-9CF3DB1C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C789-9145-4F2B-9C9E-7FE0EF0D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6A2E-B672-4DA8-B134-6ECBED84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5965-B608-407F-B88D-F692A7CB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F72-87A1-477B-B042-FFF320EF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D5D4-7759-4238-9557-8BB43047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E4F4-C8D3-423F-9175-01DB2E2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B83A-0DEC-4155-A6D2-B0965720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51A6-913D-47AA-B01B-102573F4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2BFE-D62B-47AE-9F0B-36B41BEE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9C49-9DE0-43C9-8666-E3D11645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5928-20C9-433B-9260-8A092F27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FA91-BE74-4150-9372-56A2162F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3A70-0029-4964-A986-88BEA295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9277-BAA6-48BC-8E2D-C72C23A6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A86-3F2A-4770-95BF-CEFD8281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805DF-7DF4-45EB-9D72-F77C29B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BFCA-E038-432E-B0A7-FA86E648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64591-A51A-41C2-8B58-1927B18F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F978-BBD5-4B61-A349-00CD526D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AD740-3420-475D-9F7F-848F7558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BE32-1988-4368-8EB2-1691050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7D01F-0265-4FF7-9833-7C5C5E0E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7B47-38EB-4C9B-A84F-70A9780A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D7558-68E2-4DB6-8C90-15B4A4A6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4210-5ED4-46AA-AED2-2288C7AF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F28-BA77-406A-AB5F-66877D6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EE197-603E-40FC-9631-49FCF5A2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90A8-F60F-4DCA-A668-62998D65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2044-23BE-4FEA-A1F6-B3C4289C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81A75-9EE1-4B6B-BDC4-568EB977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D0A15-FCE0-46AC-A0A1-37EC55E6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BAA21-45A9-4B87-A3CF-0B494953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1FBD0-3AB5-4BA5-A56D-63801125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CC9AB-2E39-4A7D-B9D5-E6782EDF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834D-784A-4F05-8BA3-82E37126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D93E5-DE4F-4B40-B28D-F7740221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660-66F5-4349-99B5-330C561C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1673-F172-43A5-967E-39B7B058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4DC37-D5F3-4A6E-B9D8-C82982A5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F029-87F8-4EC1-9A7C-7EEF5885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01A6C-9DB0-427A-80F1-2DE7769B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551B6-393F-4134-A766-555BA409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8A82A-C75C-404E-A84C-C235E0EC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CDF0-F5BD-48DD-93E5-4E93E0F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6E3F2-472E-472C-93CF-104CBE4E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B844B-4174-444B-8AD8-286988E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F466A-DC6B-40FB-B9A9-940F1EB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281-C0E4-4833-8EA0-18E3EBB9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EFF54-D2E4-4181-A0D9-A134C7F5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82348-FB59-4F44-99B7-0A0DC43C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822E-8FF1-48FB-9DC6-332D3344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01E99-97C0-4AC7-9652-F02BE4B5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0CC84-E374-4CE3-AEE2-5FDC2643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758B-DD6E-43A3-B93F-435EDE92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83C24-61C9-4C0C-BEA7-729944FA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299AA-6F0D-47D6-BC9E-4C827CB6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49DC4-EF8D-4C89-93DA-DA6C8BFC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02135-340C-4E57-8230-8BA4492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D86-C4F2-46AD-BB1A-4FFB87B8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F3451-4E54-40F2-9233-3EE1A086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CF3D-BCA0-4AE0-9E77-7AF52BE5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FF6F9-EB62-4B6C-B08E-19415E59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13D62-3110-4B36-9DCF-4BA8AAEB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A3603-8C39-4343-A6D8-FF08F2F1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32637-2276-425E-B299-33E17420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7CF3C-5F4F-4561-8E47-688C8F53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D592F-8DD0-4FA7-8B98-31A725FF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0C986-66CB-427D-AB0B-B6195DE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77286-082F-4E5A-8728-4FC759D7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EFE-9880-419A-A334-213A19A2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A0961-4C5C-42A2-9C8A-A9EC8A36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3035F-87FC-4D63-A777-178D075F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640CF-B2F2-46C8-BF03-2C38B8D7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8E8DF-BF96-48CB-9F24-D3D2F9FB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48363-EE2B-4F49-93CC-93A5174B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B47BF-2803-4554-8A55-73260A6C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12B99-2E40-4CD9-AF85-91790A28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52569-8C9A-49D1-96A2-448F1ACC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1256D-F610-41D1-B955-C1331A39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DEFD4-1BC8-49F9-9CB8-8E6C1A10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61DA-D43C-4FDE-855A-1418AE2BC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9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9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1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70A7-6A54-474C-8493-1B2AE33BBAA0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2C75-23CE-4D83-9512-31A159EEE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584A-5B72-43CC-8AE7-5B4F09702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433B-34D9-4E69-A8AA-12030D8F53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5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6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8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588C-ECF4-490C-94BB-2BDD570EDEBA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3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3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5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8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9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8931-1DD6-449E-B9B4-FDCF81A1C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A4DA-DD6C-4AE6-B9A9-A75755983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0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0A0B-1262-42D6-8979-001FC1E97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6C2F-B916-47CF-877D-8E4D1BD194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Открытый классный час </a:t>
            </a:r>
            <a:br>
              <a:rPr sz="4400"/>
            </a:br>
            <a:r>
              <a:rPr b="1" lang="en-US" sz="8000" spc="-1" strike="noStrike">
                <a:solidFill>
                  <a:srgbClr val="ff0000"/>
                </a:solidFill>
                <a:latin typeface="Arbat"/>
              </a:rPr>
              <a:t>«Как слово наше отзовется»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68" name="Picture 5" descr="010"/>
          <p:cNvPicPr/>
          <p:nvPr/>
        </p:nvPicPr>
        <p:blipFill>
          <a:blip r:embed="rId1"/>
          <a:stretch/>
        </p:blipFill>
        <p:spPr>
          <a:xfrm>
            <a:off x="6659640" y="5229360"/>
            <a:ext cx="165888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АВИЛА ВЕДЕНИЯ БЕСЕДЫ:</a:t>
            </a:r>
            <a:br>
              <a:rPr sz="4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Надо смотреть на того, с кем разговариваешь, невежливо смотреть в сторону, отворачиваться ;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Нельзя говорить только о себе, надо уметь слушать других;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Не следует во время разговора размахивать руками, теребить одежду собеседника;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Во время разговора не стараться перекричать другого собеседника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WordArt 4"/>
          <p:cNvSpPr txBox="1"/>
          <p:nvPr/>
        </p:nvSpPr>
        <p:spPr>
          <a:xfrm>
            <a:off x="1258920" y="1773360"/>
            <a:ext cx="19238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3635280" y="981000"/>
          <a:ext cx="3913200" cy="4821480"/>
        </p:xfrm>
        <a:graphic>
          <a:graphicData uri="http://schemas.openxmlformats.org/drawingml/2006/table">
            <a:tbl>
              <a:tblPr/>
              <a:tblGrid>
                <a:gridCol w="391320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9900"/>
                          </a:solidFill>
                          <a:latin typeface="Bookman Old Style"/>
                          <a:ea typeface="Arial"/>
                        </a:rPr>
                        <a:t>здороваюс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9900"/>
                          </a:solidFill>
                          <a:latin typeface="Bookman Old Style"/>
                          <a:ea typeface="Arial"/>
                        </a:rPr>
                        <a:t>употребляю вежливые слов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9900"/>
                          </a:solidFill>
                          <a:latin typeface="Bookman Old Style"/>
                          <a:ea typeface="Arial"/>
                        </a:rPr>
                        <a:t>не употребляю плохих сло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9900"/>
                          </a:solidFill>
                          <a:latin typeface="Bookman Old Style"/>
                          <a:ea typeface="Arial"/>
                        </a:rPr>
                        <a:t>не повышаю голо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9900"/>
                          </a:solidFill>
                          <a:latin typeface="Bookman Old Style"/>
                          <a:ea typeface="Arial"/>
                        </a:rPr>
                        <a:t>не грубл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bat"/>
              </a:rPr>
              <a:t>Есть слова – словно раны, слова – словно суд, –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bat"/>
              </a:rPr>
              <a:t>С ними в плен не сдаются и в плен не берут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bat"/>
              </a:rPr>
              <a:t>Словом можно убить, словом можно спасти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bat"/>
              </a:rPr>
              <a:t>Словом можно полки за собой повести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bat"/>
              </a:rPr>
              <a:t>Словом можно продать, и предать, и купить,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bat"/>
              </a:rPr>
              <a:t>Слово можно в разящий свинец перелить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62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Arial Black"/>
              </a:rPr>
              <a:t>МУДРЫЕ СЛОВА:</a:t>
            </a: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00ff00"/>
                </a:solidFill>
                <a:latin typeface="Arbat"/>
              </a:rPr>
              <a:t>Дороже лекарств и наград </a:t>
            </a:r>
            <a:r>
              <a:rPr b="1" i="1" lang="en-US" sz="4400" spc="-1" strike="noStrike" u="sng">
                <a:solidFill>
                  <a:srgbClr val="00ff00"/>
                </a:solidFill>
                <a:uFillTx/>
                <a:latin typeface="Arbat"/>
              </a:rPr>
              <a:t>доброе</a:t>
            </a:r>
            <a:r>
              <a:rPr b="1" i="1" lang="en-US" sz="4400" spc="-1" strike="noStrike">
                <a:solidFill>
                  <a:srgbClr val="00ff00"/>
                </a:solidFill>
                <a:latin typeface="Arbat"/>
              </a:rPr>
              <a:t> слово.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ff00"/>
                </a:solidFill>
                <a:latin typeface="Arbat"/>
              </a:rPr>
              <a:t>Хоть слово не обух, а от него люди гибнут.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92" name="Picture 5" descr="AN00790_"/>
          <p:cNvPicPr/>
          <p:nvPr/>
        </p:nvPicPr>
        <p:blipFill>
          <a:blip r:embed="rId1"/>
          <a:stretch/>
        </p:blipFill>
        <p:spPr>
          <a:xfrm>
            <a:off x="6659640" y="260280"/>
            <a:ext cx="1657440" cy="16560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D:\Света\а.jpg"/>
          <p:cNvPicPr/>
          <p:nvPr/>
        </p:nvPicPr>
        <p:blipFill>
          <a:blip r:embed="rId2"/>
          <a:stretch/>
        </p:blipFill>
        <p:spPr>
          <a:xfrm>
            <a:off x="324000" y="5084640"/>
            <a:ext cx="2160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bat"/>
              </a:rPr>
              <a:t>Жало остро, а язык острей того.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Arbat"/>
              </a:rPr>
              <a:t>За худые слова слетит и голова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Памятка.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Не говорите плохих слов сами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        Не копируйте других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              Не говорите как все, не старайтесь быть                 похожими на кого – то, сохраняйте самобытность 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свою культуру речи.</a:t>
            </a:r>
            <a:br>
              <a:rPr sz="3600"/>
            </a:br>
            <a:br>
              <a:rPr sz="18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Помните: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е то, что входит в уста, оскверняет их, но то, что выходит из уст»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кет от А до Я. – автор – составитель Н. В. Чудакова. М.: ООО «Фирма «Издательство АСТ», 199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. Н. Емельянова, В. М. Михайлов. О культуре поведения. – Чебоксары: Чувашское книжное издательство, 199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WordArt 5"/>
          <p:cNvSpPr txBox="1"/>
          <p:nvPr/>
        </p:nvSpPr>
        <p:spPr>
          <a:xfrm>
            <a:off x="1476360" y="1125360"/>
            <a:ext cx="6048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99" name="WordArt 6"/>
          <p:cNvSpPr txBox="1"/>
          <p:nvPr/>
        </p:nvSpPr>
        <p:spPr>
          <a:xfrm>
            <a:off x="3276720" y="3429000"/>
            <a:ext cx="266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00" name="WordArt 7"/>
          <p:cNvSpPr txBox="1"/>
          <p:nvPr/>
        </p:nvSpPr>
        <p:spPr>
          <a:xfrm>
            <a:off x="1835280" y="5157720"/>
            <a:ext cx="57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умений у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ти себя в соответствии с нравственными нормам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ами повед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ами этик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Vladimir Script"/>
              </a:rPr>
              <a:t>Что такое этике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ЭТИКЕТ</a:t>
            </a: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 – это установленный порядок поведения людей в обществ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ЭТИКЕТ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— правила, порядок поведения в общественном месте, в присутствии других лиц, при общении с ни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C:\Documents and Settings\Елена\Мои документы\Мои рисунки\Рисунок1.wmf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2151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G:\Мои рисунки\Смалики\Люди\c758c58aa4b2f66a44af30bd07026798.gif"/>
          <p:cNvPicPr/>
          <p:nvPr/>
        </p:nvPicPr>
        <p:blipFill>
          <a:blip r:embed="rId2"/>
          <a:stretch/>
        </p:blipFill>
        <p:spPr>
          <a:xfrm>
            <a:off x="1908000" y="5229360"/>
            <a:ext cx="1335240" cy="12603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059280" y="222408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987640" y="244008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Город вежлив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ВЕЖЛИВОСТЬ ВСЕГДА И ВЕЗДЕ – ЗАМЕЧАТЕЛЬНАЯ ЧЕРТА, ОНА ЧАСТО РЕШАЕТ ПРОБЛЕМЫ И ОТКРЫВАЕТ ДВЕР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678" name="Picture 4" descr="D:\Света\в.jpg"/>
          <p:cNvPicPr/>
          <p:nvPr/>
        </p:nvPicPr>
        <p:blipFill>
          <a:blip r:embed="rId1"/>
          <a:stretch/>
        </p:blipFill>
        <p:spPr>
          <a:xfrm>
            <a:off x="539640" y="4724280"/>
            <a:ext cx="21607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684000" y="259920"/>
            <a:ext cx="75308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каких случаях и как можно приветствовать друг друг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Кивок, жест, рукопожатие, слово, объятия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ще всего – “здравствуйте”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ивок и жест – при встрече в транспорте, на улице при сравнительно большом расстояни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ъятие – при встречи родственников или близких старых друзей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AutoShape 3">
            <a:hlinkClick r:id="rId1" action="ppaction://hlinksldjump"/>
          </p:cNvPr>
          <p:cNvSpPr/>
          <p:nvPr/>
        </p:nvSpPr>
        <p:spPr>
          <a:xfrm>
            <a:off x="7956720" y="5805360"/>
            <a:ext cx="576000" cy="648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98">
                <a:moveTo>
                  <a:pt x="0" y="0"/>
                </a:moveTo>
                <a:lnTo>
                  <a:pt x="21600" y="0"/>
                </a:lnTo>
                <a:lnTo>
                  <a:pt x="21600" y="24298"/>
                </a:lnTo>
                <a:lnTo>
                  <a:pt x="0" y="24298"/>
                </a:lnTo>
                <a:close/>
              </a:path>
              <a:path fill="lightenLess" w="21600" h="24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8">
                <a:moveTo>
                  <a:pt x="21600" y="0"/>
                </a:moveTo>
                <a:lnTo>
                  <a:pt x="21600" y="24298"/>
                </a:lnTo>
                <a:lnTo>
                  <a:pt x="20200" y="22898"/>
                </a:lnTo>
                <a:lnTo>
                  <a:pt x="20200" y="1400"/>
                </a:lnTo>
                <a:close/>
              </a:path>
              <a:path fill="darkenLess" w="21600" h="24298">
                <a:moveTo>
                  <a:pt x="21600" y="24298"/>
                </a:moveTo>
                <a:lnTo>
                  <a:pt x="0" y="24298"/>
                </a:lnTo>
                <a:lnTo>
                  <a:pt x="1400" y="22898"/>
                </a:lnTo>
                <a:lnTo>
                  <a:pt x="20200" y="22898"/>
                </a:lnTo>
                <a:close/>
              </a:path>
              <a:path fill="lighten" w="21600" h="24298">
                <a:moveTo>
                  <a:pt x="0" y="24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8"/>
                </a:lnTo>
                <a:close/>
              </a:path>
              <a:path fill="darken" w="21600" h="24298">
                <a:moveTo>
                  <a:pt x="10800" y="5186"/>
                </a:moveTo>
                <a:lnTo>
                  <a:pt x="13376" y="7797"/>
                </a:lnTo>
                <a:lnTo>
                  <a:pt x="13376" y="6057"/>
                </a:lnTo>
                <a:lnTo>
                  <a:pt x="15152" y="6057"/>
                </a:lnTo>
                <a:lnTo>
                  <a:pt x="15152" y="9573"/>
                </a:lnTo>
                <a:lnTo>
                  <a:pt x="17763" y="12149"/>
                </a:lnTo>
                <a:lnTo>
                  <a:pt x="16109" y="12149"/>
                </a:lnTo>
                <a:lnTo>
                  <a:pt x="16109" y="19338"/>
                </a:lnTo>
                <a:lnTo>
                  <a:pt x="5491" y="19338"/>
                </a:lnTo>
                <a:lnTo>
                  <a:pt x="5491" y="12149"/>
                </a:lnTo>
                <a:lnTo>
                  <a:pt x="3837" y="12149"/>
                </a:lnTo>
                <a:close/>
              </a:path>
              <a:path fill="darkenLess" w="21600" h="24298">
                <a:moveTo>
                  <a:pt x="13376" y="7797"/>
                </a:moveTo>
                <a:lnTo>
                  <a:pt x="13376" y="6057"/>
                </a:lnTo>
                <a:lnTo>
                  <a:pt x="15152" y="6057"/>
                </a:lnTo>
                <a:lnTo>
                  <a:pt x="15152" y="9573"/>
                </a:lnTo>
                <a:close/>
              </a:path>
              <a:path fill="darkenLess" w="21600" h="24298">
                <a:moveTo>
                  <a:pt x="9877" y="15648"/>
                </a:moveTo>
                <a:lnTo>
                  <a:pt x="11723" y="15648"/>
                </a:lnTo>
                <a:lnTo>
                  <a:pt x="11723" y="19338"/>
                </a:lnTo>
                <a:lnTo>
                  <a:pt x="16109" y="19338"/>
                </a:lnTo>
                <a:lnTo>
                  <a:pt x="16109" y="12149"/>
                </a:lnTo>
                <a:lnTo>
                  <a:pt x="5491" y="12149"/>
                </a:lnTo>
                <a:lnTo>
                  <a:pt x="5491" y="19338"/>
                </a:lnTo>
                <a:lnTo>
                  <a:pt x="9877" y="1933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2" descr="D:\Света\i.jpg"/>
          <p:cNvPicPr/>
          <p:nvPr/>
        </p:nvPicPr>
        <p:blipFill>
          <a:blip r:embed="rId2"/>
          <a:stretch/>
        </p:blipFill>
        <p:spPr>
          <a:xfrm>
            <a:off x="6659640" y="1844640"/>
            <a:ext cx="2184480" cy="172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то первым здоровается при входе в помещ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первым здоровается всегда входящий, независимо от пола и возра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AutoShape 3">
            <a:hlinkClick r:id="rId1" action="ppaction://hlinksldjump"/>
          </p:cNvPr>
          <p:cNvSpPr/>
          <p:nvPr/>
        </p:nvSpPr>
        <p:spPr>
          <a:xfrm>
            <a:off x="7956720" y="5805360"/>
            <a:ext cx="576000" cy="648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98">
                <a:moveTo>
                  <a:pt x="0" y="0"/>
                </a:moveTo>
                <a:lnTo>
                  <a:pt x="21600" y="0"/>
                </a:lnTo>
                <a:lnTo>
                  <a:pt x="21600" y="24298"/>
                </a:lnTo>
                <a:lnTo>
                  <a:pt x="0" y="24298"/>
                </a:lnTo>
                <a:close/>
              </a:path>
              <a:path fill="lightenLess" w="21600" h="24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8">
                <a:moveTo>
                  <a:pt x="21600" y="0"/>
                </a:moveTo>
                <a:lnTo>
                  <a:pt x="21600" y="24298"/>
                </a:lnTo>
                <a:lnTo>
                  <a:pt x="20200" y="22898"/>
                </a:lnTo>
                <a:lnTo>
                  <a:pt x="20200" y="1400"/>
                </a:lnTo>
                <a:close/>
              </a:path>
              <a:path fill="darkenLess" w="21600" h="24298">
                <a:moveTo>
                  <a:pt x="21600" y="24298"/>
                </a:moveTo>
                <a:lnTo>
                  <a:pt x="0" y="24298"/>
                </a:lnTo>
                <a:lnTo>
                  <a:pt x="1400" y="22898"/>
                </a:lnTo>
                <a:lnTo>
                  <a:pt x="20200" y="22898"/>
                </a:lnTo>
                <a:close/>
              </a:path>
              <a:path fill="lighten" w="21600" h="24298">
                <a:moveTo>
                  <a:pt x="0" y="24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8"/>
                </a:lnTo>
                <a:close/>
              </a:path>
              <a:path fill="darken" w="21600" h="24298">
                <a:moveTo>
                  <a:pt x="10800" y="5186"/>
                </a:moveTo>
                <a:lnTo>
                  <a:pt x="13376" y="7797"/>
                </a:lnTo>
                <a:lnTo>
                  <a:pt x="13376" y="6057"/>
                </a:lnTo>
                <a:lnTo>
                  <a:pt x="15152" y="6057"/>
                </a:lnTo>
                <a:lnTo>
                  <a:pt x="15152" y="9573"/>
                </a:lnTo>
                <a:lnTo>
                  <a:pt x="17763" y="12149"/>
                </a:lnTo>
                <a:lnTo>
                  <a:pt x="16109" y="12149"/>
                </a:lnTo>
                <a:lnTo>
                  <a:pt x="16109" y="19338"/>
                </a:lnTo>
                <a:lnTo>
                  <a:pt x="5491" y="19338"/>
                </a:lnTo>
                <a:lnTo>
                  <a:pt x="5491" y="12149"/>
                </a:lnTo>
                <a:lnTo>
                  <a:pt x="3837" y="12149"/>
                </a:lnTo>
                <a:close/>
              </a:path>
              <a:path fill="darkenLess" w="21600" h="24298">
                <a:moveTo>
                  <a:pt x="13376" y="7797"/>
                </a:moveTo>
                <a:lnTo>
                  <a:pt x="13376" y="6057"/>
                </a:lnTo>
                <a:lnTo>
                  <a:pt x="15152" y="6057"/>
                </a:lnTo>
                <a:lnTo>
                  <a:pt x="15152" y="9573"/>
                </a:lnTo>
                <a:close/>
              </a:path>
              <a:path fill="darkenLess" w="21600" h="24298">
                <a:moveTo>
                  <a:pt x="9877" y="15648"/>
                </a:moveTo>
                <a:lnTo>
                  <a:pt x="11723" y="15648"/>
                </a:lnTo>
                <a:lnTo>
                  <a:pt x="11723" y="19338"/>
                </a:lnTo>
                <a:lnTo>
                  <a:pt x="16109" y="19338"/>
                </a:lnTo>
                <a:lnTo>
                  <a:pt x="16109" y="12149"/>
                </a:lnTo>
                <a:lnTo>
                  <a:pt x="5491" y="12149"/>
                </a:lnTo>
                <a:lnTo>
                  <a:pt x="5491" y="19338"/>
                </a:lnTo>
                <a:lnTo>
                  <a:pt x="9877" y="1933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Если вы опоздали в кино или театр, нужно ли искать своё место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необходимо сесть на ближайшее свободное мес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3">
            <a:hlinkClick r:id="rId1" action="ppaction://hlinksldjump"/>
          </p:cNvPr>
          <p:cNvSpPr/>
          <p:nvPr/>
        </p:nvSpPr>
        <p:spPr>
          <a:xfrm>
            <a:off x="7956720" y="5805360"/>
            <a:ext cx="576000" cy="648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98">
                <a:moveTo>
                  <a:pt x="0" y="0"/>
                </a:moveTo>
                <a:lnTo>
                  <a:pt x="21600" y="0"/>
                </a:lnTo>
                <a:lnTo>
                  <a:pt x="21600" y="24298"/>
                </a:lnTo>
                <a:lnTo>
                  <a:pt x="0" y="24298"/>
                </a:lnTo>
                <a:close/>
              </a:path>
              <a:path fill="lightenLess" w="21600" h="24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8">
                <a:moveTo>
                  <a:pt x="21600" y="0"/>
                </a:moveTo>
                <a:lnTo>
                  <a:pt x="21600" y="24298"/>
                </a:lnTo>
                <a:lnTo>
                  <a:pt x="20200" y="22898"/>
                </a:lnTo>
                <a:lnTo>
                  <a:pt x="20200" y="1400"/>
                </a:lnTo>
                <a:close/>
              </a:path>
              <a:path fill="darkenLess" w="21600" h="24298">
                <a:moveTo>
                  <a:pt x="21600" y="24298"/>
                </a:moveTo>
                <a:lnTo>
                  <a:pt x="0" y="24298"/>
                </a:lnTo>
                <a:lnTo>
                  <a:pt x="1400" y="22898"/>
                </a:lnTo>
                <a:lnTo>
                  <a:pt x="20200" y="22898"/>
                </a:lnTo>
                <a:close/>
              </a:path>
              <a:path fill="lighten" w="21600" h="24298">
                <a:moveTo>
                  <a:pt x="0" y="24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8"/>
                </a:lnTo>
                <a:close/>
              </a:path>
              <a:path fill="darken" w="21600" h="24298">
                <a:moveTo>
                  <a:pt x="10800" y="5186"/>
                </a:moveTo>
                <a:lnTo>
                  <a:pt x="13376" y="7797"/>
                </a:lnTo>
                <a:lnTo>
                  <a:pt x="13376" y="6057"/>
                </a:lnTo>
                <a:lnTo>
                  <a:pt x="15152" y="6057"/>
                </a:lnTo>
                <a:lnTo>
                  <a:pt x="15152" y="9573"/>
                </a:lnTo>
                <a:lnTo>
                  <a:pt x="17763" y="12149"/>
                </a:lnTo>
                <a:lnTo>
                  <a:pt x="16109" y="12149"/>
                </a:lnTo>
                <a:lnTo>
                  <a:pt x="16109" y="19338"/>
                </a:lnTo>
                <a:lnTo>
                  <a:pt x="5491" y="19338"/>
                </a:lnTo>
                <a:lnTo>
                  <a:pt x="5491" y="12149"/>
                </a:lnTo>
                <a:lnTo>
                  <a:pt x="3837" y="12149"/>
                </a:lnTo>
                <a:close/>
              </a:path>
              <a:path fill="darkenLess" w="21600" h="24298">
                <a:moveTo>
                  <a:pt x="13376" y="7797"/>
                </a:moveTo>
                <a:lnTo>
                  <a:pt x="13376" y="6057"/>
                </a:lnTo>
                <a:lnTo>
                  <a:pt x="15152" y="6057"/>
                </a:lnTo>
                <a:lnTo>
                  <a:pt x="15152" y="9573"/>
                </a:lnTo>
                <a:close/>
              </a:path>
              <a:path fill="darkenLess" w="21600" h="24298">
                <a:moveTo>
                  <a:pt x="9877" y="15648"/>
                </a:moveTo>
                <a:lnTo>
                  <a:pt x="11723" y="15648"/>
                </a:lnTo>
                <a:lnTo>
                  <a:pt x="11723" y="19338"/>
                </a:lnTo>
                <a:lnTo>
                  <a:pt x="16109" y="19338"/>
                </a:lnTo>
                <a:lnTo>
                  <a:pt x="16109" y="12149"/>
                </a:lnTo>
                <a:lnTo>
                  <a:pt x="5491" y="12149"/>
                </a:lnTo>
                <a:lnTo>
                  <a:pt x="5491" y="19338"/>
                </a:lnTo>
                <a:lnTo>
                  <a:pt x="9877" y="1933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eslic`s Document Cyr"/>
              </a:rPr>
              <a:t>Если вы вежливы, то не будете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ключать телевизор на всю громкость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шуметь после окончания рабочего дня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громко хлопать дверями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читать чужие письма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кричать под окнами вызывая друзей и знакомых 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8:12:58Z</dcterms:created>
  <dc:creator>Школа</dc:creator>
  <dc:description/>
  <dc:language>en-US</dc:language>
  <cp:lastModifiedBy>Школа</cp:lastModifiedBy>
  <dcterms:modified xsi:type="dcterms:W3CDTF">2011-12-08T08:26:33Z</dcterms:modified>
  <cp:revision>12</cp:revision>
  <dc:subject/>
  <dc:title>Открытый классный час  «Как слово наше отзовется»</dc:title>
</cp:coreProperties>
</file>