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applause.wav" ContentType="audio/x-wav"/>
  <Override PartName="/ppt/media/image7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png" ContentType="image/png"/>
  <Override PartName="/ppt/media/image6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png" ContentType="image/pn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219-7C7B-418A-940A-C1381B67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C80-165C-4A8D-8D8D-38836FBE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BAF-31E6-4A98-9FAF-D3690967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73B-7CBD-4FCB-9E0C-3410BF59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48FC-9FB1-4481-9E7D-4E0EF998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3F6C-CF67-46A7-8F6D-2FC693C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1120-1863-4E9D-B8E2-AD88D2D9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E68A-9C52-4DDB-845E-475B2F5B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A03F-4CB5-4E67-A7A8-9A34BC1B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A79F-B8C9-4508-83EB-792F069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C6DE-419E-4FBF-B63E-CC606B7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F23-885F-4D08-ABC5-FE581A4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191-ECBF-4C7F-A989-E5B94D7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879-C0EA-4511-B7F5-DECBDD6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2CAD-7194-4F51-A445-8778B209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7415-2993-41AE-B746-A02A8BFB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5F7F-2810-4CA7-8256-907F39B0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D69A-9CA8-4C0F-B37A-D38264B0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9F67-A207-436C-9142-0001F5F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9E59-1513-48A6-9BC4-CAAEC1D4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31C1-2FC3-437F-ADC6-1328ECC8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878F-3C52-4FF7-BC84-52F3B35C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137-4155-459D-A8D1-52E63EBE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B9BA-D283-433E-9A05-FFC5C884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1E4E-9188-444F-AB11-AAEC17B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1867-2F40-437A-BE5F-A1DB854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B2AC-6CC8-4E39-BDC5-85B625D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01B0-5C56-49C7-839F-3E531441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4683-4E48-434E-B395-DA4878EA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367E-413D-4137-AD8B-2A997AA0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2555-414C-4989-8A77-67376D19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FEF8-5537-4160-A2EF-DA25A560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3569-FBFB-4DBC-B57E-B2C72656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470-7CE4-4A58-8519-F8953D4D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2BB1-CC09-4097-9EBE-A8A8CEE4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F7AB-5BC8-419B-8845-8F3ABDA5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7316-4CCE-4546-AD40-0ECF8426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A9CA-E906-4ED6-85D2-883EE8AB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A6CC-44E7-40A9-87FE-378A53B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49540-4510-4544-8B17-67B71E8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CE63-A5F2-446B-A9D4-98659DA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F646-ED29-4494-8713-1927BC11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2C25-A2EE-4E18-9CF2-5E010882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47B0-02DD-46E0-AFAF-682827B5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291-5469-4FAC-BD05-AC011372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B7ED-9F79-4959-A7D1-E9B45BCB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4309-020C-4737-8987-4D6DD0F3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398A-A0AF-4639-8075-F93E4E13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DD40-B5E3-45A9-AFEE-70407745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0AB4-005D-439E-8E0B-9DFFA15F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30FB-CF13-4BAA-9EBF-5AF5D92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F85B-0AD9-4409-80BB-63E2C96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20F4-FB60-4DA6-9229-793F6DD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1E3E-03F8-4B59-8765-6A2A5487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D653-83B1-404B-9189-C3F14930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AD0-6094-4936-8475-18FD38F2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D88F5-CFD4-41A8-AD6D-0442FFD6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DE1F-650B-436C-AAE8-5ACAF732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ACB5-4EDF-4559-9B41-AEB0DFA0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F474-09FB-4A61-919D-4A759BD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94171-5636-4BC3-BCB8-803C905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63293-4E0D-45A7-9FD7-BA13F2A7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6D27-9AD6-4B9E-AA29-F08D42E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27422-BA4F-4E6E-861B-A52BC62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3FB7A-E9FF-4D30-93B4-F226FDF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E630-FF3F-49EA-9684-67A1081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014-91F8-40BC-87E1-C87A844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F00E-01F0-41C6-B026-C6E226B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B9C3-ACBC-45D7-BC8C-3F2BC69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EE1A-9127-4BF0-A607-FD99A0CE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43B-43D0-4C94-A5B1-D0F3716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746-DFC0-4FDE-A108-9DDBD8C0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76a55">
                  <a:alpha val="1176"/>
                </a:srgbClr>
              </a:gs>
              <a:gs pos="100000">
                <a:srgbClr val="676a55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8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8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042-6CEF-4DA9-A842-5582943DC68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76a55">
                  <a:alpha val="1176"/>
                </a:srgbClr>
              </a:gs>
              <a:gs pos="100000">
                <a:srgbClr val="676a55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8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8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B4A-8BC0-4C16-866F-3714965EF2D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76a55">
                  <a:alpha val="1176"/>
                </a:srgbClr>
              </a:gs>
              <a:gs pos="100000">
                <a:srgbClr val="676a55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7f8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8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E38B-38DF-4B73-82EB-9CF4C9EFCF2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7D2D-3715-4733-9475-0E6A75E026F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028E-A88E-433F-8907-E910A77643BD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7EC1-89D6-45FB-A6C3-2CCC13617B9A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57120" y="142920"/>
            <a:ext cx="8429760" cy="6500880"/>
          </a:xfrm>
          <a:prstGeom prst="rect">
            <a:avLst/>
          </a:prstGeom>
          <a:solidFill>
            <a:srgbClr val="72a376"/>
          </a:solidFill>
          <a:ln w="19080">
            <a:solidFill>
              <a:srgbClr val="527755"/>
            </a:solidFill>
            <a:miter/>
          </a:ln>
        </p:spPr>
        <p:txBody>
          <a:bodyPr anchor="t">
            <a:noAutofit/>
          </a:bodyPr>
          <a:p>
            <a:pPr marL="447840" indent="-382680" algn="ctr">
              <a:lnSpc>
                <a:spcPct val="80000"/>
              </a:lnSpc>
              <a:spcBef>
                <a:spcPts val="104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 algn="ctr">
              <a:lnSpc>
                <a:spcPct val="80000"/>
              </a:lnSpc>
              <a:spcBef>
                <a:spcPts val="134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rebuchet MS"/>
              </a:rPr>
              <a:t>«Повышение профессиональной компетентности педагогов – необходимое условие развития современной школы»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 algn="ctr">
              <a:lnSpc>
                <a:spcPct val="80000"/>
              </a:lnSpc>
              <a:spcBef>
                <a:spcPts val="134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rebuchet MS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80000"/>
              </a:lnSpc>
              <a:spcBef>
                <a:spcPts val="134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573408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.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колаева М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5473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Личность учителя</a:t>
            </a:r>
            <a:endParaRPr b="0" lang="en-US" sz="36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7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Эмоциональность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Выразительность реч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Творческое начало личност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Организаторские способност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Чувство юмор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Настойчивость, дисциплинированность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5" descr="25"/>
          <p:cNvPicPr/>
          <p:nvPr/>
        </p:nvPicPr>
        <p:blipFill>
          <a:blip r:embed="rId7"/>
          <a:stretch/>
        </p:blipFill>
        <p:spPr>
          <a:xfrm>
            <a:off x="6084720" y="260280"/>
            <a:ext cx="2880000" cy="2376720"/>
          </a:xfrm>
          <a:prstGeom prst="rect">
            <a:avLst/>
          </a:prstGeom>
          <a:ln w="0">
            <a:noFill/>
          </a:ln>
        </p:spPr>
      </p:pic>
      <p:sp>
        <p:nvSpPr>
          <p:cNvPr id="291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07B3-9C9B-4CA9-AB31-78348B9341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186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Критерии оценки учителя учениками</a:t>
            </a:r>
            <a:endParaRPr b="0" lang="en-US" sz="24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. Профессиональное мастерство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. Ответствен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3. Чувство юмор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4. Организаторские способнос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5. Творческие способнос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6. Выразительность реч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7. Остроум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8. Эмоциональн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9. Уважение к ученикам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0. Умение понять ученика и найти с ним общий язы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1. Доверие к ученика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2. Доброт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3. Справедлив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4. Отходчив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5. Строг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6. Не обзывать ученик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4" descr="AG00314_"/>
          <p:cNvPicPr/>
          <p:nvPr/>
        </p:nvPicPr>
        <p:blipFill>
          <a:blip r:embed="rId1"/>
          <a:stretch/>
        </p:blipFill>
        <p:spPr>
          <a:xfrm>
            <a:off x="7164360" y="2421000"/>
            <a:ext cx="733320" cy="1123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AG00311_"/>
          <p:cNvPicPr/>
          <p:nvPr/>
        </p:nvPicPr>
        <p:blipFill>
          <a:blip r:embed="rId2"/>
          <a:stretch/>
        </p:blipFill>
        <p:spPr>
          <a:xfrm>
            <a:off x="7164360" y="3789360"/>
            <a:ext cx="819000" cy="1171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AG00312_"/>
          <p:cNvPicPr/>
          <p:nvPr/>
        </p:nvPicPr>
        <p:blipFill>
          <a:blip r:embed="rId3"/>
          <a:stretch/>
        </p:blipFill>
        <p:spPr>
          <a:xfrm>
            <a:off x="7164360" y="5229360"/>
            <a:ext cx="819000" cy="1171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AG00315_"/>
          <p:cNvPicPr/>
          <p:nvPr/>
        </p:nvPicPr>
        <p:blipFill>
          <a:blip r:embed="rId4"/>
          <a:stretch/>
        </p:blipFill>
        <p:spPr>
          <a:xfrm>
            <a:off x="6588000" y="54936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AG00316_"/>
          <p:cNvPicPr/>
          <p:nvPr/>
        </p:nvPicPr>
        <p:blipFill>
          <a:blip r:embed="rId5"/>
          <a:stretch/>
        </p:blipFill>
        <p:spPr>
          <a:xfrm>
            <a:off x="7885080" y="0"/>
            <a:ext cx="1038240" cy="1666800"/>
          </a:xfrm>
          <a:prstGeom prst="rect">
            <a:avLst/>
          </a:prstGeom>
          <a:ln w="0">
            <a:noFill/>
          </a:ln>
        </p:spPr>
      </p:pic>
      <p:sp>
        <p:nvSpPr>
          <p:cNvPr id="299" name="Номер слайда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3235-CAD2-439F-8DD2-4879939AA29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СТАДИИ ПРОФЕССИОНАЛЬНОГО СТАНОВЛЕНИЯ</a:t>
            </a:r>
            <a:endParaRPr b="0" lang="en-US" sz="2400" spc="-1" strike="noStrike">
              <a:solidFill>
                <a:srgbClr val="8fbf93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981000"/>
          <a:ext cx="8569080" cy="5748480"/>
        </p:xfrm>
        <a:graphic>
          <a:graphicData uri="http://schemas.openxmlformats.org/drawingml/2006/table">
            <a:tbl>
              <a:tblPr/>
              <a:tblGrid>
                <a:gridCol w="523800"/>
                <a:gridCol w="1197000"/>
                <a:gridCol w="68482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ающие педагоги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ются поведением, ориентированным на внешние правила, образцы, рекомендации. Это объясняется небольшим опытом; страхом потерпеть неудачу или совершить ошиб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ые специалисты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ывают трудности при разграничении важных характеристик учебно-воспитательного процесса от второстепенных; стремятся выделить компоненты, составляющие реальную педагогическую ситуацию, подвергнуть их педагогическому и психологическому анализ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ые учител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“учительской компетентности”. Способность самостоятельно организовать и спланировать как свою, так и детскую деятельность. Характерной особенностью является умение справиться с часто неординарными ситуац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8fbf93"/>
              </a:solidFill>
              <a:latin typeface="Trebuchet MS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57200" y="765000"/>
          <a:ext cx="8229600" cy="5688360"/>
        </p:xfrm>
        <a:graphic>
          <a:graphicData uri="http://schemas.openxmlformats.org/drawingml/2006/table">
            <a:tbl>
              <a:tblPr/>
              <a:tblGrid>
                <a:gridCol w="264240"/>
                <a:gridCol w="946800"/>
                <a:gridCol w="7018560"/>
              </a:tblGrid>
              <a:tr h="203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ы</a:t>
                      </a:r>
                      <a:br>
                        <a:rPr sz="16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“профессионального мастерства”. Характерно умение целостно, системно видеть педагогическую реальность, вычленять наиболее существенные элементы педагогической прак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ы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2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онны в своей деятельности к интуитивному целостному схватыванию сложной, требующей незамедлительного решения педагогической ситуации, отбрасывая все несущественное и второстепенное. Могут за внешними проявлениями увидеть глубокие, не лежащие на поверхности причины. Способны структурировать социально-психологические мотивы, определяющие тот или иной поведенческий акт подопечно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5681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Умные  мысли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для  вашей души</a:t>
            </a:r>
            <a:endParaRPr b="0" lang="en-US" sz="28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6928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Люблю предмет, который я люблю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Мне такт и интуиция опо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Я горы вмиг с ребятами сверн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Я слушаю других – какое чудо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Я и творить,  и натворить умею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вои ошибки детям я прощаю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Мне юмор в детстве подмешали  в молок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Я знаю мало, и я это знаю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Я от души со всеми терпелива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Профессия досталась мне от Бога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6" name="Picture 6" descr="&amp;_65533авп"/>
          <p:cNvPicPr/>
          <p:nvPr/>
        </p:nvPicPr>
        <p:blipFill>
          <a:blip r:embed="rId11"/>
          <a:stretch/>
        </p:blipFill>
        <p:spPr>
          <a:xfrm>
            <a:off x="6804000" y="189000"/>
            <a:ext cx="2016000" cy="147636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B2DA-D4E0-4607-978B-8EF1B80D9C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rebuchet MS"/>
              </a:rPr>
              <a:t>Спасибо всем за внимание! 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09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D23F-38BF-4B7C-A826-CDFB7017F9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D:\картинки\руки\AG00373_.GIF"/>
          <p:cNvPicPr/>
          <p:nvPr/>
        </p:nvPicPr>
        <p:blipFill>
          <a:blip r:embed="rId1"/>
          <a:stretch/>
        </p:blipFill>
        <p:spPr>
          <a:xfrm>
            <a:off x="1116000" y="1916280"/>
            <a:ext cx="7215120" cy="285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405920" cy="65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7929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6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РЕШЕНИЕ ПЕДСОВЕТА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читать повышение профессиональной компетентности педагогов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иоритетной задачей педагогического коллектива и необходимым условием развития нашей школы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добрить накопленный  опыт работы коллектива педагогов по повышению профессиональной компетентности:  тематические педсоветы, теоретические семинары, мастер-классы, методические недели, мониторинг профессиональной успешности учите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(портфолио, рейтинг учителя), внедрение системного анализа урока, участие в профессиональных конкурсах, семинарах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Администрации школы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зять за основу сформированный при обсуждении на методических объединениях перечень ключевых компетенций педагогов нашей школы.  В план работы включить мероприятия, направленные на развитие этих педагогических компетенций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Учителям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 Продолжить практику взаимопосещения уроков учителей разных образовательных областей, которое не предполагает  функции контроля, организует эффективное профессиональное общение и дает возможность учителям в большей степени  раскрыться, показать свой потенциал, найти ответы на интересующие их вопросы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Отв. руководители МО.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-164160">
              <a:lnSpc>
                <a:spcPct val="80000"/>
              </a:lnSpc>
              <a:spcBef>
                <a:spcPts val="349"/>
              </a:spcBef>
              <a:buClr>
                <a:srgbClr val="72a37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 целью формирования у учащихся компетенций личностного самосовершенствования,   коммуникативной, социальной - руководителям МО запланировать проведения «мастер-классов» с учащимися школы в рамках методических и предметных недель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-164160">
              <a:lnSpc>
                <a:spcPct val="80000"/>
              </a:lnSpc>
              <a:spcBef>
                <a:spcPts val="349"/>
              </a:spcBef>
              <a:buClr>
                <a:srgbClr val="72a376"/>
              </a:buClr>
              <a:buSzPct val="8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Отв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уководители МО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Продолжить работу по созданию положительного имиджа школы через постоянную, систематическую работу над своим имиджем каждым педагогом, учащимся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Отв. педагоги школ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Продолжить работу по обновлению сайта школы для информирования общественности, родителей, учащихся о перспективах развития школы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Отв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охотнева Е.И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Классным руководителям в планировании воспитательной работы уделить особое место проведению классных часов по формированию компетенций учащихся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Отв.</a:t>
            </a:r>
            <a:r>
              <a:rPr b="0" i="1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кл. руководители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Trebuchet MS"/>
              </a:rPr>
              <a:t>ЦЕЛИ: </a:t>
            </a: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.  Обеспечение профессионально-личностного самоопределения педагога в образовательном пространстве школ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  Определение составляющих профессиональной компетентности и перечня основных профессиональных компетенций для педагогов нашей школы, способствующих реализации Программы развития школ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40640" cy="1542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способность оптимально, эффективно, системно, с учетом достижений современной науки и собственных интересов, способностей прогнозировать, осуществлять педагогические действия в образовательном пространстве.  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Основные составляющие компетентности</a:t>
            </a:r>
            <a:endParaRPr b="0" lang="en-US" sz="28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Trebuchet MS"/>
              </a:rPr>
              <a:t>Профессиональная компетентность</a:t>
            </a:r>
            <a:r>
              <a:rPr b="1" i="1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rebuchet MS"/>
              </a:rPr>
              <a:t>—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качество действий учителя, обеспечивающих: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эффективное решение профессионально-педагогических проблем и типичных профессиональных задач, возникающих в реальных ситуациях педагогической деятельности, с использованием жизнен­ного опыта, имеющейся квалификации, общепризнанных ценностей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владение современными образовательными технологиями, технологиями педагогической диагнос­тики (опросов, индивидуальных и групповых интервью), психолого-педагогической коррекции, снятия стрессов и т.п., методическими приемами, педагогическими средствами и их постоянное совершенствование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использование методических идей, новой литературы и иных источников информации в области компетенции и методик преподавания для построения современных занятии с учащимися, осуществление оценочно-ценностной рефлексии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i="1" lang="en-US" sz="2400" spc="-1" strike="noStrike">
                <a:solidFill>
                  <a:srgbClr val="660066"/>
                </a:solidFill>
                <a:latin typeface="Trebuchet MS"/>
              </a:rPr>
              <a:t>Коммуникативная компетентность</a:t>
            </a:r>
            <a:r>
              <a:rPr b="1" i="1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— качество действий учителя, обеспечивающих: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9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эффективное конструирование прямой и обратной связи с другим человеком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9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установление контакта с учащимися разного возраста, родителями (лицами, их замещающими), кол­легами по работе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9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умение вырабатывать стратегию, тактику и технику взаимодействий с людьми, организовывать их сов­местную деятельность для достижения определен­ных социально значимых целей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9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умение убеждать, аргументировать свою позицию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82680">
              <a:lnSpc>
                <a:spcPct val="90000"/>
              </a:lnSpc>
              <a:spcBef>
                <a:spcPts val="524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владение ораторским искусством, грамотностью устной и письменной речи, публичным представле­нием результатов своей работы, отбором адекват­ных форм и методов презентации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rebuchet MS"/>
              </a:rPr>
              <a:t>   </a:t>
            </a:r>
            <a:r>
              <a:rPr b="1" i="1" lang="ru-RU" sz="2400" spc="-1" strike="noStrike">
                <a:solidFill>
                  <a:srgbClr val="660066"/>
                </a:solidFill>
                <a:latin typeface="Trebuchet MS"/>
              </a:rPr>
              <a:t>Информационная компетентность</a:t>
            </a:r>
            <a:r>
              <a:rPr b="1" i="1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— качество действий учителя, обеспечивающих: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-363240">
              <a:lnSpc>
                <a:spcPct val="80000"/>
              </a:lnSpc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эффективный поиск, структурирование информации, ее адаптацию к особенностям педагогического процесса и дидактическим требованиям;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-363240">
              <a:lnSpc>
                <a:spcPct val="80000"/>
              </a:lnSpc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формулировку учебной проблемы различными информационно-коммуникативными способами;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-363240">
              <a:lnSpc>
                <a:spcPct val="80000"/>
              </a:lnSpc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квалифицированную работу с различными информационными ресурсами, профессиональными инструментами, готовыми программно-методическими комплексами, позволяющими проектировать решение педагогических проблем и практических задач;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-363240">
              <a:lnSpc>
                <a:spcPct val="80000"/>
              </a:lnSpc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использование автоматизированных рабочих мест учителя в образовательном процессе;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-363240">
              <a:lnSpc>
                <a:spcPct val="80000"/>
              </a:lnSpc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регулярную самостоятельную познавательную деятельность, готовность к ведению дистанционной образовательной деятельности;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-363240">
              <a:lnSpc>
                <a:spcPct val="80000"/>
              </a:lnSpc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использование компьютерных и мультимедийных технологий, цифровых образовательных ресурсов в образовательном процессе;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-363240">
              <a:lnSpc>
                <a:spcPct val="80000"/>
              </a:lnSpc>
              <a:spcBef>
                <a:spcPts val="425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ведение школьной документации на электронных носителях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rebuchet MS"/>
              </a:rPr>
              <a:t>Правовая компетентность</a:t>
            </a:r>
            <a:r>
              <a:rPr b="1" i="1" lang="ru-RU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Trebuchet MS"/>
              </a:rPr>
              <a:t>—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качество действий учителя, обеспечивающих эффективное использование в профессиональной деятельности законодательных и иных нормативных правовых документов органов власти, а также локальных актов и иной школьной документации для решения соответствующих профессиональных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задач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25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Trebuchet MS"/>
              </a:rPr>
              <a:t>Критерии </a:t>
            </a:r>
            <a:br>
              <a:rPr sz="3500"/>
            </a:br>
            <a:r>
              <a:rPr b="0" lang="en-US" sz="3500" spc="-1" strike="noStrike">
                <a:solidFill>
                  <a:srgbClr val="0000ff"/>
                </a:solidFill>
                <a:latin typeface="Trebuchet MS"/>
              </a:rPr>
              <a:t>компетентности учителя</a:t>
            </a:r>
            <a:endParaRPr b="0" lang="en-US" sz="3500" spc="-1" strike="noStrike">
              <a:solidFill>
                <a:srgbClr val="8fbf93"/>
              </a:solidFill>
              <a:latin typeface="Trebuchet MS"/>
            </a:endParaRPr>
          </a:p>
        </p:txBody>
      </p:sp>
      <p:pic>
        <p:nvPicPr>
          <p:cNvPr id="269" name="Picture 4" descr="66"/>
          <p:cNvPicPr/>
          <p:nvPr/>
        </p:nvPicPr>
        <p:blipFill>
          <a:blip r:embed="rId1"/>
          <a:srcRect l="0" t="15247" r="0" b="0"/>
          <a:stretch/>
        </p:blipFill>
        <p:spPr>
          <a:xfrm>
            <a:off x="3348000" y="4869000"/>
            <a:ext cx="2265480" cy="16063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Составляющие компетентност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AutoShape 18"/>
          <p:cNvSpPr/>
          <p:nvPr/>
        </p:nvSpPr>
        <p:spPr>
          <a:xfrm>
            <a:off x="539640" y="3716280"/>
            <a:ext cx="2087640" cy="936720"/>
          </a:xfrm>
          <a:prstGeom prst="flowChartProcess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Педагог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348000" y="3213000"/>
            <a:ext cx="2232000" cy="12240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сихолог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даг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6227640" y="3645000"/>
            <a:ext cx="2448000" cy="86364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Л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2" descr="a2b65e76af0d72fc2dfd48baf7b3ac3d"/>
          <p:cNvPicPr/>
          <p:nvPr/>
        </p:nvPicPr>
        <p:blipFill>
          <a:blip r:embed="rId2"/>
          <a:stretch/>
        </p:blipFill>
        <p:spPr>
          <a:xfrm>
            <a:off x="468360" y="4869000"/>
            <a:ext cx="2192400" cy="1699920"/>
          </a:xfrm>
          <a:prstGeom prst="rect">
            <a:avLst/>
          </a:prstGeom>
          <a:ln w="0">
            <a:noFill/>
          </a:ln>
        </p:spPr>
      </p:pic>
      <p:sp>
        <p:nvSpPr>
          <p:cNvPr id="275" name="Line 23"/>
          <p:cNvSpPr/>
          <p:nvPr/>
        </p:nvSpPr>
        <p:spPr>
          <a:xfrm flipH="1">
            <a:off x="2050560" y="2924280"/>
            <a:ext cx="12258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>
            <a:off x="5796000" y="285264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>
            <a:off x="4643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8" descr="25"/>
          <p:cNvPicPr/>
          <p:nvPr/>
        </p:nvPicPr>
        <p:blipFill>
          <a:blip r:embed="rId3"/>
          <a:stretch/>
        </p:blipFill>
        <p:spPr>
          <a:xfrm>
            <a:off x="6227640" y="4653000"/>
            <a:ext cx="2305080" cy="1819080"/>
          </a:xfrm>
          <a:prstGeom prst="rect">
            <a:avLst/>
          </a:prstGeom>
          <a:ln w="0">
            <a:noFill/>
          </a:ln>
        </p:spPr>
      </p:pic>
      <p:sp>
        <p:nvSpPr>
          <p:cNvPr id="279" name="Номер слайда 14"/>
          <p:cNvSpPr/>
          <p:nvPr/>
        </p:nvSpPr>
        <p:spPr>
          <a:xfrm flipH="1">
            <a:off x="8686800" y="6524640"/>
            <a:ext cx="698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DBDF-E71F-4056-B616-69BF4E79A13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Педагогическая деятельность</a:t>
            </a:r>
            <a:endParaRPr b="0" lang="en-US" sz="32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Уровень  обученности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Уровень  сформированности ОУУ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Инновационная работ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амообразование, 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бразование, квалификац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амоанализ, самодиагности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4" descr="a2b65e76af0d72fc2dfd48baf7b3ac3d"/>
          <p:cNvPicPr/>
          <p:nvPr/>
        </p:nvPicPr>
        <p:blipFill>
          <a:blip r:embed="rId7"/>
          <a:stretch/>
        </p:blipFill>
        <p:spPr>
          <a:xfrm>
            <a:off x="6300720" y="189000"/>
            <a:ext cx="2625840" cy="2016000"/>
          </a:xfrm>
          <a:prstGeom prst="rect">
            <a:avLst/>
          </a:prstGeom>
          <a:ln w="0">
            <a:noFill/>
          </a:ln>
        </p:spPr>
      </p:pic>
      <p:sp>
        <p:nvSpPr>
          <p:cNvPr id="283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2F29-4F74-4F6A-B9E6-7471E1E7A9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b09a"/>
            </a:gs>
            <a:gs pos="100000">
              <a:srgbClr val="fbfe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rebuchet MS"/>
              </a:rPr>
              <a:t>Психолого-педагогическое </a:t>
            </a:r>
            <a:br>
              <a:rPr sz="3700"/>
            </a:br>
            <a:r>
              <a:rPr b="0" lang="en-US" sz="3700" spc="-1" strike="noStrike">
                <a:solidFill>
                  <a:srgbClr val="ff0000"/>
                </a:solidFill>
                <a:latin typeface="Trebuchet MS"/>
              </a:rPr>
              <a:t>                общение</a:t>
            </a:r>
            <a:endParaRPr b="0" lang="en-US" sz="3700" spc="-1" strike="noStrike">
              <a:solidFill>
                <a:srgbClr val="8fbf93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770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Интерес, мотиваци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Сознательное обучени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Отношения: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учитель 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  <a:ea typeface="Arial"/>
              </a:rPr>
              <a:t>↔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ученик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Учет индивидуальных особенностей учени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4" descr="66"/>
          <p:cNvPicPr/>
          <p:nvPr/>
        </p:nvPicPr>
        <p:blipFill>
          <a:blip r:embed="rId5"/>
          <a:srcRect l="8457" t="17629" r="12567" b="0"/>
          <a:stretch/>
        </p:blipFill>
        <p:spPr>
          <a:xfrm>
            <a:off x="6732720" y="404640"/>
            <a:ext cx="2016000" cy="1535400"/>
          </a:xfrm>
          <a:prstGeom prst="rect">
            <a:avLst/>
          </a:prstGeom>
          <a:ln w="0">
            <a:noFill/>
          </a:ln>
        </p:spPr>
      </p:pic>
      <p:sp>
        <p:nvSpPr>
          <p:cNvPr id="287" name="Номер слайда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E2E-6246-4822-B601-6943286BB0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Замы</cp:lastModifiedBy>
  <dcterms:modified xsi:type="dcterms:W3CDTF">2012-03-02T10:05:56Z</dcterms:modified>
  <cp:revision>37</cp:revision>
  <dc:subject/>
  <dc:title>Слайд 1</dc:title>
</cp:coreProperties>
</file>