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56B-B5C9-4A79-B835-D754036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17A-5010-4415-A51D-EF880E2B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C4C-ECD6-4F1E-B7F7-45C125D8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6A5-7DF2-4C20-9425-FC939560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FBA-0703-4579-AE5F-92D6620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0D0-40A6-43E2-94DE-5B2EAA1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07B-C262-4544-9A91-6E217F9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D06-C6BF-477B-AACE-72061A3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558-BA09-4886-B588-D46C595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253-B5FE-4738-AF16-8E99D21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968-21AD-4196-AF3A-8277D94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CA8-FE65-40F1-9D36-AB99C065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12A-7C56-418A-9809-364AF9447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5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" Target="slide22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dd0fc32575ct"/>
          <p:cNvPicPr/>
          <p:nvPr/>
        </p:nvPicPr>
        <p:blipFill>
          <a:blip r:embed="rId1"/>
          <a:stretch/>
        </p:blipFill>
        <p:spPr>
          <a:xfrm>
            <a:off x="179280" y="2060640"/>
            <a:ext cx="361944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4360" y="189000"/>
            <a:ext cx="75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12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"/>
          <p:cNvSpPr/>
          <p:nvPr/>
        </p:nvSpPr>
        <p:spPr>
          <a:xfrm flipH="1" flipV="1">
            <a:off x="4284000" y="2059920"/>
            <a:ext cx="3816360" cy="1584360"/>
          </a:xfrm>
          <a:prstGeom prst="cloudCallout">
            <a:avLst>
              <a:gd name="adj1" fmla="val 95254"/>
              <a:gd name="adj2" fmla="val -2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4643280" y="249228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алалар,әйдәгез, мате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тика фәне белән дус яш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116000" y="364500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9 саны килеп чыксын өчен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ны ничәгә киметергә кирә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1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042920" y="3789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Ике санның суммасы 5 кә тигез.Кушылучылар нинди булырга мөмки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16000" y="3730680"/>
            <a:ext cx="73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Буш шакмак урынына тиеш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санны к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5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9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332000" y="39337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Суммасы 4 кә тигез булган саннарны я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7">
            <a:hlinkClick r:id="rId1" action="ppaction://hlinksldjump"/>
          </p:cNvPr>
          <p:cNvSpPr/>
          <p:nvPr/>
        </p:nvSpPr>
        <p:spPr>
          <a:xfrm>
            <a:off x="3348000" y="5157720"/>
            <a:ext cx="1368360" cy="1440000"/>
          </a:xfrm>
          <a:custGeom>
            <a:avLst/>
            <a:gdLst>
              <a:gd name="textAreaLeft" fmla="*/ 88560 w 1368360"/>
              <a:gd name="textAreaRight" fmla="*/ 1279800 w 1368360"/>
              <a:gd name="textAreaTop" fmla="*/ 88560 h 1440000"/>
              <a:gd name="textAreaBottom" fmla="*/ 1351440 h 1440000"/>
            </a:gdLst>
            <a:ahLst/>
            <a:rect l="textAreaLeft" t="textAreaTop" r="textAreaRight" b="textAreaBottom"/>
            <a:pathLst>
              <a:path w="21600" h="22731">
                <a:moveTo>
                  <a:pt x="0" y="0"/>
                </a:moveTo>
                <a:lnTo>
                  <a:pt x="21600" y="0"/>
                </a:lnTo>
                <a:lnTo>
                  <a:pt x="21600" y="22731"/>
                </a:lnTo>
                <a:lnTo>
                  <a:pt x="0" y="22731"/>
                </a:lnTo>
                <a:close/>
              </a:path>
              <a:path fill="lightenLess" w="21600" h="227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31">
                <a:moveTo>
                  <a:pt x="21600" y="0"/>
                </a:moveTo>
                <a:lnTo>
                  <a:pt x="21600" y="22731"/>
                </a:lnTo>
                <a:lnTo>
                  <a:pt x="20200" y="21331"/>
                </a:lnTo>
                <a:lnTo>
                  <a:pt x="20200" y="1400"/>
                </a:lnTo>
                <a:close/>
              </a:path>
              <a:path fill="darkenLess" w="21600" h="22731">
                <a:moveTo>
                  <a:pt x="21600" y="22731"/>
                </a:moveTo>
                <a:lnTo>
                  <a:pt x="0" y="22731"/>
                </a:lnTo>
                <a:lnTo>
                  <a:pt x="1400" y="21331"/>
                </a:lnTo>
                <a:lnTo>
                  <a:pt x="20200" y="21331"/>
                </a:lnTo>
                <a:close/>
              </a:path>
              <a:path fill="lighten" w="21600" h="22731">
                <a:moveTo>
                  <a:pt x="0" y="227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31"/>
                </a:lnTo>
                <a:close/>
              </a:path>
              <a:path fill="darken" w="21600" h="22731">
                <a:moveTo>
                  <a:pt x="10800" y="4402"/>
                </a:moveTo>
                <a:lnTo>
                  <a:pt x="13376" y="7013"/>
                </a:lnTo>
                <a:lnTo>
                  <a:pt x="13376" y="5273"/>
                </a:lnTo>
                <a:lnTo>
                  <a:pt x="15152" y="5273"/>
                </a:lnTo>
                <a:lnTo>
                  <a:pt x="15152" y="8789"/>
                </a:lnTo>
                <a:lnTo>
                  <a:pt x="17763" y="11365"/>
                </a:lnTo>
                <a:lnTo>
                  <a:pt x="16109" y="11365"/>
                </a:lnTo>
                <a:lnTo>
                  <a:pt x="16109" y="18555"/>
                </a:lnTo>
                <a:lnTo>
                  <a:pt x="5491" y="18555"/>
                </a:lnTo>
                <a:lnTo>
                  <a:pt x="5491" y="11365"/>
                </a:lnTo>
                <a:lnTo>
                  <a:pt x="3837" y="11365"/>
                </a:lnTo>
                <a:close/>
              </a:path>
              <a:path fill="darkenLess" w="21600" h="22731">
                <a:moveTo>
                  <a:pt x="13376" y="7013"/>
                </a:moveTo>
                <a:lnTo>
                  <a:pt x="13376" y="5273"/>
                </a:lnTo>
                <a:lnTo>
                  <a:pt x="15152" y="5273"/>
                </a:lnTo>
                <a:lnTo>
                  <a:pt x="15152" y="8789"/>
                </a:lnTo>
                <a:close/>
              </a:path>
              <a:path fill="darkenLess" w="21600" h="22731">
                <a:moveTo>
                  <a:pt x="9877" y="14864"/>
                </a:moveTo>
                <a:lnTo>
                  <a:pt x="11723" y="14864"/>
                </a:lnTo>
                <a:lnTo>
                  <a:pt x="11723" y="18555"/>
                </a:lnTo>
                <a:lnTo>
                  <a:pt x="16109" y="18555"/>
                </a:lnTo>
                <a:lnTo>
                  <a:pt x="16109" y="11365"/>
                </a:lnTo>
                <a:lnTo>
                  <a:pt x="5491" y="11365"/>
                </a:lnTo>
                <a:lnTo>
                  <a:pt x="5491" y="18555"/>
                </a:lnTo>
                <a:lnTo>
                  <a:pt x="9877" y="18555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84360" y="981000"/>
            <a:ext cx="4174920" cy="2087640"/>
          </a:xfrm>
          <a:prstGeom prst="cloudCallout">
            <a:avLst>
              <a:gd name="adj1" fmla="val 41328"/>
              <a:gd name="adj2" fmla="val 9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9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460872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6"/>
          <p:cNvSpPr/>
          <p:nvPr/>
        </p:nvSpPr>
        <p:spPr>
          <a:xfrm>
            <a:off x="468360" y="335772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3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87280" y="4076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Кимүче 7, киметүче 4. Аерманы табыгы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611280" y="2852640"/>
            <a:ext cx="8137440" cy="360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971640" y="404640"/>
            <a:ext cx="4066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971640" y="371628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Ике санның суммасы 10 га тигез. Беренче кушылучы 4. Икенче кушылучыны табар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611280" y="2852640"/>
            <a:ext cx="8137440" cy="27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  <a:ea typeface="Arial"/>
              </a:rPr>
              <a:t>3  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  <a:ea typeface="Arial"/>
              </a:rPr>
              <a:t>1   2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8"/>
          <p:cNvSpPr txBox="1"/>
          <p:nvPr/>
        </p:nvSpPr>
        <p:spPr>
          <a:xfrm>
            <a:off x="971640" y="404640"/>
            <a:ext cx="4066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311120" y="3376440"/>
            <a:ext cx="48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Кайсы дөр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11280" y="2852640"/>
            <a:ext cx="8137440" cy="27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971640" y="404640"/>
            <a:ext cx="4066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187280" y="3933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ән 2 гә зуррак санны 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611280" y="2852640"/>
            <a:ext cx="8137440" cy="27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1"/>
          <p:cNvSpPr txBox="1"/>
          <p:nvPr/>
        </p:nvSpPr>
        <p:spPr>
          <a:xfrm>
            <a:off x="971640" y="404640"/>
            <a:ext cx="4066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116520" y="409104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8 не 6 га ки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leopold-1"/>
          <p:cNvPicPr/>
          <p:nvPr/>
        </p:nvPicPr>
        <p:blipFill>
          <a:blip r:embed="rId1"/>
          <a:stretch/>
        </p:blipFill>
        <p:spPr>
          <a:xfrm>
            <a:off x="1979640" y="0"/>
            <a:ext cx="5576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3860640"/>
            <a:ext cx="2478240" cy="281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8720" y="4076640"/>
            <a:ext cx="2446200" cy="278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05040" y="0"/>
            <a:ext cx="2845080" cy="666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254160" y="189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нең хакта мә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әлә тө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11280" y="2852640"/>
            <a:ext cx="8137440" cy="27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5148360" y="-67464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0"/>
          <p:cNvSpPr txBox="1"/>
          <p:nvPr/>
        </p:nvSpPr>
        <p:spPr>
          <a:xfrm>
            <a:off x="971640" y="404640"/>
            <a:ext cx="4066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700360" y="3946680"/>
            <a:ext cx="46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7 не 2 гә артты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8"/>
          <p:cNvSpPr/>
          <p:nvPr/>
        </p:nvSpPr>
        <p:spPr>
          <a:xfrm>
            <a:off x="3132000" y="4797360"/>
            <a:ext cx="1297080" cy="1800360"/>
          </a:xfrm>
          <a:custGeom>
            <a:avLst/>
            <a:gdLst>
              <a:gd name="textAreaLeft" fmla="*/ 83880 w 1297080"/>
              <a:gd name="textAreaRight" fmla="*/ 1213200 w 1297080"/>
              <a:gd name="textAreaTop" fmla="*/ 83880 h 1800360"/>
              <a:gd name="textAreaBottom" fmla="*/ 1716480 h 1800360"/>
            </a:gdLst>
            <a:ahLst/>
            <a:rect l="textAreaLeft" t="textAreaTop" r="textAreaRight" b="textAreaBottom"/>
            <a:pathLst>
              <a:path w="21600" h="29979">
                <a:moveTo>
                  <a:pt x="0" y="0"/>
                </a:moveTo>
                <a:lnTo>
                  <a:pt x="21600" y="0"/>
                </a:lnTo>
                <a:lnTo>
                  <a:pt x="21600" y="29979"/>
                </a:lnTo>
                <a:lnTo>
                  <a:pt x="0" y="29979"/>
                </a:lnTo>
                <a:close/>
              </a:path>
              <a:path fill="lightenLess" w="21600" h="299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79">
                <a:moveTo>
                  <a:pt x="21600" y="0"/>
                </a:moveTo>
                <a:lnTo>
                  <a:pt x="21600" y="29979"/>
                </a:lnTo>
                <a:lnTo>
                  <a:pt x="20200" y="28579"/>
                </a:lnTo>
                <a:lnTo>
                  <a:pt x="20200" y="1400"/>
                </a:lnTo>
                <a:close/>
              </a:path>
              <a:path fill="darkenLess" w="21600" h="29979">
                <a:moveTo>
                  <a:pt x="21600" y="29979"/>
                </a:moveTo>
                <a:lnTo>
                  <a:pt x="0" y="29979"/>
                </a:lnTo>
                <a:lnTo>
                  <a:pt x="1400" y="28579"/>
                </a:lnTo>
                <a:lnTo>
                  <a:pt x="20200" y="28579"/>
                </a:lnTo>
                <a:close/>
              </a:path>
              <a:path fill="lighten" w="21600" h="29979">
                <a:moveTo>
                  <a:pt x="0" y="299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79"/>
                </a:lnTo>
                <a:close/>
              </a:path>
              <a:path fill="darken" w="21600" h="29979">
                <a:moveTo>
                  <a:pt x="10800" y="8026"/>
                </a:moveTo>
                <a:lnTo>
                  <a:pt x="13376" y="10637"/>
                </a:lnTo>
                <a:lnTo>
                  <a:pt x="13376" y="8897"/>
                </a:lnTo>
                <a:lnTo>
                  <a:pt x="15152" y="8897"/>
                </a:lnTo>
                <a:lnTo>
                  <a:pt x="15152" y="12413"/>
                </a:lnTo>
                <a:lnTo>
                  <a:pt x="17763" y="14989"/>
                </a:lnTo>
                <a:lnTo>
                  <a:pt x="16109" y="14989"/>
                </a:lnTo>
                <a:lnTo>
                  <a:pt x="16109" y="22179"/>
                </a:lnTo>
                <a:lnTo>
                  <a:pt x="5491" y="22179"/>
                </a:lnTo>
                <a:lnTo>
                  <a:pt x="5491" y="14989"/>
                </a:lnTo>
                <a:lnTo>
                  <a:pt x="3837" y="14989"/>
                </a:lnTo>
                <a:close/>
              </a:path>
              <a:path fill="darkenLess" w="21600" h="29979">
                <a:moveTo>
                  <a:pt x="13376" y="10637"/>
                </a:moveTo>
                <a:lnTo>
                  <a:pt x="13376" y="8897"/>
                </a:lnTo>
                <a:lnTo>
                  <a:pt x="15152" y="8897"/>
                </a:lnTo>
                <a:lnTo>
                  <a:pt x="15152" y="12413"/>
                </a:lnTo>
                <a:close/>
              </a:path>
              <a:path fill="darkenLess" w="21600" h="29979">
                <a:moveTo>
                  <a:pt x="9877" y="18488"/>
                </a:moveTo>
                <a:lnTo>
                  <a:pt x="11723" y="18488"/>
                </a:lnTo>
                <a:lnTo>
                  <a:pt x="11723" y="22179"/>
                </a:lnTo>
                <a:lnTo>
                  <a:pt x="16109" y="22179"/>
                </a:lnTo>
                <a:lnTo>
                  <a:pt x="16109" y="14989"/>
                </a:lnTo>
                <a:lnTo>
                  <a:pt x="5491" y="14989"/>
                </a:lnTo>
                <a:lnTo>
                  <a:pt x="5491" y="22179"/>
                </a:lnTo>
                <a:lnTo>
                  <a:pt x="9877" y="221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250920" y="692280"/>
            <a:ext cx="4608360" cy="2736720"/>
          </a:xfrm>
          <a:prstGeom prst="cloudCallout">
            <a:avLst>
              <a:gd name="adj1" fmla="val 30504"/>
              <a:gd name="adj2" fmla="val 51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4356000" y="2997360"/>
            <a:ext cx="4608720" cy="363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539640" y="13604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Сез шәп беләсе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067280" y="549360"/>
            <a:ext cx="33829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26920" y="3716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0 ны 5 кә кечерәйтергә,килеп чыккан санны 4 кә зурайтыр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9"/>
          <p:cNvSpPr txBox="1"/>
          <p:nvPr/>
        </p:nvSpPr>
        <p:spPr>
          <a:xfrm>
            <a:off x="4067280" y="189000"/>
            <a:ext cx="33829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476360" y="39942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Иң зур берурынлы санны я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9"/>
          <p:cNvSpPr txBox="1"/>
          <p:nvPr/>
        </p:nvSpPr>
        <p:spPr>
          <a:xfrm>
            <a:off x="4067280" y="189000"/>
            <a:ext cx="33829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979640" y="4076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6 ны 4 кә зурай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4356000" y="0"/>
            <a:ext cx="413856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9"/>
          <p:cNvSpPr txBox="1"/>
          <p:nvPr/>
        </p:nvSpPr>
        <p:spPr>
          <a:xfrm>
            <a:off x="3492360" y="189000"/>
            <a:ext cx="403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403280" y="3933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8 не 3кә кечерә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>
            <a:off x="4067280" y="189000"/>
            <a:ext cx="33829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692360" y="4149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4 тән 5 кә зуррак санны 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9"/>
          <p:cNvSpPr txBox="1"/>
          <p:nvPr/>
        </p:nvSpPr>
        <p:spPr>
          <a:xfrm>
            <a:off x="4067280" y="189000"/>
            <a:ext cx="33829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900000" y="3716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4 тән һәм  3 тән торган санны я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468360" y="2924280"/>
            <a:ext cx="8137440" cy="27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7740720" y="587700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76058470"/>
          <p:cNvPicPr/>
          <p:nvPr/>
        </p:nvPicPr>
        <p:blipFill>
          <a:blip r:embed="rId1"/>
          <a:stretch/>
        </p:blipFill>
        <p:spPr>
          <a:xfrm>
            <a:off x="395280" y="620640"/>
            <a:ext cx="3166920" cy="2649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9"/>
          <p:cNvSpPr txBox="1"/>
          <p:nvPr/>
        </p:nvSpPr>
        <p:spPr>
          <a:xfrm>
            <a:off x="4067280" y="189000"/>
            <a:ext cx="338292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опольдта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10"/>
          <p:cNvSpPr txBox="1"/>
          <p:nvPr/>
        </p:nvSpPr>
        <p:spPr>
          <a:xfrm>
            <a:off x="3708360" y="1197000"/>
            <a:ext cx="46418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к диктант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900000" y="3284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Бер сыйныфта 10 укучы, икенчесендә 3 кә кимрәк. Икенче сыйныфта ничә укучы б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658116_normal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9"/>
          <p:cNvSpPr/>
          <p:nvPr/>
        </p:nvSpPr>
        <p:spPr>
          <a:xfrm>
            <a:off x="3780000" y="0"/>
            <a:ext cx="2808000" cy="1700280"/>
          </a:xfrm>
          <a:prstGeom prst="cloudCallout">
            <a:avLst>
              <a:gd name="adj1" fmla="val -60513"/>
              <a:gd name="adj2" fmla="val 38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140360" y="3524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Математиканы яратыгы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Математиканы өйрәнеге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6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4"/>
          <p:cNvSpPr/>
          <p:nvPr/>
        </p:nvSpPr>
        <p:spPr>
          <a:xfrm>
            <a:off x="755640" y="3645000"/>
            <a:ext cx="6624720" cy="2786040"/>
          </a:xfrm>
          <a:custGeom>
            <a:avLst/>
            <a:gdLst>
              <a:gd name="textAreaLeft" fmla="*/ 0 w 6624720"/>
              <a:gd name="textAreaRight" fmla="*/ 6625080 w 6624720"/>
              <a:gd name="textAreaTop" fmla="*/ 361080 h 2786040"/>
              <a:gd name="textAreaBottom" fmla="*/ 242496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Беренче кушылучы 2, икен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кушылучы 3. Сумманы та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6"/>
          <p:cNvSpPr txBox="1"/>
          <p:nvPr/>
        </p:nvSpPr>
        <p:spPr>
          <a:xfrm>
            <a:off x="539640" y="0"/>
            <a:ext cx="406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539640" y="0"/>
            <a:ext cx="406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3697200" cy="4249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311120" y="3952800"/>
            <a:ext cx="61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9 һәм 4 саннарының аермасын та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900000" y="3213000"/>
            <a:ext cx="777564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551016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1763640" y="4149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1 не 5 кә артты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755640" y="216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66"/>
                </a:solidFill>
                <a:latin typeface="Arial"/>
              </a:rPr>
              <a:t>5 не 2 гә ки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72" name="WordArt 10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403280" y="3860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9 саны 5 саныннан ничәгә зурр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50920" y="3213000"/>
            <a:ext cx="777564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13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84360" y="3946680"/>
            <a:ext cx="76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6 саны 2 дән ничәгә зурр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684360" y="3213000"/>
            <a:ext cx="777528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tt-RU" sz="3600" spc="-1" strike="noStrike">
                <a:solidFill>
                  <a:srgbClr val="000066"/>
                </a:solidFill>
                <a:latin typeface="Arial"/>
              </a:rPr>
              <a:t>0 ны 3 кә ки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nextslide"/>
          </p:cNvPr>
          <p:cNvSpPr/>
          <p:nvPr/>
        </p:nvSpPr>
        <p:spPr>
          <a:xfrm>
            <a:off x="774072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63384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12"/>
          <p:cNvSpPr txBox="1"/>
          <p:nvPr/>
        </p:nvSpPr>
        <p:spPr>
          <a:xfrm>
            <a:off x="755640" y="189000"/>
            <a:ext cx="406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чкан балас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cap="rnd" w="1260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тиның сораулары</a:t>
            </a:r>
            <a:endParaRPr b="0" lang="en-US" sz="1800" spc="1" strike="noStrike">
              <a:ln cap="rnd" w="1260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0:58:24Z</dcterms:created>
  <dc:creator>Елена</dc:creator>
  <dc:description/>
  <dc:language>en-US</dc:language>
  <cp:lastModifiedBy>RAMZIYA</cp:lastModifiedBy>
  <dcterms:modified xsi:type="dcterms:W3CDTF">2012-03-02T17:04:31Z</dcterms:modified>
  <cp:revision>16</cp:revision>
  <dc:subject/>
  <dc:title>Слайд 1</dc:title>
</cp:coreProperties>
</file>