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CBA-A324-4FD4-81E0-3D4E50ED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1C5-7EBA-4293-A55A-80683348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8E3-4680-49F1-9805-40E68A0B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429-A374-439F-B651-7BC923CD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019FB-AB7F-445C-8CBD-B67922AE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7B03B-9E3B-44A4-B61E-6C3ADA3E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3EBBF-FC92-4144-B263-5D525342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B86B2-6C18-4813-B20C-83A24D82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3E334-7659-4220-9399-BD6B56C3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9E63E-5BD4-45C2-8240-A4B48CCA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A97C5-C492-4BC5-947A-5321D0EF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D39-5612-4079-9FBD-7D4A95C3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2CDDC-D9F3-4390-8786-4C11FBBF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0F654-E238-401B-842D-EDDA5636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4AD17-D215-483F-A224-7934925B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9046B-734D-4B85-B7B6-B101F0DE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332BE-91FD-4D13-ABDE-3ADE6C25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33F2-9F50-4A88-BB06-2129C1D9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2985-4805-49F7-BE1C-649701C9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0BB-5420-42E6-A50D-D192B6BA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A670-16F1-4E05-841F-A0A54712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BB22-006A-4D5C-96CA-E72726F9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6F5-C47F-4110-83D9-DED4CE35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C9B-4671-43B6-A6FF-3B3ADCA6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9F00-B322-46D3-9209-F659DB7858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5B83-3543-4465-8364-4F7E9F52BDA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я Родина-Россия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й город-Санкт-Петербург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Hor Gosudarstvennoj Akademicheskoj Kapelly - .WAV" descr=""/>
          <p:cNvPicPr/>
          <p:nvPr/>
        </p:nvPicPr>
        <p:blipFill>
          <a:blip r:embed="rId1"/>
          <a:stretch/>
        </p:blipFill>
        <p:spPr>
          <a:xfrm>
            <a:off x="1080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3158640" y="3929040"/>
            <a:ext cx="51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 ученица 3 класса Б гоусош№28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соненко Анастас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Михайлова Надежда Юрьев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Создание гор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снован город был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7  мая 1703 года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, как столица для «молодой» России Петром I. К строительству города привлекались самые талантливые архитекторы - Росси, Бенуа, Растрелли и многие другие. Петербург представляет собой многообразие площадей, дворцов, особняков, царских резиденций, что позволяет рассматривать город как единый и неповторимый ансамбл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18" descr="флаг"/>
          <p:cNvPicPr/>
          <p:nvPr/>
        </p:nvPicPr>
        <p:blipFill>
          <a:blip r:embed="rId1"/>
          <a:stretch/>
        </p:blipFill>
        <p:spPr>
          <a:xfrm>
            <a:off x="5580000" y="1916280"/>
            <a:ext cx="2975040" cy="1981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герб"/>
          <p:cNvPicPr/>
          <p:nvPr/>
        </p:nvPicPr>
        <p:blipFill>
          <a:blip r:embed="rId2"/>
          <a:stretch/>
        </p:blipFill>
        <p:spPr>
          <a:xfrm>
            <a:off x="5940360" y="4005360"/>
            <a:ext cx="2430360" cy="2558880"/>
          </a:xfrm>
          <a:prstGeom prst="rect">
            <a:avLst/>
          </a:prstGeom>
          <a:ln w="0">
            <a:noFill/>
          </a:ln>
        </p:spPr>
      </p:pic>
    </p:spTree>
  </p:cSld>
  <p:transition advTm="50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ека Не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еверная столица расположена в устье реки Невы. Свое название она получила от озер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во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(так в древности называлось Ладожское озеро), из которого она берет начало. Длина Невы составляет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74 км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(в городе - 32 км), а глубина - до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4 метров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 Поверхность воды составляет десятую часть площади гор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8" descr="нева"/>
          <p:cNvPicPr/>
          <p:nvPr/>
        </p:nvPicPr>
        <p:blipFill>
          <a:blip r:embed="rId1"/>
          <a:stretch/>
        </p:blipFill>
        <p:spPr>
          <a:xfrm>
            <a:off x="5003640" y="1844640"/>
            <a:ext cx="3515040" cy="2021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нева2"/>
          <p:cNvPicPr/>
          <p:nvPr/>
        </p:nvPicPr>
        <p:blipFill>
          <a:blip r:embed="rId2"/>
          <a:stretch/>
        </p:blipFill>
        <p:spPr>
          <a:xfrm>
            <a:off x="5003640" y="3933720"/>
            <a:ext cx="3488040" cy="2619360"/>
          </a:xfrm>
          <a:prstGeom prst="rect">
            <a:avLst/>
          </a:prstGeom>
          <a:ln w="0">
            <a:noFill/>
          </a:ln>
        </p:spPr>
      </p:pic>
      <p:pic>
        <p:nvPicPr>
          <p:cNvPr id="94" name="Gimn - .WAV" descr=""/>
          <p:cNvPicPr/>
          <p:nvPr/>
        </p:nvPicPr>
        <p:blipFill>
          <a:blip r:embed="rId3"/>
          <a:stretch/>
        </p:blipFill>
        <p:spPr>
          <a:xfrm>
            <a:off x="0" y="6453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60000"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Мос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роме Невы значительное влияние на формирование города оказывают многочисленные реки, протоки и каналы. В Санкт-Петербурге протекаю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64 небольшие реки и находятся 48 каналов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 Через них перекинуто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308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остов, среди которых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азводных. Общая длина всех мостов города составляет приблизительно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км. Самый длинный мост на Неве - мост Александра Невского (909 метров), а самый широкий - Синий мост на реке Мойке (99, 5 метров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8" descr="Санкт-Петербург"/>
          <p:cNvPicPr/>
          <p:nvPr/>
        </p:nvPicPr>
        <p:blipFill>
          <a:blip r:embed="rId1"/>
          <a:stretch/>
        </p:blipFill>
        <p:spPr>
          <a:xfrm>
            <a:off x="4788000" y="1844640"/>
            <a:ext cx="3887640" cy="2824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648320" y="40384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Петропавловская креп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ород расположен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 47 островах Невской дельты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 Самые большие из них - Васильевский и Петроградский. Санкт-Петербург - самый молодой из крупных европейских городов, ему всего лишь 308 лет.Территория, на которой он возник раньше называлась Приневские или Ижорские земли.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6 мая 1703 года (в день св. Троицы) Петр I своим указом основал на Заячьем острове новую крепость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и называл ее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анкт-Питербурх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, в честь своего святого покровителя Апостола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Петра – держащего ключи от ра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40384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петропавловка"/>
          <p:cNvPicPr/>
          <p:nvPr/>
        </p:nvPicPr>
        <p:blipFill>
          <a:blip r:embed="rId1"/>
          <a:stretch/>
        </p:blipFill>
        <p:spPr>
          <a:xfrm>
            <a:off x="4788000" y="1844640"/>
            <a:ext cx="4176720" cy="3133800"/>
          </a:xfrm>
          <a:prstGeom prst="rect">
            <a:avLst/>
          </a:prstGeom>
          <a:ln w="0">
            <a:noFill/>
          </a:ln>
        </p:spPr>
      </p:pic>
    </p:spTree>
  </p:cSld>
  <p:transition advTm="50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Наш город самый красивый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8" descr="68938070_PicsDesktop"/>
          <p:cNvPicPr/>
          <p:nvPr/>
        </p:nvPicPr>
        <p:blipFill>
          <a:blip r:embed="rId1"/>
          <a:stretch/>
        </p:blipFill>
        <p:spPr>
          <a:xfrm>
            <a:off x="250920" y="1557360"/>
            <a:ext cx="3600360" cy="2484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isaakievskiysobor-4"/>
          <p:cNvPicPr/>
          <p:nvPr/>
        </p:nvPicPr>
        <p:blipFill>
          <a:blip r:embed="rId2"/>
          <a:stretch/>
        </p:blipFill>
        <p:spPr>
          <a:xfrm>
            <a:off x="4211640" y="1557360"/>
            <a:ext cx="3889440" cy="2473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9b315c32dd2d"/>
          <p:cNvPicPr/>
          <p:nvPr/>
        </p:nvPicPr>
        <p:blipFill>
          <a:blip r:embed="rId3"/>
          <a:stretch/>
        </p:blipFill>
        <p:spPr>
          <a:xfrm>
            <a:off x="826920" y="4292640"/>
            <a:ext cx="3840480" cy="2303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3ftkw2_cont"/>
          <p:cNvPicPr/>
          <p:nvPr/>
        </p:nvPicPr>
        <p:blipFill>
          <a:blip r:embed="rId4"/>
          <a:stretch/>
        </p:blipFill>
        <p:spPr>
          <a:xfrm>
            <a:off x="5148360" y="4292640"/>
            <a:ext cx="3743280" cy="2305080"/>
          </a:xfrm>
          <a:prstGeom prst="rect">
            <a:avLst/>
          </a:prstGeom>
          <a:ln w="0">
            <a:noFill/>
          </a:ln>
        </p:spPr>
      </p:pic>
    </p:spTree>
  </p:cSld>
  <p:transition advTm="50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2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6" descr="st-peterburg_05"/>
          <p:cNvPicPr/>
          <p:nvPr/>
        </p:nvPicPr>
        <p:blipFill>
          <a:blip r:embed="rId1"/>
          <a:stretch/>
        </p:blipFill>
        <p:spPr>
          <a:xfrm>
            <a:off x="1979640" y="2205000"/>
            <a:ext cx="5137200" cy="385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6:37:59Z</dcterms:created>
  <dc:creator>xxx</dc:creator>
  <dc:description/>
  <dc:language>en-US</dc:language>
  <cp:lastModifiedBy>teacher</cp:lastModifiedBy>
  <dcterms:modified xsi:type="dcterms:W3CDTF">2011-10-17T15:36:22Z</dcterms:modified>
  <cp:revision>30</cp:revision>
  <dc:subject/>
  <dc:title>Моя Родина Россия</dc:title>
</cp:coreProperties>
</file>