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385-A61A-418C-89F9-43AA71B3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D74-03B0-411B-8DDE-3BBE54A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9CB-B21A-47FD-A422-9F247AE9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551-336F-4794-8521-570CC3ED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69C-254D-4D88-ACD5-CC9AAA41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053-CAF0-4AC1-A2D3-251BEBEE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68D-0DD7-4C79-B820-5F27732F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E17-568B-4C86-AE49-ABED19E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AC5-D7B1-4D83-9017-A73682D0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C29-A003-4BB6-B940-8CBAECE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4FF-133E-4977-AE02-AD6E098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9C8-4375-48A8-8E11-53379CE4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E826-460C-46B6-8786-D3B784718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45000" y="826920"/>
            <a:ext cx="1152360" cy="622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0640" y="539640"/>
            <a:ext cx="1035000" cy="189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33720" y="900000"/>
            <a:ext cx="863640" cy="75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53000" y="971640"/>
            <a:ext cx="1871640" cy="163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924280" y="1476360"/>
            <a:ext cx="1225440" cy="122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773360" y="1692360"/>
            <a:ext cx="834840" cy="10047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49360" y="250920"/>
            <a:ext cx="6048360" cy="2520720"/>
            <a:chOff x="549360" y="250920"/>
            <a:chExt cx="6048360" cy="2520720"/>
          </a:xfrm>
        </p:grpSpPr>
        <p:sp>
          <p:nvSpPr>
            <p:cNvPr id="48" name=""/>
            <p:cNvSpPr/>
            <p:nvPr/>
          </p:nvSpPr>
          <p:spPr>
            <a:xfrm>
              <a:off x="549360" y="250920"/>
              <a:ext cx="6048360" cy="2520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565360" y="324000"/>
              <a:ext cx="24382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5002f"/>
                      </a:gs>
                    </a:gsLst>
                    <a:lin ang="5400000"/>
                  </a:gradFill>
                  <a:latin typeface="Arial"/>
                </a:rPr>
                <a:t>My toy sho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5002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476280" y="3203640"/>
            <a:ext cx="5904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ook! It is a bal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brown. It is bi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53000" y="971640"/>
            <a:ext cx="1871640" cy="163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49360" y="250920"/>
            <a:ext cx="6048360" cy="2520720"/>
            <a:chOff x="549360" y="250920"/>
            <a:chExt cx="6048360" cy="252072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3645000" y="826920"/>
              <a:ext cx="11523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620640" y="539640"/>
              <a:ext cx="103500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2133720" y="900000"/>
              <a:ext cx="863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2924280" y="1476360"/>
              <a:ext cx="122544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773360" y="1692360"/>
              <a:ext cx="834840" cy="10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"/>
            <p:cNvGrpSpPr/>
            <p:nvPr/>
          </p:nvGrpSpPr>
          <p:grpSpPr>
            <a:xfrm>
              <a:off x="549360" y="250920"/>
              <a:ext cx="6048360" cy="2520720"/>
              <a:chOff x="549360" y="250920"/>
              <a:chExt cx="6048360" cy="2520720"/>
            </a:xfrm>
          </p:grpSpPr>
          <p:sp>
            <p:nvSpPr>
              <p:cNvPr id="59" name=""/>
              <p:cNvSpPr/>
              <p:nvPr/>
            </p:nvSpPr>
            <p:spPr>
              <a:xfrm>
                <a:off x="549360" y="250920"/>
                <a:ext cx="6048360" cy="2520720"/>
              </a:xfrm>
              <a:prstGeom prst="rect">
                <a:avLst/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2565360" y="324000"/>
                <a:ext cx="243828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75002f"/>
                        </a:gs>
                      </a:gsLst>
                      <a:lin ang="5400000"/>
                    </a:gradFill>
                    <a:latin typeface="Arial"/>
                  </a:rPr>
                  <a:t>My toy sho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5002f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61" name=""/>
          <p:cNvSpPr txBox="1"/>
          <p:nvPr/>
        </p:nvSpPr>
        <p:spPr>
          <a:xfrm>
            <a:off x="476280" y="3492360"/>
            <a:ext cx="583236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ow! It is a ca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black and re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smal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53000" y="971640"/>
            <a:ext cx="1871640" cy="16383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549360" y="250920"/>
            <a:ext cx="6048360" cy="2520720"/>
            <a:chOff x="549360" y="250920"/>
            <a:chExt cx="6048360" cy="25207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645000" y="826920"/>
              <a:ext cx="11523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620640" y="539640"/>
              <a:ext cx="103500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2133720" y="900000"/>
              <a:ext cx="863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2924280" y="1476360"/>
              <a:ext cx="122544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1773360" y="1692360"/>
              <a:ext cx="834840" cy="10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549360" y="250920"/>
              <a:ext cx="6048360" cy="2520720"/>
              <a:chOff x="549360" y="250920"/>
              <a:chExt cx="6048360" cy="2520720"/>
            </a:xfrm>
          </p:grpSpPr>
          <p:sp>
            <p:nvSpPr>
              <p:cNvPr id="70" name=""/>
              <p:cNvSpPr/>
              <p:nvPr/>
            </p:nvSpPr>
            <p:spPr>
              <a:xfrm>
                <a:off x="549360" y="250920"/>
                <a:ext cx="6048360" cy="2520720"/>
              </a:xfrm>
              <a:prstGeom prst="rect">
                <a:avLst/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2565360" y="324000"/>
                <a:ext cx="243828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75002f"/>
                        </a:gs>
                      </a:gsLst>
                      <a:lin ang="5400000"/>
                    </a:gradFill>
                    <a:latin typeface="Arial"/>
                  </a:rPr>
                  <a:t>My toy sho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5002f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72" name=""/>
          <p:cNvSpPr txBox="1"/>
          <p:nvPr/>
        </p:nvSpPr>
        <p:spPr>
          <a:xfrm>
            <a:off x="981000" y="3348000"/>
            <a:ext cx="5400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Oh! It is a kitte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grey and purpl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bi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53000" y="971640"/>
            <a:ext cx="1871640" cy="1638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549360" y="250920"/>
            <a:ext cx="6048360" cy="2520720"/>
            <a:chOff x="549360" y="250920"/>
            <a:chExt cx="6048360" cy="252072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645000" y="826920"/>
              <a:ext cx="11523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620640" y="539640"/>
              <a:ext cx="103500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2133720" y="900000"/>
              <a:ext cx="863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2924280" y="1476360"/>
              <a:ext cx="122544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1773360" y="1692360"/>
              <a:ext cx="834840" cy="10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549360" y="250920"/>
              <a:ext cx="6048360" cy="2520720"/>
              <a:chOff x="549360" y="250920"/>
              <a:chExt cx="6048360" cy="2520720"/>
            </a:xfrm>
          </p:grpSpPr>
          <p:sp>
            <p:nvSpPr>
              <p:cNvPr id="81" name=""/>
              <p:cNvSpPr/>
              <p:nvPr/>
            </p:nvSpPr>
            <p:spPr>
              <a:xfrm>
                <a:off x="549360" y="250920"/>
                <a:ext cx="6048360" cy="2520720"/>
              </a:xfrm>
              <a:prstGeom prst="rect">
                <a:avLst/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2565360" y="324000"/>
                <a:ext cx="243828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75002f"/>
                        </a:gs>
                      </a:gsLst>
                      <a:lin ang="5400000"/>
                    </a:gradFill>
                    <a:latin typeface="Arial"/>
                  </a:rPr>
                  <a:t>My toy sho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5002f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83" name=""/>
          <p:cNvSpPr txBox="1"/>
          <p:nvPr/>
        </p:nvSpPr>
        <p:spPr>
          <a:xfrm>
            <a:off x="981000" y="3348000"/>
            <a:ext cx="49690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ook! It's a boa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red, yellow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rown and blu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549360" y="250920"/>
            <a:ext cx="6048360" cy="2520720"/>
            <a:chOff x="549360" y="250920"/>
            <a:chExt cx="6048360" cy="25207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3645000" y="826920"/>
              <a:ext cx="11523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20640" y="539640"/>
              <a:ext cx="103500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2133720" y="900000"/>
              <a:ext cx="863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4653000" y="971640"/>
              <a:ext cx="187164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2924280" y="1476360"/>
              <a:ext cx="122544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1773360" y="1692360"/>
              <a:ext cx="834840" cy="10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"/>
            <p:cNvGrpSpPr/>
            <p:nvPr/>
          </p:nvGrpSpPr>
          <p:grpSpPr>
            <a:xfrm>
              <a:off x="549360" y="250920"/>
              <a:ext cx="6048360" cy="2520720"/>
              <a:chOff x="549360" y="250920"/>
              <a:chExt cx="6048360" cy="2520720"/>
            </a:xfrm>
          </p:grpSpPr>
          <p:sp>
            <p:nvSpPr>
              <p:cNvPr id="92" name=""/>
              <p:cNvSpPr/>
              <p:nvPr/>
            </p:nvSpPr>
            <p:spPr>
              <a:xfrm>
                <a:off x="549360" y="250920"/>
                <a:ext cx="6048360" cy="2520720"/>
              </a:xfrm>
              <a:prstGeom prst="rect">
                <a:avLst/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2565360" y="324000"/>
                <a:ext cx="243828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75002f"/>
                        </a:gs>
                      </a:gsLst>
                      <a:lin ang="5400000"/>
                    </a:gradFill>
                    <a:latin typeface="Arial"/>
                  </a:rPr>
                  <a:t>My toy sho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5002f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94" name=""/>
          <p:cNvSpPr txBox="1"/>
          <p:nvPr/>
        </p:nvSpPr>
        <p:spPr>
          <a:xfrm>
            <a:off x="907920" y="3348000"/>
            <a:ext cx="51134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Oh! It's a comput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blue and whit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very bi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53000" y="971640"/>
            <a:ext cx="1871640" cy="1638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49360" y="250920"/>
            <a:ext cx="6048360" cy="2520720"/>
            <a:chOff x="549360" y="250920"/>
            <a:chExt cx="6048360" cy="252072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3645000" y="826920"/>
              <a:ext cx="11523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620640" y="539640"/>
              <a:ext cx="103500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133720" y="900000"/>
              <a:ext cx="863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2924280" y="1476360"/>
              <a:ext cx="122544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1773360" y="1692360"/>
              <a:ext cx="834840" cy="100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549360" y="250920"/>
              <a:ext cx="6048360" cy="2520720"/>
              <a:chOff x="549360" y="250920"/>
              <a:chExt cx="6048360" cy="252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549360" y="250920"/>
                <a:ext cx="6048360" cy="2520720"/>
              </a:xfrm>
              <a:prstGeom prst="rect">
                <a:avLst/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2565360" y="324000"/>
                <a:ext cx="243828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75002f"/>
                        </a:gs>
                      </a:gsLst>
                      <a:lin ang="5400000"/>
                    </a:gradFill>
                    <a:latin typeface="Arial"/>
                  </a:rPr>
                  <a:t>My toy sho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5002f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05" name=""/>
          <p:cNvSpPr txBox="1"/>
          <p:nvPr/>
        </p:nvSpPr>
        <p:spPr>
          <a:xfrm>
            <a:off x="981000" y="3348000"/>
            <a:ext cx="5040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a doll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pink and purpl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 is smal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23:03Z</dcterms:created>
  <dc:creator>Teacher</dc:creator>
  <dc:description/>
  <dc:language>en-US</dc:language>
  <cp:lastModifiedBy>Teacher</cp:lastModifiedBy>
  <dcterms:modified xsi:type="dcterms:W3CDTF">2011-10-24T11:38:15Z</dcterms:modified>
  <cp:revision>4</cp:revision>
  <dc:subject/>
  <dc:title>Слайд 1</dc:title>
</cp:coreProperties>
</file>