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60E-25FB-4AFB-A6A3-E49F0684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C9D-F9AD-4F75-8DF2-C32A749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8A1-5D1A-48E7-8127-20D01ABF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5AA-C6F2-426A-9D81-AA8D1CFE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0C1-64CD-4558-80D4-F084741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369-DA4F-4807-8CD8-B197E4A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E59-6E1F-40A9-B44D-AE1DDA3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ED4-8E7D-4F8F-93AC-49F39DB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4A1-894C-4223-AC0A-61F14F4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DC6-8D3A-43CE-BF9B-4E0F2A2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2B6-A0B9-4E37-8DD7-D5AA861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A65-917E-4B57-9892-A105749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D285-E355-475B-9349-F024E313C6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e5ffff"/>
                </a:solidFill>
                <a:latin typeface="Comic Sans MS"/>
              </a:rPr>
              <a:t>Поделки к Новому году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6" descr="100_1828"/>
          <p:cNvPicPr/>
          <p:nvPr/>
        </p:nvPicPr>
        <p:blipFill>
          <a:blip r:embed="rId1"/>
          <a:stretch/>
        </p:blipFill>
        <p:spPr>
          <a:xfrm>
            <a:off x="1630440" y="1981080"/>
            <a:ext cx="588312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e5ffff"/>
                </a:solidFill>
                <a:latin typeface="Comic Sans MS"/>
              </a:rPr>
              <a:t>Делаем новогодние открытки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100_1832"/>
          <p:cNvPicPr/>
          <p:nvPr/>
        </p:nvPicPr>
        <p:blipFill>
          <a:blip r:embed="rId1"/>
          <a:stretch/>
        </p:blipFill>
        <p:spPr>
          <a:xfrm>
            <a:off x="1630440" y="1981080"/>
            <a:ext cx="588312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Comic Sans MS"/>
              </a:rPr>
              <a:t>Делаем новогодние игруш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100_1831"/>
          <p:cNvPicPr/>
          <p:nvPr/>
        </p:nvPicPr>
        <p:blipFill>
          <a:blip r:embed="rId1"/>
          <a:stretch/>
        </p:blipFill>
        <p:spPr>
          <a:xfrm>
            <a:off x="1432080" y="884160"/>
            <a:ext cx="6278400" cy="4708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Comic Sans MS"/>
              </a:rPr>
              <a:t>Вот какая красавица получилась из наших пальчиков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8" descr="100_1847"/>
          <p:cNvPicPr/>
          <p:nvPr/>
        </p:nvPicPr>
        <p:blipFill>
          <a:blip r:embed="rId1"/>
          <a:stretch/>
        </p:blipFill>
        <p:spPr>
          <a:xfrm>
            <a:off x="3059280" y="227664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6:15:21Z</dcterms:created>
  <dc:creator>Customer</dc:creator>
  <dc:description/>
  <dc:language>en-US</dc:language>
  <cp:lastModifiedBy>Зарема</cp:lastModifiedBy>
  <dcterms:modified xsi:type="dcterms:W3CDTF">2012-03-02T06:28:52Z</dcterms:modified>
  <cp:revision>5</cp:revision>
  <dc:subject/>
  <dc:title>Поделки к Новому году</dc:title>
</cp:coreProperties>
</file>