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21.gif" ContentType="image/gif"/>
  <Override PartName="/ppt/media/image19.wmf" ContentType="image/x-wmf"/>
  <Override PartName="/ppt/media/image1.wmf" ContentType="image/x-wmf"/>
  <Override PartName="/ppt/media/image9.jpeg" ContentType="image/jpeg"/>
  <Override PartName="/ppt/media/image17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5736-15FE-410E-A128-13B25185D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E93A-D846-4399-9686-EA9969667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7963-5D07-47C3-8076-425816C3A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A06-D3C3-4500-918D-D57DA2BF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F6B-DAEC-4AA7-A6B0-01C23EA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D0A-734D-4004-A22C-2FF07060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A3F-3393-43C4-B716-1C1439B3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900-BD2F-48C2-9AD9-66D346EC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4EB-620F-46B8-A0A0-0C7570D8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04C-2C96-49DE-A532-2B83DA4F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3DC-428F-446D-8063-9B1B0850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E23-84D7-438A-9D5E-C83EEBCD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7A3-7086-4E84-A232-09C8888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263-970F-47D9-8984-5071DA4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5AF-DA85-47D1-AE50-436A4941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C62E-B558-483A-A798-BC18AFFC3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3026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МБОУ «СОШ №14»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800"/>
            </a:b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втор: Н.С.Алтунина</a:t>
            </a:r>
            <a:br>
              <a:rPr sz="3600"/>
            </a:br>
            <a:br>
              <a:rPr sz="3600"/>
            </a:b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ЦОР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Построение графиков квадратичной функции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2000" y="5516280"/>
            <a:ext cx="6681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G:\Из школы\картинки\34.wmf"/>
          <p:cNvPicPr/>
          <p:nvPr/>
        </p:nvPicPr>
        <p:blipFill>
          <a:blip r:embed="rId1"/>
          <a:stretch/>
        </p:blipFill>
        <p:spPr>
          <a:xfrm>
            <a:off x="6804000" y="333360"/>
            <a:ext cx="2040120" cy="150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42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еобразование: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 = f(x) +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38400" y="1052640"/>
          <a:ext cx="5846760" cy="5298840"/>
        </p:xfrm>
        <a:graphic>
          <a:graphicData uri="http://schemas.openxmlformats.org/drawingml/2006/table">
            <a:tbl>
              <a:tblPr/>
              <a:tblGrid>
                <a:gridCol w="419040"/>
                <a:gridCol w="417600"/>
                <a:gridCol w="417600"/>
                <a:gridCol w="417600"/>
                <a:gridCol w="417240"/>
                <a:gridCol w="417600"/>
                <a:gridCol w="417600"/>
                <a:gridCol w="417600"/>
                <a:gridCol w="417240"/>
                <a:gridCol w="417600"/>
                <a:gridCol w="417600"/>
                <a:gridCol w="417600"/>
                <a:gridCol w="417240"/>
                <a:gridCol w="417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250920" y="2060640"/>
            <a:ext cx="259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940360" y="980640"/>
            <a:ext cx="0" cy="52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508464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16360" y="5229000"/>
            <a:ext cx="5900760" cy="14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645000"/>
            <a:ext cx="25560" cy="1584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03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276640"/>
            <a:ext cx="1800360" cy="295272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773360"/>
            <a:ext cx="280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двиг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по оси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ве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 &g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33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36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530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551 L -0.00382 -0.22569 E">
                                      <p:cBhvr>
                                        <p:cTn id="208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42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еобразование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  = f(x) +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38400" y="1052640"/>
          <a:ext cx="5845320" cy="5719680"/>
        </p:xfrm>
        <a:graphic>
          <a:graphicData uri="http://schemas.openxmlformats.org/drawingml/2006/table">
            <a:tbl>
              <a:tblPr/>
              <a:tblGrid>
                <a:gridCol w="417600"/>
                <a:gridCol w="417600"/>
                <a:gridCol w="417240"/>
                <a:gridCol w="417600"/>
                <a:gridCol w="417600"/>
                <a:gridCol w="417600"/>
                <a:gridCol w="417600"/>
                <a:gridCol w="417240"/>
                <a:gridCol w="417600"/>
                <a:gridCol w="417600"/>
                <a:gridCol w="417600"/>
                <a:gridCol w="417240"/>
                <a:gridCol w="417600"/>
                <a:gridCol w="417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50920" y="2060640"/>
            <a:ext cx="259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40360" y="1386000"/>
            <a:ext cx="0" cy="54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4149720"/>
            <a:ext cx="5613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940360" y="4221000"/>
            <a:ext cx="0" cy="1152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03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1125360"/>
            <a:ext cx="2016000" cy="302436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773360"/>
            <a:ext cx="28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51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133720"/>
            <a:ext cx="259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двиг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по оси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н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 &l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5373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2.77778E-006 0.17847 E">
                                      <p:cBhvr>
                                        <p:cTn id="22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79640" y="476280"/>
            <a:ext cx="517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араллельный перенос графика вдоль оси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3213000"/>
            <a:ext cx="7416720" cy="2531160"/>
          </a:xfrm>
          <a:prstGeom prst="rect">
            <a:avLst/>
          </a:pr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График функции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y=f(x)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получается  параллельным переносом графика функции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y=f(x)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,  на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|m|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единиц масштаба вверх, если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&gt;0;  и вниз, если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&lt;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8880" y="23508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907920"/>
            <a:ext cx="82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стройте  в одной координатной  плоскости графики фун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3313080" cy="2931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2133720"/>
            <a:ext cx="453708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403236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211640" y="404640"/>
          <a:ext cx="4524480" cy="6210360"/>
        </p:xfrm>
        <a:graphic>
          <a:graphicData uri="http://schemas.openxmlformats.org/drawingml/2006/table">
            <a:tbl>
              <a:tblPr/>
              <a:tblGrid>
                <a:gridCol w="452520"/>
                <a:gridCol w="452520"/>
                <a:gridCol w="452160"/>
                <a:gridCol w="452520"/>
                <a:gridCol w="452520"/>
                <a:gridCol w="452520"/>
                <a:gridCol w="452160"/>
                <a:gridCol w="452520"/>
                <a:gridCol w="452520"/>
                <a:gridCol w="4525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43640" y="260280"/>
            <a:ext cx="14400" cy="550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4508640"/>
            <a:ext cx="432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4005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4292640"/>
            <a:ext cx="180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24360" y="-2043720"/>
            <a:ext cx="142056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2" swAng="10773142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2" swAng="10773142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24360" y="-532800"/>
            <a:ext cx="1420560" cy="50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2" swAng="10773142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2" swAng="10773142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24360" y="548280"/>
            <a:ext cx="142056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2" swAng="10773142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2" swAng="10773142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197000"/>
            <a:ext cx="3313080" cy="175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х</a:t>
            </a:r>
            <a:r>
              <a:rPr b="1" lang="ru-RU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)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y</a:t>
            </a:r>
            <a:r>
              <a:rPr b="1" lang="ru-RU" sz="32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= х</a:t>
            </a:r>
            <a:r>
              <a:rPr b="1" lang="ru-RU" sz="32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+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) у</a:t>
            </a:r>
            <a:r>
              <a:rPr b="1" lang="ru-RU" sz="32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= х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620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227664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3789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299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55897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2997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26920" y="5493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остроение графиков функц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и у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(x + t)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E:\Мои документы\Мои рисунки\Коллекция картинок (Microsoft)\ed00316_.wmf"/>
          <p:cNvPicPr/>
          <p:nvPr/>
        </p:nvPicPr>
        <p:blipFill>
          <a:blip r:embed="rId1"/>
          <a:stretch/>
        </p:blipFill>
        <p:spPr>
          <a:xfrm>
            <a:off x="3564000" y="3141720"/>
            <a:ext cx="20001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еобразование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  = f(x + 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38400" y="1052640"/>
          <a:ext cx="5854680" cy="5306760"/>
        </p:xfrm>
        <a:graphic>
          <a:graphicData uri="http://schemas.openxmlformats.org/drawingml/2006/table">
            <a:tbl>
              <a:tblPr/>
              <a:tblGrid>
                <a:gridCol w="419040"/>
                <a:gridCol w="416160"/>
                <a:gridCol w="419040"/>
                <a:gridCol w="419040"/>
                <a:gridCol w="419040"/>
                <a:gridCol w="416160"/>
                <a:gridCol w="419040"/>
                <a:gridCol w="419040"/>
                <a:gridCol w="415800"/>
                <a:gridCol w="419040"/>
                <a:gridCol w="419400"/>
                <a:gridCol w="419040"/>
                <a:gridCol w="415800"/>
                <a:gridCol w="419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50920" y="2060640"/>
            <a:ext cx="259236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двиг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по оси х 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 &g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940360" y="1088640"/>
            <a:ext cx="14400" cy="576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508464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87640" y="5229000"/>
            <a:ext cx="5900760" cy="14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5229360"/>
            <a:ext cx="18255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003640" y="-1757160"/>
            <a:ext cx="1942920" cy="698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9"/>
                </a:moveTo>
                <a:arcTo wR="10800" hR="10800" stAng="-10793179" swAng="10828378"/>
                <a:lnTo>
                  <a:pt x="10800" y="10800"/>
                </a:lnTo>
                <a:close/>
              </a:path>
              <a:path fill="none" w="21600" h="21600">
                <a:moveTo>
                  <a:pt x="0" y="10779"/>
                </a:moveTo>
                <a:arcTo wR="10800" hR="10800" stAng="-10793179" swAng="1082837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03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472428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5084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3064E-006 L -0.20208 3.93064E-006 E">
                                      <p:cBhvr>
                                        <p:cTn id="24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еобразование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  = f(x + 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38400" y="1052640"/>
          <a:ext cx="5854680" cy="5248080"/>
        </p:xfrm>
        <a:graphic>
          <a:graphicData uri="http://schemas.openxmlformats.org/drawingml/2006/table">
            <a:tbl>
              <a:tblPr/>
              <a:tblGrid>
                <a:gridCol w="419040"/>
                <a:gridCol w="416160"/>
                <a:gridCol w="419040"/>
                <a:gridCol w="419040"/>
                <a:gridCol w="419040"/>
                <a:gridCol w="416160"/>
                <a:gridCol w="419040"/>
                <a:gridCol w="419040"/>
                <a:gridCol w="415800"/>
                <a:gridCol w="419040"/>
                <a:gridCol w="419400"/>
                <a:gridCol w="419040"/>
                <a:gridCol w="415800"/>
                <a:gridCol w="419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50920" y="2060640"/>
            <a:ext cx="259236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двиг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по оси х 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360" y="1088640"/>
            <a:ext cx="14400" cy="576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508464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987640" y="5157720"/>
            <a:ext cx="5900760" cy="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03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65300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932360" y="-1179000"/>
            <a:ext cx="2015640" cy="633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2" swAng="10773142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2" swAng="10773142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940360" y="5157720"/>
            <a:ext cx="1535040" cy="439920"/>
            <a:chOff x="5940360" y="5157720"/>
            <a:chExt cx="1535040" cy="439920"/>
          </a:xfrm>
        </p:grpSpPr>
        <p:sp>
          <p:nvSpPr>
            <p:cNvPr id="168" name=""/>
            <p:cNvSpPr/>
            <p:nvPr/>
          </p:nvSpPr>
          <p:spPr>
            <a:xfrm>
              <a:off x="5940360" y="5157720"/>
              <a:ext cx="1535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54160" y="5230800"/>
              <a:ext cx="255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451640" y="5013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21965E-006 L 0.16459 -4.21965E-006 E">
                                      <p:cBhvr>
                                        <p:cTn id="25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Параллельный перенос графика вдоль оси О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02680" cy="44546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График функции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  = f(x + t)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получается  параллельным переносом графика функции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y=f(x)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 по оси х</a:t>
            </a: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 на </a:t>
            </a:r>
            <a:r>
              <a:rPr b="0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|t| </a:t>
            </a: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единиц масштаба влево,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t &gt; 0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вправо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если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t &lt;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3322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стройте  в одной координатной  плоскости графики фун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2997360"/>
            <a:ext cx="43927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у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(х + 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у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(х -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588000" y="4149720"/>
            <a:ext cx="16430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2854080" cy="380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40480" y="4381560"/>
            <a:ext cx="260352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2360" y="2997360"/>
            <a:ext cx="243216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23200" y="0"/>
            <a:ext cx="2620800" cy="348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8436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309744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76720" y="404640"/>
          <a:ext cx="5676840" cy="6210360"/>
        </p:xfrm>
        <a:graphic>
          <a:graphicData uri="http://schemas.openxmlformats.org/drawingml/2006/table">
            <a:tbl>
              <a:tblPr/>
              <a:tblGrid>
                <a:gridCol w="473040"/>
                <a:gridCol w="473040"/>
                <a:gridCol w="473040"/>
                <a:gridCol w="473040"/>
                <a:gridCol w="473040"/>
                <a:gridCol w="473040"/>
                <a:gridCol w="473040"/>
                <a:gridCol w="432000"/>
                <a:gridCol w="514440"/>
                <a:gridCol w="473040"/>
                <a:gridCol w="473040"/>
                <a:gridCol w="473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084720" y="549000"/>
            <a:ext cx="14400" cy="576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4508640"/>
            <a:ext cx="4935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4005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20000" y="4365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364000" y="-388080"/>
            <a:ext cx="142056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2" swAng="10773142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2" swAng="10773142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95640" y="-388080"/>
            <a:ext cx="143964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2" swAng="10773142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2" swAng="10773142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300720" y="-531360"/>
            <a:ext cx="1420560" cy="503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2" swAng="10773142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2" swAng="10773142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197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125360"/>
            <a:ext cx="3095640" cy="2733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= х</a:t>
            </a:r>
            <a:r>
              <a:rPr b="1" lang="ru-RU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)у</a:t>
            </a:r>
            <a:r>
              <a:rPr b="1" lang="ru-RU" sz="32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= (х + 3)</a:t>
            </a:r>
            <a:r>
              <a:rPr b="1" lang="ru-RU" sz="32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) у</a:t>
            </a:r>
            <a:r>
              <a:rPr b="1" lang="ru-RU" sz="32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= (х -2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)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8000" y="4365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64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4365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4365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остроение графиков функций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у =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, а 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 1  и  0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 а 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786120" y="3648240"/>
            <a:ext cx="14875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334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еобразование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 = af(x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348000" y="333360"/>
          <a:ext cx="5688000" cy="6389640"/>
        </p:xfrm>
        <a:graphic>
          <a:graphicData uri="http://schemas.openxmlformats.org/drawingml/2006/table">
            <a:tbl>
              <a:tblPr/>
              <a:tblGrid>
                <a:gridCol w="216000"/>
                <a:gridCol w="483840"/>
                <a:gridCol w="491760"/>
                <a:gridCol w="488880"/>
                <a:gridCol w="490320"/>
                <a:gridCol w="490320"/>
                <a:gridCol w="491760"/>
                <a:gridCol w="449640"/>
                <a:gridCol w="531360"/>
                <a:gridCol w="490320"/>
                <a:gridCol w="492120"/>
                <a:gridCol w="571680"/>
              </a:tblGrid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x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=a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12000" y="691920"/>
            <a:ext cx="0" cy="576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4581360"/>
            <a:ext cx="504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64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11970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88000" y="1197000"/>
            <a:ext cx="2425680" cy="338292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6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4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356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еобразование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 = af(x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348000" y="333360"/>
          <a:ext cx="5688000" cy="6353280"/>
        </p:xfrm>
        <a:graphic>
          <a:graphicData uri="http://schemas.openxmlformats.org/drawingml/2006/table">
            <a:tbl>
              <a:tblPr/>
              <a:tblGrid>
                <a:gridCol w="216000"/>
                <a:gridCol w="483840"/>
                <a:gridCol w="491760"/>
                <a:gridCol w="488880"/>
                <a:gridCol w="490320"/>
                <a:gridCol w="490320"/>
                <a:gridCol w="491760"/>
                <a:gridCol w="449640"/>
                <a:gridCol w="531360"/>
                <a:gridCol w="490320"/>
                <a:gridCol w="492120"/>
                <a:gridCol w="571680"/>
              </a:tblGrid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x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y=a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6011640" y="691920"/>
            <a:ext cx="14040" cy="576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4581360"/>
            <a:ext cx="504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4076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164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4437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11970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88000" y="1197000"/>
            <a:ext cx="2425680" cy="33796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25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72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остроение графика функции 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у=а</a:t>
            </a:r>
            <a:r>
              <a:rPr b="1" i="1" lang="en-US" sz="4800" spc="-1" strike="noStrike">
                <a:solidFill>
                  <a:srgbClr val="333399"/>
                </a:solidFill>
                <a:latin typeface="Arial"/>
                <a:ea typeface="굴림"/>
              </a:rPr>
              <a:t>f(x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075520" cy="37767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График функции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у=а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굴림"/>
              </a:rPr>
              <a:t>f(x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получаем растяжением графика функции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у=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굴림"/>
              </a:rPr>
              <a:t>f(x)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с коэффициентом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а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от оси Ох,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если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굴림"/>
              </a:rPr>
              <a:t>&gt;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1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и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сжатием к оси О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с коэффициентом 0&lt;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&lt;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75272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остройте  в одной координатно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лоскости графики фун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2349360"/>
            <a:ext cx="37447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у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у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33130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3419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= х</a:t>
            </a:r>
            <a:r>
              <a:rPr b="1" lang="ru-RU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)у</a:t>
            </a:r>
            <a:r>
              <a:rPr b="1" lang="ru-RU" sz="3200" spc="-1" strike="noStrike" baseline="-25000">
                <a:solidFill>
                  <a:srgbClr val="008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;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) у</a:t>
            </a:r>
            <a:r>
              <a:rPr b="1" lang="ru-RU" sz="32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¼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348000" y="333360"/>
          <a:ext cx="5688000" cy="6327720"/>
        </p:xfrm>
        <a:graphic>
          <a:graphicData uri="http://schemas.openxmlformats.org/drawingml/2006/table">
            <a:tbl>
              <a:tblPr/>
              <a:tblGrid>
                <a:gridCol w="216000"/>
                <a:gridCol w="483840"/>
                <a:gridCol w="491760"/>
                <a:gridCol w="488880"/>
                <a:gridCol w="490320"/>
                <a:gridCol w="504720"/>
                <a:gridCol w="477720"/>
                <a:gridCol w="449640"/>
                <a:gridCol w="531360"/>
                <a:gridCol w="479880"/>
                <a:gridCol w="502920"/>
                <a:gridCol w="5709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011640" y="333000"/>
            <a:ext cx="14040" cy="576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51280" y="4508640"/>
            <a:ext cx="504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4005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 rot="10800000">
            <a:off x="755280" y="3932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4437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765000"/>
            <a:ext cx="1295640" cy="374508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3645000"/>
            <a:ext cx="5256360" cy="86364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836640"/>
            <a:ext cx="2519640" cy="3672000"/>
          </a:xfrm>
          <a:custGeom>
            <a:avLst/>
            <a:gdLst/>
            <a:ahLst/>
            <a:rect l="l" t="t" r="r" b="b"/>
            <a:pathLst>
              <a:path w="1528" h="2129">
                <a:moveTo>
                  <a:pt x="0" y="0"/>
                </a:moveTo>
                <a:cubicBezTo>
                  <a:pt x="41" y="197"/>
                  <a:pt x="164" y="868"/>
                  <a:pt x="248" y="1184"/>
                </a:cubicBezTo>
                <a:cubicBezTo>
                  <a:pt x="332" y="1500"/>
                  <a:pt x="420" y="1740"/>
                  <a:pt x="505" y="1898"/>
                </a:cubicBezTo>
                <a:cubicBezTo>
                  <a:pt x="590" y="2056"/>
                  <a:pt x="672" y="2129"/>
                  <a:pt x="757" y="2129"/>
                </a:cubicBezTo>
                <a:cubicBezTo>
                  <a:pt x="842" y="2129"/>
                  <a:pt x="928" y="2056"/>
                  <a:pt x="1015" y="1899"/>
                </a:cubicBezTo>
                <a:cubicBezTo>
                  <a:pt x="1102" y="1742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5975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стройте графики функци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258560" y="3428640"/>
            <a:ext cx="4608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у = (х- 2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у = (х +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3336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659640" y="3716280"/>
            <a:ext cx="1852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3348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484360" y="115920"/>
          <a:ext cx="6545520" cy="6448320"/>
        </p:xfrm>
        <a:graphic>
          <a:graphicData uri="http://schemas.openxmlformats.org/drawingml/2006/table">
            <a:tbl>
              <a:tblPr/>
              <a:tblGrid>
                <a:gridCol w="216000"/>
                <a:gridCol w="479160"/>
                <a:gridCol w="188280"/>
                <a:gridCol w="330840"/>
                <a:gridCol w="187920"/>
                <a:gridCol w="480960"/>
                <a:gridCol w="657720"/>
                <a:gridCol w="642240"/>
                <a:gridCol w="573840"/>
                <a:gridCol w="574200"/>
                <a:gridCol w="591120"/>
                <a:gridCol w="592920"/>
                <a:gridCol w="594360"/>
                <a:gridCol w="435960"/>
              </a:tblGrid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651280" y="404280"/>
            <a:ext cx="14040" cy="576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4437000"/>
            <a:ext cx="504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 rot="10800000">
            <a:off x="755280" y="3932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7640" y="42926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140360" y="907920"/>
            <a:ext cx="2952360" cy="3529080"/>
            <a:chOff x="4140360" y="907920"/>
            <a:chExt cx="2952360" cy="3529080"/>
          </a:xfrm>
        </p:grpSpPr>
        <p:sp>
          <p:nvSpPr>
            <p:cNvPr id="256" name=""/>
            <p:cNvSpPr/>
            <p:nvPr/>
          </p:nvSpPr>
          <p:spPr>
            <a:xfrm>
              <a:off x="4140360" y="907920"/>
              <a:ext cx="1837440" cy="352908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7800" y="915480"/>
              <a:ext cx="1114920" cy="33073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797800" y="620640"/>
            <a:ext cx="1263240" cy="6237360"/>
            <a:chOff x="5797800" y="620640"/>
            <a:chExt cx="1263240" cy="6237360"/>
          </a:xfrm>
        </p:grpSpPr>
        <p:sp>
          <p:nvSpPr>
            <p:cNvPr id="259" name=""/>
            <p:cNvSpPr/>
            <p:nvPr/>
          </p:nvSpPr>
          <p:spPr>
            <a:xfrm>
              <a:off x="6804000" y="620640"/>
              <a:ext cx="0" cy="6237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7080" y="53006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97800" y="465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70200" y="28512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= (Х- 2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18525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0.12987 -0.00508 E">
                                      <p:cBhvr>
                                        <p:cTn id="282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7 -0.00508 L 0.12987 -0.07861 E">
                                      <p:cBhvr>
                                        <p:cTn id="28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252720" y="3141360"/>
            <a:ext cx="1258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484360" y="115920"/>
          <a:ext cx="6545520" cy="6399360"/>
        </p:xfrm>
        <a:graphic>
          <a:graphicData uri="http://schemas.openxmlformats.org/drawingml/2006/table">
            <a:tbl>
              <a:tblPr/>
              <a:tblGrid>
                <a:gridCol w="216000"/>
                <a:gridCol w="479160"/>
                <a:gridCol w="188280"/>
                <a:gridCol w="330840"/>
                <a:gridCol w="187920"/>
                <a:gridCol w="480960"/>
                <a:gridCol w="657720"/>
                <a:gridCol w="642240"/>
                <a:gridCol w="573840"/>
                <a:gridCol w="574200"/>
                <a:gridCol w="591120"/>
                <a:gridCol w="592920"/>
                <a:gridCol w="594360"/>
                <a:gridCol w="435960"/>
              </a:tblGrid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800" y="180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651640" y="259920"/>
            <a:ext cx="0" cy="619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4437000"/>
            <a:ext cx="504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0872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755280" y="3932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7640" y="42926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140360" y="476280"/>
            <a:ext cx="2952360" cy="3960720"/>
            <a:chOff x="4140360" y="476280"/>
            <a:chExt cx="2952360" cy="3960720"/>
          </a:xfrm>
        </p:grpSpPr>
        <p:sp>
          <p:nvSpPr>
            <p:cNvPr id="274" name=""/>
            <p:cNvSpPr/>
            <p:nvPr/>
          </p:nvSpPr>
          <p:spPr>
            <a:xfrm>
              <a:off x="4140360" y="476280"/>
              <a:ext cx="1837440" cy="396072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77800" y="484920"/>
              <a:ext cx="1114920" cy="371196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770560" y="2851200"/>
            <a:ext cx="19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= (Х+ 2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1852560" cy="2376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V="1">
            <a:off x="6227640" y="4292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0.13386 7.40741E-007 E">
                                      <p:cBhvr>
                                        <p:cTn id="29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85 0.00533 L -0.13785 0.07894 E">
                                      <p:cBhvr>
                                        <p:cTn id="29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732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5280" y="1052640"/>
            <a:ext cx="828036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3300"/>
                </a:solidFill>
                <a:uFillTx/>
                <a:latin typeface="Arial"/>
              </a:rPr>
              <a:t>Вывод: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График функци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y=f(x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 t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) +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может быть получен из графика функци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y=f(x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с помощью двух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оследовательных сдвиг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единиц вдоль оси Ох и на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единиц вдоль оси О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7352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252720" y="3141360"/>
            <a:ext cx="1258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484360" y="115920"/>
          <a:ext cx="6545520" cy="6408720"/>
        </p:xfrm>
        <a:graphic>
          <a:graphicData uri="http://schemas.openxmlformats.org/drawingml/2006/table">
            <a:tbl>
              <a:tblPr/>
              <a:tblGrid>
                <a:gridCol w="216000"/>
                <a:gridCol w="479160"/>
                <a:gridCol w="188280"/>
                <a:gridCol w="330840"/>
                <a:gridCol w="187920"/>
                <a:gridCol w="480960"/>
                <a:gridCol w="657720"/>
                <a:gridCol w="642240"/>
                <a:gridCol w="573840"/>
                <a:gridCol w="574200"/>
                <a:gridCol w="591120"/>
                <a:gridCol w="592920"/>
                <a:gridCol w="594360"/>
                <a:gridCol w="435960"/>
              </a:tblGrid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42160" y="1483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003640" y="0"/>
            <a:ext cx="0" cy="619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00360" y="4437000"/>
            <a:ext cx="612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386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 rot="10800000">
            <a:off x="755280" y="3932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42926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492360" y="476280"/>
            <a:ext cx="2952360" cy="3960720"/>
            <a:chOff x="3492360" y="476280"/>
            <a:chExt cx="2952360" cy="3960720"/>
          </a:xfrm>
        </p:grpSpPr>
        <p:sp>
          <p:nvSpPr>
            <p:cNvPr id="291" name=""/>
            <p:cNvSpPr/>
            <p:nvPr/>
          </p:nvSpPr>
          <p:spPr>
            <a:xfrm>
              <a:off x="3492360" y="476280"/>
              <a:ext cx="1837440" cy="396072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29800" y="484920"/>
              <a:ext cx="1114920" cy="371196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020000" y="260280"/>
            <a:ext cx="1294920" cy="6337080"/>
            <a:chOff x="7020000" y="260280"/>
            <a:chExt cx="1294920" cy="6337080"/>
          </a:xfrm>
        </p:grpSpPr>
        <p:sp>
          <p:nvSpPr>
            <p:cNvPr id="294" name=""/>
            <p:cNvSpPr/>
            <p:nvPr/>
          </p:nvSpPr>
          <p:spPr>
            <a:xfrm>
              <a:off x="7391520" y="260280"/>
              <a:ext cx="0" cy="6337080"/>
            </a:xfrm>
            <a:prstGeom prst="line">
              <a:avLst/>
            </a:prstGeom>
            <a:ln w="316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20000" y="50536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35480" y="5993280"/>
              <a:ext cx="3794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770920" y="285264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= (Х- 4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1852560" cy="2376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flipV="1">
            <a:off x="6227640" y="4292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27280" y="5950080"/>
            <a:ext cx="651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333360"/>
            <a:ext cx="244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строить график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 = (Х- 4)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71 4.07407E-006 L 2.77778E-007 4.07407E-006 E">
                                      <p:cBhvr>
                                        <p:cTn id="30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372 -0.00509 L 0.26372 0.22593 E">
                                      <p:cBhvr>
                                        <p:cTn id="31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55640" y="0"/>
            <a:ext cx="7920000" cy="6834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остройте самостоятельно графики фун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риант 1.                     Вариант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Geneva CY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neva CY"/>
              </a:rPr>
              <a:t>у = х</a:t>
            </a:r>
            <a:r>
              <a:rPr b="1" i="1" lang="ru-RU" sz="2800" spc="-1" strike="noStrike" baseline="30000">
                <a:solidFill>
                  <a:srgbClr val="ff0066"/>
                </a:solidFill>
                <a:latin typeface="Geneva CY"/>
              </a:rPr>
              <a:t>2</a:t>
            </a:r>
            <a:r>
              <a:rPr b="1" i="1" lang="ru-RU" sz="2800" spc="-1" strike="noStrike">
                <a:solidFill>
                  <a:srgbClr val="ff0066"/>
                </a:solidFill>
                <a:latin typeface="Geneva CY"/>
              </a:rPr>
              <a:t> + 4;                         1) </a:t>
            </a:r>
            <a:r>
              <a:rPr b="1" i="1" lang="en-US" sz="2800" spc="-1" strike="noStrike">
                <a:solidFill>
                  <a:srgbClr val="ff0066"/>
                </a:solidFill>
                <a:latin typeface="Geneva CY"/>
              </a:rPr>
              <a:t>y=x² +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neva CY"/>
              </a:rPr>
              <a:t>у = х</a:t>
            </a:r>
            <a:r>
              <a:rPr b="1" i="1" lang="ru-RU" sz="2800" spc="-1" strike="noStrike" baseline="30000">
                <a:solidFill>
                  <a:srgbClr val="ff0066"/>
                </a:solidFill>
                <a:latin typeface="Geneva CY"/>
              </a:rPr>
              <a:t>2</a:t>
            </a:r>
            <a:r>
              <a:rPr b="1" i="1" lang="ru-RU" sz="2800" spc="-1" strike="noStrike">
                <a:solidFill>
                  <a:srgbClr val="ff0066"/>
                </a:solidFill>
                <a:latin typeface="Geneva CY"/>
              </a:rPr>
              <a:t> – 1;</a:t>
            </a:r>
            <a:r>
              <a:rPr b="1" i="1" lang="en-US" sz="2800" spc="-1" strike="noStrike">
                <a:solidFill>
                  <a:srgbClr val="ff0066"/>
                </a:solidFill>
                <a:latin typeface="Geneva CY"/>
              </a:rPr>
              <a:t>                         2) y=x² - </a:t>
            </a:r>
            <a:r>
              <a:rPr b="1" i="1" lang="ru-RU" sz="2800" spc="-1" strike="noStrike">
                <a:solidFill>
                  <a:srgbClr val="ff0066"/>
                </a:solidFill>
                <a:latin typeface="Geneva CY"/>
              </a:rPr>
              <a:t>4</a:t>
            </a:r>
            <a:r>
              <a:rPr b="1" i="1" lang="en-US" sz="2800" spc="-1" strike="noStrike">
                <a:solidFill>
                  <a:srgbClr val="ff0066"/>
                </a:solidFill>
                <a:latin typeface="Geneva CY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Geneva CY"/>
              </a:rPr>
              <a:t>у = (х – 1)</a:t>
            </a:r>
            <a:r>
              <a:rPr b="1" i="1" lang="ru-RU" sz="2800" spc="-1" strike="noStrike" baseline="30000">
                <a:solidFill>
                  <a:srgbClr val="009900"/>
                </a:solidFill>
                <a:latin typeface="Geneva CY"/>
              </a:rPr>
              <a:t>2</a:t>
            </a:r>
            <a:r>
              <a:rPr b="1" i="1" lang="ru-RU" sz="2800" spc="-1" strike="noStrike">
                <a:solidFill>
                  <a:srgbClr val="009900"/>
                </a:solidFill>
                <a:latin typeface="Geneva CY"/>
              </a:rPr>
              <a:t>;</a:t>
            </a:r>
            <a:r>
              <a:rPr b="1" i="1" lang="en-US" sz="2800" spc="-1" strike="noStrike">
                <a:solidFill>
                  <a:srgbClr val="009900"/>
                </a:solidFill>
                <a:latin typeface="Geneva CY"/>
              </a:rPr>
              <a:t>                      3) y=(x - </a:t>
            </a:r>
            <a:r>
              <a:rPr b="1" i="1" lang="ru-RU" sz="2800" spc="-1" strike="noStrike">
                <a:solidFill>
                  <a:srgbClr val="009900"/>
                </a:solidFill>
                <a:latin typeface="Geneva CY"/>
              </a:rPr>
              <a:t>4</a:t>
            </a:r>
            <a:r>
              <a:rPr b="1" i="1" lang="en-US" sz="2800" spc="-1" strike="noStrike">
                <a:solidFill>
                  <a:srgbClr val="009900"/>
                </a:solidFill>
                <a:latin typeface="Geneva CY"/>
              </a:rPr>
              <a:t>)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Geneva CY"/>
              </a:rPr>
              <a:t>у = (х + 4)</a:t>
            </a:r>
            <a:r>
              <a:rPr b="1" i="1" lang="ru-RU" sz="2800" spc="-1" strike="noStrike" baseline="30000">
                <a:solidFill>
                  <a:srgbClr val="009900"/>
                </a:solidFill>
                <a:latin typeface="Geneva CY"/>
              </a:rPr>
              <a:t>2</a:t>
            </a:r>
            <a:r>
              <a:rPr b="1" i="1" lang="ru-RU" sz="2800" spc="-1" strike="noStrike">
                <a:solidFill>
                  <a:srgbClr val="009900"/>
                </a:solidFill>
                <a:latin typeface="Geneva CY"/>
              </a:rPr>
              <a:t>;                     </a:t>
            </a:r>
            <a:r>
              <a:rPr b="1" i="1" lang="en-US" sz="2800" spc="-1" strike="noStrike">
                <a:solidFill>
                  <a:srgbClr val="009900"/>
                </a:solidFill>
                <a:latin typeface="Geneva CY"/>
              </a:rPr>
              <a:t> 4) y=(x +1)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neva CY"/>
              </a:rPr>
              <a:t>у = 5х</a:t>
            </a:r>
            <a:r>
              <a:rPr b="1" i="1" lang="en-US" sz="2800" spc="-1" strike="noStrike">
                <a:solidFill>
                  <a:srgbClr val="ff0066"/>
                </a:solidFill>
                <a:latin typeface="Geneva CY"/>
              </a:rPr>
              <a:t>²    </a:t>
            </a:r>
            <a:r>
              <a:rPr b="1" i="1" lang="ru-RU" sz="2800" spc="-1" strike="noStrike">
                <a:solidFill>
                  <a:srgbClr val="ff0066"/>
                </a:solidFill>
                <a:latin typeface="Geneva CY"/>
              </a:rPr>
              <a:t>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Geneva CY"/>
              </a:rPr>
              <a:t>5)</a:t>
            </a:r>
            <a:r>
              <a:rPr b="1" i="1" lang="en-US" sz="2800" spc="-1" strike="noStrike">
                <a:solidFill>
                  <a:srgbClr val="ff0000"/>
                </a:solidFill>
                <a:latin typeface="Geneva CY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 = 4х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²</a:t>
            </a:r>
            <a:r>
              <a:rPr b="1" i="1" lang="en-US" sz="2800" spc="-1" strike="noStrike">
                <a:solidFill>
                  <a:srgbClr val="660033"/>
                </a:solidFill>
                <a:latin typeface="Geneva C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 =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¼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²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6) у =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½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²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neva CY"/>
              </a:rPr>
              <a:t>7) у = (х – 3)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Geneva CY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Geneva CY"/>
              </a:rPr>
              <a:t> + 2;</a:t>
            </a:r>
            <a:r>
              <a:rPr b="1" i="1" lang="en-US" sz="2800" spc="-1" strike="noStrike">
                <a:solidFill>
                  <a:srgbClr val="000099"/>
                </a:solidFill>
                <a:latin typeface="Geneva CY"/>
              </a:rPr>
              <a:t>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Geneva CY"/>
              </a:rPr>
              <a:t> 7) </a:t>
            </a:r>
            <a:r>
              <a:rPr b="1" i="1" lang="en-US" sz="2800" spc="-1" strike="noStrike">
                <a:solidFill>
                  <a:srgbClr val="000099"/>
                </a:solidFill>
                <a:latin typeface="Geneva CY"/>
              </a:rPr>
              <a:t>y=(x -</a:t>
            </a:r>
            <a:r>
              <a:rPr b="1" i="1" lang="ru-RU" sz="2800" spc="-1" strike="noStrike">
                <a:solidFill>
                  <a:srgbClr val="000099"/>
                </a:solidFill>
                <a:latin typeface="Geneva CY"/>
              </a:rPr>
              <a:t> 4</a:t>
            </a:r>
            <a:r>
              <a:rPr b="1" i="1" lang="en-US" sz="2800" spc="-1" strike="noStrike">
                <a:solidFill>
                  <a:srgbClr val="000099"/>
                </a:solidFill>
                <a:latin typeface="Geneva CY"/>
              </a:rPr>
              <a:t>)² +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neva CY"/>
              </a:rPr>
              <a:t>8) у = (х + 1)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Geneva CY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Geneva CY"/>
              </a:rPr>
              <a:t> – 3;</a:t>
            </a:r>
            <a:r>
              <a:rPr b="1" i="1" lang="en-US" sz="2800" spc="-1" strike="noStrike">
                <a:solidFill>
                  <a:srgbClr val="000099"/>
                </a:solidFill>
                <a:latin typeface="Geneva CY"/>
              </a:rPr>
              <a:t>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Geneva CY"/>
              </a:rPr>
              <a:t> 8) </a:t>
            </a:r>
            <a:r>
              <a:rPr b="1" i="1" lang="en-US" sz="2800" spc="-1" strike="noStrike">
                <a:solidFill>
                  <a:srgbClr val="000099"/>
                </a:solidFill>
                <a:latin typeface="Geneva CY"/>
              </a:rPr>
              <a:t>y=(x +2)²-</a:t>
            </a:r>
            <a:r>
              <a:rPr b="1" i="1" lang="ru-RU" sz="2800" spc="-1" strike="noStrike">
                <a:solidFill>
                  <a:srgbClr val="000099"/>
                </a:solidFill>
                <a:latin typeface="Geneva CY"/>
              </a:rPr>
              <a:t> 4</a:t>
            </a:r>
            <a:r>
              <a:rPr b="1" i="1" lang="en-US" sz="2800" spc="-1" strike="noStrike">
                <a:solidFill>
                  <a:srgbClr val="000099"/>
                </a:solidFill>
                <a:latin typeface="Geneva CY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) у = 3(х + 1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2;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x +2)²-1;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) у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х - 1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+ 2;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x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)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Geneva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2708280"/>
            <a:ext cx="2662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4)у = (х + 4)</a:t>
            </a:r>
            <a:r>
              <a:rPr b="1" i="1" lang="ru-RU" sz="28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705040" y="0"/>
          <a:ext cx="6438960" cy="6699240"/>
        </p:xfrm>
        <a:graphic>
          <a:graphicData uri="http://schemas.openxmlformats.org/drawingml/2006/table">
            <a:tbl>
              <a:tblPr/>
              <a:tblGrid>
                <a:gridCol w="495360"/>
                <a:gridCol w="495360"/>
                <a:gridCol w="495360"/>
                <a:gridCol w="495360"/>
                <a:gridCol w="495000"/>
                <a:gridCol w="495360"/>
                <a:gridCol w="495360"/>
                <a:gridCol w="495360"/>
                <a:gridCol w="495360"/>
                <a:gridCol w="433440"/>
                <a:gridCol w="556920"/>
                <a:gridCol w="495360"/>
                <a:gridCol w="495360"/>
              </a:tblGrid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156360" y="0"/>
            <a:ext cx="0" cy="652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933720"/>
            <a:ext cx="637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0800000">
            <a:off x="755280" y="4301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59640" y="3789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292720" y="0"/>
            <a:ext cx="1727280" cy="1700280"/>
            <a:chOff x="5292720" y="0"/>
            <a:chExt cx="1727280" cy="1700280"/>
          </a:xfrm>
        </p:grpSpPr>
        <p:sp>
          <p:nvSpPr>
            <p:cNvPr id="311" name=""/>
            <p:cNvSpPr/>
            <p:nvPr/>
          </p:nvSpPr>
          <p:spPr>
            <a:xfrm>
              <a:off x="5292720" y="0"/>
              <a:ext cx="1074960" cy="170028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67680" y="3600"/>
              <a:ext cx="652320" cy="15937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50920" y="2095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83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1)у = х</a:t>
            </a:r>
            <a:r>
              <a:rPr b="1" i="1" lang="en-US" sz="2800" spc="-1" strike="noStrike" baseline="30000">
                <a:solidFill>
                  <a:srgbClr val="ff0066"/>
                </a:solidFill>
                <a:latin typeface="Arial"/>
              </a:rPr>
              <a:t>2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94036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2852640"/>
            <a:ext cx="226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1484280"/>
            <a:ext cx="22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2)у = х</a:t>
            </a:r>
            <a:r>
              <a:rPr b="1" i="1" lang="en-US" sz="28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788000" y="0"/>
            <a:ext cx="2736720" cy="4481640"/>
            <a:chOff x="4788000" y="0"/>
            <a:chExt cx="2736720" cy="4481640"/>
          </a:xfrm>
        </p:grpSpPr>
        <p:sp>
          <p:nvSpPr>
            <p:cNvPr id="319" name=""/>
            <p:cNvSpPr/>
            <p:nvPr/>
          </p:nvSpPr>
          <p:spPr>
            <a:xfrm>
              <a:off x="4788000" y="0"/>
              <a:ext cx="1703160" cy="448164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91160" y="9720"/>
              <a:ext cx="1033560" cy="42001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940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64000" y="0"/>
            <a:ext cx="2592720" cy="3905280"/>
            <a:chOff x="5364000" y="0"/>
            <a:chExt cx="2592720" cy="3905280"/>
          </a:xfrm>
        </p:grpSpPr>
        <p:sp>
          <p:nvSpPr>
            <p:cNvPr id="323" name=""/>
            <p:cNvSpPr/>
            <p:nvPr/>
          </p:nvSpPr>
          <p:spPr>
            <a:xfrm>
              <a:off x="5364000" y="0"/>
              <a:ext cx="1613520" cy="390528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77520" y="8640"/>
              <a:ext cx="979200" cy="36601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229440" y="4292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00720" y="429264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74160" y="148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1200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2081160"/>
            <a:ext cx="26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3)у = (х – 1)</a:t>
            </a:r>
            <a:r>
              <a:rPr b="1" i="1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74160" y="148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916360" y="0"/>
            <a:ext cx="2592000" cy="3878280"/>
            <a:chOff x="2916360" y="0"/>
            <a:chExt cx="2592000" cy="3878280"/>
          </a:xfrm>
        </p:grpSpPr>
        <p:sp>
          <p:nvSpPr>
            <p:cNvPr id="333" name=""/>
            <p:cNvSpPr/>
            <p:nvPr/>
          </p:nvSpPr>
          <p:spPr>
            <a:xfrm>
              <a:off x="2916360" y="0"/>
              <a:ext cx="1613160" cy="387828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9520" y="8640"/>
              <a:ext cx="978840" cy="363456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851280" y="40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1164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252720" y="3141360"/>
            <a:ext cx="1258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67200" y="0"/>
          <a:ext cx="6076800" cy="6669000"/>
        </p:xfrm>
        <a:graphic>
          <a:graphicData uri="http://schemas.openxmlformats.org/drawingml/2006/table">
            <a:tbl>
              <a:tblPr/>
              <a:tblGrid>
                <a:gridCol w="506160"/>
                <a:gridCol w="506520"/>
                <a:gridCol w="506520"/>
                <a:gridCol w="506160"/>
                <a:gridCol w="506520"/>
                <a:gridCol w="506520"/>
                <a:gridCol w="506160"/>
                <a:gridCol w="506520"/>
                <a:gridCol w="549360"/>
                <a:gridCol w="463680"/>
                <a:gridCol w="506160"/>
                <a:gridCol w="506520"/>
              </a:tblGrid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084720" y="0"/>
            <a:ext cx="0" cy="652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3933720"/>
            <a:ext cx="637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755280" y="4301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132000" y="2708280"/>
            <a:ext cx="6011280" cy="1224000"/>
            <a:chOff x="3132000" y="2708280"/>
            <a:chExt cx="6011280" cy="1224000"/>
          </a:xfrm>
        </p:grpSpPr>
        <p:sp>
          <p:nvSpPr>
            <p:cNvPr id="344" name=""/>
            <p:cNvSpPr/>
            <p:nvPr/>
          </p:nvSpPr>
          <p:spPr>
            <a:xfrm>
              <a:off x="3132000" y="2708280"/>
              <a:ext cx="3741120" cy="122400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73120" y="2710800"/>
              <a:ext cx="2270160" cy="11473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50920" y="2095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125360"/>
            <a:ext cx="7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036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3284640"/>
            <a:ext cx="20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413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6)у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¼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508720" y="0"/>
            <a:ext cx="1224000" cy="3933720"/>
            <a:chOff x="5508720" y="0"/>
            <a:chExt cx="1224000" cy="3933720"/>
          </a:xfrm>
        </p:grpSpPr>
        <p:sp>
          <p:nvSpPr>
            <p:cNvPr id="352" name=""/>
            <p:cNvSpPr/>
            <p:nvPr/>
          </p:nvSpPr>
          <p:spPr>
            <a:xfrm>
              <a:off x="5508720" y="0"/>
              <a:ext cx="761760" cy="393372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70480" y="8640"/>
              <a:ext cx="462240" cy="368676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940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516720" y="0"/>
            <a:ext cx="2231640" cy="2797200"/>
            <a:chOff x="6516720" y="0"/>
            <a:chExt cx="2231640" cy="2797200"/>
          </a:xfrm>
        </p:grpSpPr>
        <p:sp>
          <p:nvSpPr>
            <p:cNvPr id="356" name=""/>
            <p:cNvSpPr/>
            <p:nvPr/>
          </p:nvSpPr>
          <p:spPr>
            <a:xfrm>
              <a:off x="6516720" y="0"/>
              <a:ext cx="1388880" cy="279720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5600" y="6120"/>
              <a:ext cx="842760" cy="26215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229440" y="4292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00720" y="429264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27640" y="83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1200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134136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7236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0920" y="83664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5)у = 5х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95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0108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7280" y="3789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95640" y="407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9890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7) у = (х – 3)</a:t>
            </a:r>
            <a:r>
              <a:rPr b="1" i="1" lang="en-US" sz="2400" spc="-1" strike="noStrike" baseline="30000">
                <a:solidFill>
                  <a:srgbClr val="008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012000" y="27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0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2764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56536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8) у = (х + 1)</a:t>
            </a:r>
            <a:r>
              <a:rPr b="1" i="1" lang="en-US" sz="2400" spc="-1" strike="noStrike" baseline="30000">
                <a:solidFill>
                  <a:srgbClr val="3399ff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40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8000" y="3789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6764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360" y="0"/>
            <a:ext cx="2879640" cy="5578200"/>
            <a:chOff x="4140360" y="0"/>
            <a:chExt cx="2879640" cy="5578200"/>
          </a:xfrm>
        </p:grpSpPr>
        <p:sp>
          <p:nvSpPr>
            <p:cNvPr id="378" name=""/>
            <p:cNvSpPr/>
            <p:nvPr/>
          </p:nvSpPr>
          <p:spPr>
            <a:xfrm>
              <a:off x="4140360" y="0"/>
              <a:ext cx="1792080" cy="557820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32440" y="12240"/>
              <a:ext cx="1087560" cy="52279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99564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040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27640" y="537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40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94036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7236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7236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00720" y="429264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40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252720" y="3141360"/>
            <a:ext cx="1258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067200" y="0"/>
          <a:ext cx="6076800" cy="6669000"/>
        </p:xfrm>
        <a:graphic>
          <a:graphicData uri="http://schemas.openxmlformats.org/drawingml/2006/table">
            <a:tbl>
              <a:tblPr/>
              <a:tblGrid>
                <a:gridCol w="506160"/>
                <a:gridCol w="506520"/>
                <a:gridCol w="506520"/>
                <a:gridCol w="506160"/>
                <a:gridCol w="506520"/>
                <a:gridCol w="506520"/>
                <a:gridCol w="506160"/>
                <a:gridCol w="506520"/>
                <a:gridCol w="549360"/>
                <a:gridCol w="463680"/>
                <a:gridCol w="506160"/>
                <a:gridCol w="506520"/>
              </a:tblGrid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84720" y="0"/>
            <a:ext cx="0" cy="652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71640" y="3933720"/>
            <a:ext cx="637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755280" y="4301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2095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1125360"/>
            <a:ext cx="7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4036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98100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9) у = 3(х + 1)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²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29440" y="4292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00720" y="429264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200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27640" y="134136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012000" y="27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2764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40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6764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716360" y="0"/>
            <a:ext cx="1727280" cy="4974840"/>
            <a:chOff x="4716360" y="0"/>
            <a:chExt cx="1727280" cy="4974840"/>
          </a:xfrm>
        </p:grpSpPr>
        <p:sp>
          <p:nvSpPr>
            <p:cNvPr id="410" name=""/>
            <p:cNvSpPr/>
            <p:nvPr/>
          </p:nvSpPr>
          <p:spPr>
            <a:xfrm>
              <a:off x="4716360" y="0"/>
              <a:ext cx="1074960" cy="497484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1320" y="10800"/>
              <a:ext cx="652320" cy="46627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940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56360" y="436572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19640" y="40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80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2520" y="155736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10) у = </a:t>
            </a: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¼</a:t>
            </a: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(х - 1)</a:t>
            </a: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²</a:t>
            </a: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203640" y="1052640"/>
            <a:ext cx="6839640" cy="1778040"/>
            <a:chOff x="3203640" y="1052640"/>
            <a:chExt cx="6839640" cy="1778040"/>
          </a:xfrm>
        </p:grpSpPr>
        <p:sp>
          <p:nvSpPr>
            <p:cNvPr id="418" name=""/>
            <p:cNvSpPr/>
            <p:nvPr/>
          </p:nvSpPr>
          <p:spPr>
            <a:xfrm>
              <a:off x="3203640" y="1052640"/>
              <a:ext cx="4256640" cy="177804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60280" y="1056600"/>
              <a:ext cx="2583000" cy="166644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58800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2708280"/>
            <a:ext cx="2662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Arial"/>
              </a:rPr>
              <a:t>4)у = (х + 1)</a:t>
            </a:r>
            <a:r>
              <a:rPr b="1" i="1" lang="ru-RU" sz="32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705040" y="0"/>
          <a:ext cx="6438960" cy="6648480"/>
        </p:xfrm>
        <a:graphic>
          <a:graphicData uri="http://schemas.openxmlformats.org/drawingml/2006/table">
            <a:tbl>
              <a:tblPr/>
              <a:tblGrid>
                <a:gridCol w="495360"/>
                <a:gridCol w="495360"/>
                <a:gridCol w="495360"/>
                <a:gridCol w="495360"/>
                <a:gridCol w="495000"/>
                <a:gridCol w="495360"/>
                <a:gridCol w="495360"/>
                <a:gridCol w="495360"/>
                <a:gridCol w="495360"/>
                <a:gridCol w="495360"/>
                <a:gridCol w="495000"/>
                <a:gridCol w="495360"/>
                <a:gridCol w="49536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156360" y="0"/>
            <a:ext cx="0" cy="652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71640" y="3860640"/>
            <a:ext cx="637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0800000">
            <a:off x="755280" y="4301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59640" y="3789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643280" y="0"/>
            <a:ext cx="3024000" cy="6092640"/>
            <a:chOff x="4643280" y="0"/>
            <a:chExt cx="3024000" cy="6092640"/>
          </a:xfrm>
        </p:grpSpPr>
        <p:sp>
          <p:nvSpPr>
            <p:cNvPr id="429" name=""/>
            <p:cNvSpPr/>
            <p:nvPr/>
          </p:nvSpPr>
          <p:spPr>
            <a:xfrm>
              <a:off x="4643280" y="0"/>
              <a:ext cx="1882080" cy="609264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25360" y="13320"/>
              <a:ext cx="1141920" cy="57103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50920" y="2095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0920" y="83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1)у = х</a:t>
            </a:r>
            <a:r>
              <a:rPr b="1" i="1" lang="en-US" sz="2800" spc="-1" strike="noStrike" baseline="30000">
                <a:solidFill>
                  <a:srgbClr val="000099"/>
                </a:solidFill>
                <a:latin typeface="Arial"/>
              </a:rPr>
              <a:t>2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2852640"/>
            <a:ext cx="226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1484280"/>
            <a:ext cx="22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2)у = х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932360" y="0"/>
            <a:ext cx="2448000" cy="3284640"/>
            <a:chOff x="4932360" y="0"/>
            <a:chExt cx="2448000" cy="3284640"/>
          </a:xfrm>
        </p:grpSpPr>
        <p:sp>
          <p:nvSpPr>
            <p:cNvPr id="436" name=""/>
            <p:cNvSpPr/>
            <p:nvPr/>
          </p:nvSpPr>
          <p:spPr>
            <a:xfrm>
              <a:off x="4932360" y="0"/>
              <a:ext cx="1523520" cy="328464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55880" y="7200"/>
              <a:ext cx="924480" cy="307836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940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804000" y="0"/>
            <a:ext cx="2663640" cy="3860640"/>
            <a:chOff x="6804000" y="0"/>
            <a:chExt cx="2663640" cy="3860640"/>
          </a:xfrm>
        </p:grpSpPr>
        <p:sp>
          <p:nvSpPr>
            <p:cNvPr id="440" name=""/>
            <p:cNvSpPr/>
            <p:nvPr/>
          </p:nvSpPr>
          <p:spPr>
            <a:xfrm>
              <a:off x="6804000" y="0"/>
              <a:ext cx="1657800" cy="386064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61800" y="8280"/>
              <a:ext cx="1005840" cy="361800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229440" y="4292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43640" y="321300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18520" y="148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2081160"/>
            <a:ext cx="26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3)у = (х – 4)</a:t>
            </a:r>
            <a:r>
              <a:rPr b="1" i="1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3640" y="602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39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356000" y="0"/>
            <a:ext cx="2592000" cy="3860640"/>
            <a:chOff x="4356000" y="0"/>
            <a:chExt cx="2592000" cy="3860640"/>
          </a:xfrm>
        </p:grpSpPr>
        <p:sp>
          <p:nvSpPr>
            <p:cNvPr id="450" name=""/>
            <p:cNvSpPr/>
            <p:nvPr/>
          </p:nvSpPr>
          <p:spPr>
            <a:xfrm>
              <a:off x="4356000" y="0"/>
              <a:ext cx="1613160" cy="386064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69160" y="8280"/>
              <a:ext cx="978840" cy="361800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740720" y="40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17236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252720" y="3141360"/>
            <a:ext cx="1258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3067200" y="0"/>
          <a:ext cx="6076800" cy="6686640"/>
        </p:xfrm>
        <a:graphic>
          <a:graphicData uri="http://schemas.openxmlformats.org/drawingml/2006/table">
            <a:tbl>
              <a:tblPr/>
              <a:tblGrid>
                <a:gridCol w="506160"/>
                <a:gridCol w="506520"/>
                <a:gridCol w="506520"/>
                <a:gridCol w="506160"/>
                <a:gridCol w="506520"/>
                <a:gridCol w="506520"/>
                <a:gridCol w="506160"/>
                <a:gridCol w="506520"/>
                <a:gridCol w="506520"/>
                <a:gridCol w="506520"/>
                <a:gridCol w="506160"/>
                <a:gridCol w="506520"/>
              </a:tblGrid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084720" y="0"/>
            <a:ext cx="0" cy="652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3933720"/>
            <a:ext cx="637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755280" y="4301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16360" y="2349360"/>
            <a:ext cx="5687280" cy="1584360"/>
            <a:chOff x="2916360" y="2349360"/>
            <a:chExt cx="5687280" cy="1584360"/>
          </a:xfrm>
        </p:grpSpPr>
        <p:sp>
          <p:nvSpPr>
            <p:cNvPr id="461" name=""/>
            <p:cNvSpPr/>
            <p:nvPr/>
          </p:nvSpPr>
          <p:spPr>
            <a:xfrm>
              <a:off x="2916360" y="2349360"/>
              <a:ext cx="3539520" cy="158436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55880" y="2352600"/>
              <a:ext cx="2147760" cy="148500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50920" y="2095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1125360"/>
            <a:ext cx="7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036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0920" y="3284640"/>
            <a:ext cx="20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1413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6)у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½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35640" y="0"/>
            <a:ext cx="1368000" cy="3933720"/>
            <a:chOff x="5435640" y="0"/>
            <a:chExt cx="1368000" cy="3933720"/>
          </a:xfrm>
        </p:grpSpPr>
        <p:sp>
          <p:nvSpPr>
            <p:cNvPr id="469" name=""/>
            <p:cNvSpPr/>
            <p:nvPr/>
          </p:nvSpPr>
          <p:spPr>
            <a:xfrm>
              <a:off x="5435640" y="0"/>
              <a:ext cx="851400" cy="393372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87040" y="8640"/>
              <a:ext cx="516600" cy="368676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940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516720" y="0"/>
            <a:ext cx="2231640" cy="2797200"/>
            <a:chOff x="6516720" y="0"/>
            <a:chExt cx="2231640" cy="2797200"/>
          </a:xfrm>
        </p:grpSpPr>
        <p:sp>
          <p:nvSpPr>
            <p:cNvPr id="473" name=""/>
            <p:cNvSpPr/>
            <p:nvPr/>
          </p:nvSpPr>
          <p:spPr>
            <a:xfrm>
              <a:off x="6516720" y="0"/>
              <a:ext cx="1388880" cy="279720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05600" y="6120"/>
              <a:ext cx="842760" cy="26215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6229440" y="4292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29264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227640" y="1484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1200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27640" y="134136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7236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0920" y="83664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5)у = 4х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5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0108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67280" y="3789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95640" y="407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19890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7) у = (х – 3)</a:t>
            </a:r>
            <a:r>
              <a:rPr b="1" i="1" lang="en-US" sz="2400" spc="-1" strike="noStrike" baseline="30000">
                <a:solidFill>
                  <a:srgbClr val="008000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012000" y="27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80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22764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56536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8) у = (х + 1)</a:t>
            </a:r>
            <a:r>
              <a:rPr b="1" i="1" lang="en-US" sz="2400" spc="-1" strike="noStrike" baseline="30000">
                <a:solidFill>
                  <a:srgbClr val="3399ff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88000" y="3789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6764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140360" y="0"/>
            <a:ext cx="2879640" cy="5578200"/>
            <a:chOff x="4140360" y="0"/>
            <a:chExt cx="2879640" cy="5578200"/>
          </a:xfrm>
        </p:grpSpPr>
        <p:sp>
          <p:nvSpPr>
            <p:cNvPr id="495" name=""/>
            <p:cNvSpPr/>
            <p:nvPr/>
          </p:nvSpPr>
          <p:spPr>
            <a:xfrm>
              <a:off x="4140360" y="0"/>
              <a:ext cx="1792080" cy="557820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32440" y="12240"/>
              <a:ext cx="1087560" cy="522792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99564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040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27640" y="537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940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94036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7236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7236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00720" y="429264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19640" y="40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99ff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170028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252720" y="3141360"/>
            <a:ext cx="1258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067200" y="0"/>
          <a:ext cx="6076800" cy="6726240"/>
        </p:xfrm>
        <a:graphic>
          <a:graphicData uri="http://schemas.openxmlformats.org/drawingml/2006/table">
            <a:tbl>
              <a:tblPr/>
              <a:tblGrid>
                <a:gridCol w="506160"/>
                <a:gridCol w="506520"/>
                <a:gridCol w="506520"/>
                <a:gridCol w="506160"/>
                <a:gridCol w="506520"/>
                <a:gridCol w="506520"/>
                <a:gridCol w="506160"/>
                <a:gridCol w="506520"/>
                <a:gridCol w="549360"/>
                <a:gridCol w="463680"/>
                <a:gridCol w="506160"/>
                <a:gridCol w="506520"/>
              </a:tblGrid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fe7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affe7"/>
                    </a:solidFill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6012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6084720" y="0"/>
            <a:ext cx="0" cy="652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71640" y="4508640"/>
            <a:ext cx="637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0800000">
            <a:off x="755280" y="4301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0920" y="2095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8360" y="1125360"/>
            <a:ext cx="7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4036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9810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9)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(x +2)²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40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0072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1200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22764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667640" y="5877000"/>
            <a:ext cx="1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01200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27640" y="2565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940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66764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427640" y="549360"/>
            <a:ext cx="1296720" cy="4508280"/>
            <a:chOff x="4427640" y="549360"/>
            <a:chExt cx="1296720" cy="4508280"/>
          </a:xfrm>
        </p:grpSpPr>
        <p:sp>
          <p:nvSpPr>
            <p:cNvPr id="527" name=""/>
            <p:cNvSpPr/>
            <p:nvPr/>
          </p:nvSpPr>
          <p:spPr>
            <a:xfrm>
              <a:off x="4427640" y="549360"/>
              <a:ext cx="807120" cy="450828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34760" y="559440"/>
              <a:ext cx="489600" cy="422496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940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77080" y="595008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40360" y="17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211640" y="0"/>
            <a:ext cx="5796720" cy="3911760"/>
            <a:chOff x="4211640" y="0"/>
            <a:chExt cx="5796720" cy="3911760"/>
          </a:xfrm>
        </p:grpSpPr>
        <p:sp>
          <p:nvSpPr>
            <p:cNvPr id="533" name=""/>
            <p:cNvSpPr/>
            <p:nvPr/>
          </p:nvSpPr>
          <p:spPr>
            <a:xfrm>
              <a:off x="4211640" y="0"/>
              <a:ext cx="3607560" cy="3911760"/>
            </a:xfrm>
            <a:custGeom>
              <a:avLst/>
              <a:gdLst/>
              <a:ahLst/>
              <a:rect l="l" t="t" r="r" b="b"/>
              <a:pathLst>
                <a:path w="1341" h="3041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7" y="48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15" y="89"/>
                  </a:lnTo>
                  <a:lnTo>
                    <a:pt x="15" y="109"/>
                  </a:lnTo>
                  <a:lnTo>
                    <a:pt x="15" y="123"/>
                  </a:lnTo>
                  <a:lnTo>
                    <a:pt x="22" y="136"/>
                  </a:lnTo>
                  <a:lnTo>
                    <a:pt x="22" y="150"/>
                  </a:lnTo>
                  <a:lnTo>
                    <a:pt x="29" y="164"/>
                  </a:lnTo>
                  <a:lnTo>
                    <a:pt x="29" y="177"/>
                  </a:lnTo>
                  <a:lnTo>
                    <a:pt x="29" y="198"/>
                  </a:lnTo>
                  <a:lnTo>
                    <a:pt x="37" y="211"/>
                  </a:lnTo>
                  <a:lnTo>
                    <a:pt x="37" y="225"/>
                  </a:lnTo>
                  <a:lnTo>
                    <a:pt x="37" y="239"/>
                  </a:lnTo>
                  <a:lnTo>
                    <a:pt x="44" y="252"/>
                  </a:lnTo>
                  <a:lnTo>
                    <a:pt x="44" y="266"/>
                  </a:lnTo>
                  <a:lnTo>
                    <a:pt x="44" y="280"/>
                  </a:lnTo>
                  <a:lnTo>
                    <a:pt x="51" y="293"/>
                  </a:lnTo>
                  <a:lnTo>
                    <a:pt x="51" y="314"/>
                  </a:lnTo>
                  <a:lnTo>
                    <a:pt x="59" y="327"/>
                  </a:lnTo>
                  <a:lnTo>
                    <a:pt x="59" y="341"/>
                  </a:lnTo>
                  <a:lnTo>
                    <a:pt x="59" y="355"/>
                  </a:lnTo>
                  <a:lnTo>
                    <a:pt x="66" y="368"/>
                  </a:lnTo>
                  <a:lnTo>
                    <a:pt x="66" y="382"/>
                  </a:lnTo>
                  <a:lnTo>
                    <a:pt x="66" y="396"/>
                  </a:lnTo>
                  <a:lnTo>
                    <a:pt x="73" y="409"/>
                  </a:lnTo>
                  <a:lnTo>
                    <a:pt x="73" y="423"/>
                  </a:lnTo>
                  <a:lnTo>
                    <a:pt x="73" y="437"/>
                  </a:lnTo>
                  <a:lnTo>
                    <a:pt x="81" y="450"/>
                  </a:lnTo>
                  <a:lnTo>
                    <a:pt x="81" y="464"/>
                  </a:lnTo>
                  <a:lnTo>
                    <a:pt x="88" y="477"/>
                  </a:lnTo>
                  <a:lnTo>
                    <a:pt x="88" y="491"/>
                  </a:lnTo>
                  <a:lnTo>
                    <a:pt x="88" y="505"/>
                  </a:lnTo>
                  <a:lnTo>
                    <a:pt x="95" y="518"/>
                  </a:lnTo>
                  <a:lnTo>
                    <a:pt x="95" y="532"/>
                  </a:lnTo>
                  <a:lnTo>
                    <a:pt x="95" y="546"/>
                  </a:lnTo>
                  <a:lnTo>
                    <a:pt x="103" y="559"/>
                  </a:lnTo>
                  <a:lnTo>
                    <a:pt x="103" y="573"/>
                  </a:lnTo>
                  <a:lnTo>
                    <a:pt x="110" y="587"/>
                  </a:lnTo>
                  <a:lnTo>
                    <a:pt x="110" y="600"/>
                  </a:lnTo>
                  <a:lnTo>
                    <a:pt x="110" y="614"/>
                  </a:lnTo>
                  <a:lnTo>
                    <a:pt x="117" y="627"/>
                  </a:lnTo>
                  <a:lnTo>
                    <a:pt x="117" y="641"/>
                  </a:lnTo>
                  <a:lnTo>
                    <a:pt x="117" y="655"/>
                  </a:lnTo>
                  <a:lnTo>
                    <a:pt x="125" y="668"/>
                  </a:lnTo>
                  <a:lnTo>
                    <a:pt x="125" y="682"/>
                  </a:lnTo>
                  <a:lnTo>
                    <a:pt x="125" y="696"/>
                  </a:lnTo>
                  <a:lnTo>
                    <a:pt x="132" y="709"/>
                  </a:lnTo>
                  <a:lnTo>
                    <a:pt x="132" y="723"/>
                  </a:lnTo>
                  <a:lnTo>
                    <a:pt x="139" y="737"/>
                  </a:lnTo>
                  <a:lnTo>
                    <a:pt x="139" y="750"/>
                  </a:lnTo>
                  <a:lnTo>
                    <a:pt x="139" y="764"/>
                  </a:lnTo>
                  <a:lnTo>
                    <a:pt x="147" y="771"/>
                  </a:lnTo>
                  <a:lnTo>
                    <a:pt x="147" y="784"/>
                  </a:lnTo>
                  <a:lnTo>
                    <a:pt x="147" y="798"/>
                  </a:lnTo>
                  <a:lnTo>
                    <a:pt x="154" y="812"/>
                  </a:lnTo>
                  <a:lnTo>
                    <a:pt x="154" y="825"/>
                  </a:lnTo>
                  <a:lnTo>
                    <a:pt x="154" y="839"/>
                  </a:lnTo>
                  <a:lnTo>
                    <a:pt x="161" y="852"/>
                  </a:lnTo>
                  <a:lnTo>
                    <a:pt x="161" y="866"/>
                  </a:lnTo>
                  <a:lnTo>
                    <a:pt x="169" y="880"/>
                  </a:lnTo>
                  <a:lnTo>
                    <a:pt x="169" y="887"/>
                  </a:lnTo>
                  <a:lnTo>
                    <a:pt x="169" y="900"/>
                  </a:lnTo>
                  <a:lnTo>
                    <a:pt x="176" y="914"/>
                  </a:lnTo>
                  <a:lnTo>
                    <a:pt x="176" y="927"/>
                  </a:lnTo>
                  <a:lnTo>
                    <a:pt x="176" y="941"/>
                  </a:lnTo>
                  <a:lnTo>
                    <a:pt x="183" y="955"/>
                  </a:lnTo>
                  <a:lnTo>
                    <a:pt x="183" y="962"/>
                  </a:lnTo>
                  <a:lnTo>
                    <a:pt x="183" y="975"/>
                  </a:lnTo>
                  <a:lnTo>
                    <a:pt x="191" y="989"/>
                  </a:lnTo>
                  <a:lnTo>
                    <a:pt x="191" y="1003"/>
                  </a:lnTo>
                  <a:lnTo>
                    <a:pt x="198" y="1016"/>
                  </a:lnTo>
                  <a:lnTo>
                    <a:pt x="198" y="1030"/>
                  </a:lnTo>
                  <a:lnTo>
                    <a:pt x="198" y="1037"/>
                  </a:lnTo>
                  <a:lnTo>
                    <a:pt x="205" y="1050"/>
                  </a:lnTo>
                  <a:lnTo>
                    <a:pt x="205" y="1064"/>
                  </a:lnTo>
                  <a:lnTo>
                    <a:pt x="205" y="1078"/>
                  </a:lnTo>
                  <a:lnTo>
                    <a:pt x="213" y="1084"/>
                  </a:lnTo>
                  <a:lnTo>
                    <a:pt x="213" y="1098"/>
                  </a:lnTo>
                  <a:lnTo>
                    <a:pt x="213" y="1112"/>
                  </a:lnTo>
                  <a:lnTo>
                    <a:pt x="220" y="1125"/>
                  </a:lnTo>
                  <a:lnTo>
                    <a:pt x="220" y="1132"/>
                  </a:lnTo>
                  <a:lnTo>
                    <a:pt x="227" y="1146"/>
                  </a:lnTo>
                  <a:lnTo>
                    <a:pt x="227" y="1159"/>
                  </a:lnTo>
                  <a:lnTo>
                    <a:pt x="227" y="1173"/>
                  </a:lnTo>
                  <a:lnTo>
                    <a:pt x="235" y="1180"/>
                  </a:lnTo>
                  <a:lnTo>
                    <a:pt x="235" y="1193"/>
                  </a:lnTo>
                  <a:lnTo>
                    <a:pt x="235" y="1207"/>
                  </a:lnTo>
                  <a:lnTo>
                    <a:pt x="242" y="1221"/>
                  </a:lnTo>
                  <a:lnTo>
                    <a:pt x="242" y="1228"/>
                  </a:lnTo>
                  <a:lnTo>
                    <a:pt x="249" y="1241"/>
                  </a:lnTo>
                  <a:lnTo>
                    <a:pt x="249" y="1255"/>
                  </a:lnTo>
                  <a:lnTo>
                    <a:pt x="249" y="1262"/>
                  </a:lnTo>
                  <a:lnTo>
                    <a:pt x="257" y="1275"/>
                  </a:lnTo>
                  <a:lnTo>
                    <a:pt x="257" y="1289"/>
                  </a:lnTo>
                  <a:lnTo>
                    <a:pt x="257" y="1296"/>
                  </a:lnTo>
                  <a:lnTo>
                    <a:pt x="264" y="1309"/>
                  </a:lnTo>
                  <a:lnTo>
                    <a:pt x="264" y="1323"/>
                  </a:lnTo>
                  <a:lnTo>
                    <a:pt x="264" y="1330"/>
                  </a:lnTo>
                  <a:lnTo>
                    <a:pt x="271" y="1343"/>
                  </a:lnTo>
                  <a:lnTo>
                    <a:pt x="271" y="1357"/>
                  </a:lnTo>
                  <a:lnTo>
                    <a:pt x="279" y="1364"/>
                  </a:lnTo>
                  <a:lnTo>
                    <a:pt x="279" y="1378"/>
                  </a:lnTo>
                  <a:lnTo>
                    <a:pt x="279" y="1391"/>
                  </a:lnTo>
                  <a:lnTo>
                    <a:pt x="286" y="1398"/>
                  </a:lnTo>
                  <a:lnTo>
                    <a:pt x="286" y="1412"/>
                  </a:lnTo>
                  <a:lnTo>
                    <a:pt x="286" y="1418"/>
                  </a:lnTo>
                  <a:lnTo>
                    <a:pt x="293" y="1432"/>
                  </a:lnTo>
                  <a:lnTo>
                    <a:pt x="293" y="1446"/>
                  </a:lnTo>
                  <a:lnTo>
                    <a:pt x="293" y="1453"/>
                  </a:lnTo>
                  <a:lnTo>
                    <a:pt x="301" y="1466"/>
                  </a:lnTo>
                  <a:lnTo>
                    <a:pt x="301" y="1473"/>
                  </a:lnTo>
                  <a:lnTo>
                    <a:pt x="308" y="1487"/>
                  </a:lnTo>
                  <a:lnTo>
                    <a:pt x="308" y="1500"/>
                  </a:lnTo>
                  <a:lnTo>
                    <a:pt x="308" y="1507"/>
                  </a:lnTo>
                  <a:lnTo>
                    <a:pt x="315" y="1521"/>
                  </a:lnTo>
                  <a:lnTo>
                    <a:pt x="315" y="1528"/>
                  </a:lnTo>
                  <a:lnTo>
                    <a:pt x="315" y="1541"/>
                  </a:lnTo>
                  <a:lnTo>
                    <a:pt x="323" y="1548"/>
                  </a:lnTo>
                  <a:lnTo>
                    <a:pt x="323" y="1562"/>
                  </a:lnTo>
                  <a:lnTo>
                    <a:pt x="323" y="1575"/>
                  </a:lnTo>
                  <a:lnTo>
                    <a:pt x="330" y="1582"/>
                  </a:lnTo>
                  <a:lnTo>
                    <a:pt x="330" y="1596"/>
                  </a:lnTo>
                  <a:lnTo>
                    <a:pt x="337" y="1603"/>
                  </a:lnTo>
                  <a:lnTo>
                    <a:pt x="337" y="1616"/>
                  </a:lnTo>
                  <a:lnTo>
                    <a:pt x="337" y="1623"/>
                  </a:lnTo>
                  <a:lnTo>
                    <a:pt x="344" y="1637"/>
                  </a:lnTo>
                  <a:lnTo>
                    <a:pt x="344" y="1644"/>
                  </a:lnTo>
                  <a:lnTo>
                    <a:pt x="344" y="1657"/>
                  </a:lnTo>
                  <a:lnTo>
                    <a:pt x="352" y="1664"/>
                  </a:lnTo>
                  <a:lnTo>
                    <a:pt x="352" y="1678"/>
                  </a:lnTo>
                  <a:lnTo>
                    <a:pt x="352" y="1684"/>
                  </a:lnTo>
                  <a:lnTo>
                    <a:pt x="359" y="1698"/>
                  </a:lnTo>
                  <a:lnTo>
                    <a:pt x="359" y="1705"/>
                  </a:lnTo>
                  <a:lnTo>
                    <a:pt x="366" y="1712"/>
                  </a:lnTo>
                  <a:lnTo>
                    <a:pt x="366" y="1725"/>
                  </a:lnTo>
                  <a:lnTo>
                    <a:pt x="366" y="1732"/>
                  </a:lnTo>
                  <a:lnTo>
                    <a:pt x="374" y="1746"/>
                  </a:lnTo>
                  <a:lnTo>
                    <a:pt x="374" y="1753"/>
                  </a:lnTo>
                  <a:lnTo>
                    <a:pt x="374" y="1766"/>
                  </a:lnTo>
                  <a:lnTo>
                    <a:pt x="381" y="1773"/>
                  </a:lnTo>
                  <a:lnTo>
                    <a:pt x="381" y="1787"/>
                  </a:lnTo>
                  <a:lnTo>
                    <a:pt x="381" y="1794"/>
                  </a:lnTo>
                  <a:lnTo>
                    <a:pt x="388" y="1800"/>
                  </a:lnTo>
                  <a:lnTo>
                    <a:pt x="388" y="1814"/>
                  </a:lnTo>
                  <a:lnTo>
                    <a:pt x="396" y="1821"/>
                  </a:lnTo>
                  <a:lnTo>
                    <a:pt x="396" y="1834"/>
                  </a:lnTo>
                  <a:lnTo>
                    <a:pt x="396" y="1841"/>
                  </a:lnTo>
                  <a:lnTo>
                    <a:pt x="403" y="1848"/>
                  </a:lnTo>
                  <a:lnTo>
                    <a:pt x="403" y="1862"/>
                  </a:lnTo>
                  <a:lnTo>
                    <a:pt x="403" y="1869"/>
                  </a:lnTo>
                  <a:lnTo>
                    <a:pt x="410" y="1875"/>
                  </a:lnTo>
                  <a:lnTo>
                    <a:pt x="410" y="1889"/>
                  </a:lnTo>
                  <a:lnTo>
                    <a:pt x="418" y="1896"/>
                  </a:lnTo>
                  <a:lnTo>
                    <a:pt x="418" y="1909"/>
                  </a:lnTo>
                  <a:lnTo>
                    <a:pt x="418" y="1916"/>
                  </a:lnTo>
                  <a:lnTo>
                    <a:pt x="425" y="1923"/>
                  </a:lnTo>
                  <a:lnTo>
                    <a:pt x="425" y="1937"/>
                  </a:lnTo>
                  <a:lnTo>
                    <a:pt x="425" y="1944"/>
                  </a:lnTo>
                  <a:lnTo>
                    <a:pt x="432" y="1950"/>
                  </a:lnTo>
                  <a:lnTo>
                    <a:pt x="432" y="1964"/>
                  </a:lnTo>
                  <a:lnTo>
                    <a:pt x="432" y="1971"/>
                  </a:lnTo>
                  <a:lnTo>
                    <a:pt x="440" y="1978"/>
                  </a:lnTo>
                  <a:lnTo>
                    <a:pt x="440" y="1984"/>
                  </a:lnTo>
                  <a:lnTo>
                    <a:pt x="447" y="1998"/>
                  </a:lnTo>
                  <a:lnTo>
                    <a:pt x="447" y="2005"/>
                  </a:lnTo>
                  <a:lnTo>
                    <a:pt x="447" y="2012"/>
                  </a:lnTo>
                  <a:lnTo>
                    <a:pt x="454" y="2025"/>
                  </a:lnTo>
                  <a:lnTo>
                    <a:pt x="454" y="2032"/>
                  </a:lnTo>
                  <a:lnTo>
                    <a:pt x="454" y="2039"/>
                  </a:lnTo>
                  <a:lnTo>
                    <a:pt x="462" y="2046"/>
                  </a:lnTo>
                  <a:lnTo>
                    <a:pt x="462" y="2059"/>
                  </a:lnTo>
                  <a:lnTo>
                    <a:pt x="462" y="2066"/>
                  </a:lnTo>
                  <a:lnTo>
                    <a:pt x="469" y="2073"/>
                  </a:lnTo>
                  <a:lnTo>
                    <a:pt x="469" y="2080"/>
                  </a:lnTo>
                  <a:lnTo>
                    <a:pt x="476" y="2094"/>
                  </a:lnTo>
                  <a:lnTo>
                    <a:pt x="476" y="2100"/>
                  </a:lnTo>
                  <a:lnTo>
                    <a:pt x="476" y="2107"/>
                  </a:lnTo>
                  <a:lnTo>
                    <a:pt x="484" y="2114"/>
                  </a:lnTo>
                  <a:lnTo>
                    <a:pt x="484" y="2128"/>
                  </a:lnTo>
                  <a:lnTo>
                    <a:pt x="484" y="2134"/>
                  </a:lnTo>
                  <a:lnTo>
                    <a:pt x="491" y="2141"/>
                  </a:lnTo>
                  <a:lnTo>
                    <a:pt x="491" y="2148"/>
                  </a:lnTo>
                  <a:lnTo>
                    <a:pt x="491" y="2155"/>
                  </a:lnTo>
                  <a:lnTo>
                    <a:pt x="498" y="2169"/>
                  </a:lnTo>
                  <a:lnTo>
                    <a:pt x="498" y="2175"/>
                  </a:lnTo>
                  <a:lnTo>
                    <a:pt x="506" y="2182"/>
                  </a:lnTo>
                  <a:lnTo>
                    <a:pt x="506" y="2189"/>
                  </a:lnTo>
                  <a:lnTo>
                    <a:pt x="506" y="2196"/>
                  </a:lnTo>
                  <a:lnTo>
                    <a:pt x="513" y="2203"/>
                  </a:lnTo>
                  <a:lnTo>
                    <a:pt x="513" y="2216"/>
                  </a:lnTo>
                  <a:lnTo>
                    <a:pt x="513" y="2223"/>
                  </a:lnTo>
                  <a:lnTo>
                    <a:pt x="520" y="2230"/>
                  </a:lnTo>
                  <a:lnTo>
                    <a:pt x="520" y="2237"/>
                  </a:lnTo>
                  <a:lnTo>
                    <a:pt x="520" y="2244"/>
                  </a:lnTo>
                  <a:lnTo>
                    <a:pt x="528" y="2250"/>
                  </a:lnTo>
                  <a:lnTo>
                    <a:pt x="528" y="2257"/>
                  </a:lnTo>
                  <a:lnTo>
                    <a:pt x="535" y="2271"/>
                  </a:lnTo>
                  <a:lnTo>
                    <a:pt x="535" y="2278"/>
                  </a:lnTo>
                  <a:lnTo>
                    <a:pt x="535" y="2285"/>
                  </a:lnTo>
                  <a:lnTo>
                    <a:pt x="542" y="2291"/>
                  </a:lnTo>
                  <a:lnTo>
                    <a:pt x="542" y="2298"/>
                  </a:lnTo>
                  <a:lnTo>
                    <a:pt x="542" y="2305"/>
                  </a:lnTo>
                  <a:lnTo>
                    <a:pt x="550" y="2312"/>
                  </a:lnTo>
                  <a:lnTo>
                    <a:pt x="550" y="2319"/>
                  </a:lnTo>
                  <a:lnTo>
                    <a:pt x="557" y="2325"/>
                  </a:lnTo>
                  <a:lnTo>
                    <a:pt x="557" y="2332"/>
                  </a:lnTo>
                  <a:lnTo>
                    <a:pt x="557" y="2339"/>
                  </a:lnTo>
                  <a:lnTo>
                    <a:pt x="564" y="2346"/>
                  </a:lnTo>
                  <a:lnTo>
                    <a:pt x="564" y="2353"/>
                  </a:lnTo>
                  <a:lnTo>
                    <a:pt x="564" y="2366"/>
                  </a:lnTo>
                  <a:lnTo>
                    <a:pt x="572" y="2373"/>
                  </a:lnTo>
                  <a:lnTo>
                    <a:pt x="572" y="2380"/>
                  </a:lnTo>
                  <a:lnTo>
                    <a:pt x="572" y="2387"/>
                  </a:lnTo>
                  <a:lnTo>
                    <a:pt x="579" y="2394"/>
                  </a:lnTo>
                  <a:lnTo>
                    <a:pt x="579" y="2400"/>
                  </a:lnTo>
                  <a:lnTo>
                    <a:pt x="586" y="2407"/>
                  </a:lnTo>
                  <a:lnTo>
                    <a:pt x="586" y="2414"/>
                  </a:lnTo>
                  <a:lnTo>
                    <a:pt x="586" y="2421"/>
                  </a:lnTo>
                  <a:lnTo>
                    <a:pt x="594" y="2428"/>
                  </a:lnTo>
                  <a:lnTo>
                    <a:pt x="594" y="2435"/>
                  </a:lnTo>
                  <a:lnTo>
                    <a:pt x="594" y="2441"/>
                  </a:lnTo>
                  <a:lnTo>
                    <a:pt x="601" y="2448"/>
                  </a:lnTo>
                  <a:lnTo>
                    <a:pt x="601" y="2455"/>
                  </a:lnTo>
                  <a:lnTo>
                    <a:pt x="601" y="2462"/>
                  </a:lnTo>
                  <a:lnTo>
                    <a:pt x="608" y="2469"/>
                  </a:lnTo>
                  <a:lnTo>
                    <a:pt x="608" y="2475"/>
                  </a:lnTo>
                  <a:lnTo>
                    <a:pt x="616" y="2475"/>
                  </a:lnTo>
                  <a:lnTo>
                    <a:pt x="616" y="2482"/>
                  </a:lnTo>
                  <a:lnTo>
                    <a:pt x="616" y="2489"/>
                  </a:lnTo>
                  <a:lnTo>
                    <a:pt x="623" y="2496"/>
                  </a:lnTo>
                  <a:lnTo>
                    <a:pt x="623" y="2503"/>
                  </a:lnTo>
                  <a:lnTo>
                    <a:pt x="623" y="2510"/>
                  </a:lnTo>
                  <a:lnTo>
                    <a:pt x="630" y="2516"/>
                  </a:lnTo>
                  <a:lnTo>
                    <a:pt x="630" y="2523"/>
                  </a:lnTo>
                  <a:lnTo>
                    <a:pt x="630" y="2530"/>
                  </a:lnTo>
                  <a:lnTo>
                    <a:pt x="638" y="2537"/>
                  </a:lnTo>
                  <a:lnTo>
                    <a:pt x="638" y="2544"/>
                  </a:lnTo>
                  <a:lnTo>
                    <a:pt x="645" y="2550"/>
                  </a:lnTo>
                  <a:lnTo>
                    <a:pt x="645" y="2557"/>
                  </a:lnTo>
                  <a:lnTo>
                    <a:pt x="652" y="2564"/>
                  </a:lnTo>
                  <a:lnTo>
                    <a:pt x="652" y="2571"/>
                  </a:lnTo>
                  <a:lnTo>
                    <a:pt x="652" y="2578"/>
                  </a:lnTo>
                  <a:lnTo>
                    <a:pt x="660" y="2585"/>
                  </a:lnTo>
                  <a:lnTo>
                    <a:pt x="660" y="2591"/>
                  </a:lnTo>
                  <a:lnTo>
                    <a:pt x="660" y="2598"/>
                  </a:lnTo>
                  <a:lnTo>
                    <a:pt x="667" y="2598"/>
                  </a:lnTo>
                  <a:lnTo>
                    <a:pt x="667" y="2605"/>
                  </a:lnTo>
                  <a:lnTo>
                    <a:pt x="674" y="2612"/>
                  </a:lnTo>
                  <a:lnTo>
                    <a:pt x="674" y="2619"/>
                  </a:lnTo>
                  <a:lnTo>
                    <a:pt x="674" y="2625"/>
                  </a:lnTo>
                  <a:lnTo>
                    <a:pt x="682" y="2632"/>
                  </a:lnTo>
                  <a:lnTo>
                    <a:pt x="682" y="2639"/>
                  </a:lnTo>
                  <a:lnTo>
                    <a:pt x="689" y="2646"/>
                  </a:lnTo>
                  <a:lnTo>
                    <a:pt x="689" y="2653"/>
                  </a:lnTo>
                  <a:lnTo>
                    <a:pt x="696" y="2660"/>
                  </a:lnTo>
                  <a:lnTo>
                    <a:pt x="696" y="2666"/>
                  </a:lnTo>
                  <a:lnTo>
                    <a:pt x="704" y="2673"/>
                  </a:lnTo>
                  <a:lnTo>
                    <a:pt x="704" y="2680"/>
                  </a:lnTo>
                  <a:lnTo>
                    <a:pt x="711" y="2687"/>
                  </a:lnTo>
                  <a:lnTo>
                    <a:pt x="711" y="2694"/>
                  </a:lnTo>
                  <a:lnTo>
                    <a:pt x="711" y="2700"/>
                  </a:lnTo>
                  <a:lnTo>
                    <a:pt x="718" y="2700"/>
                  </a:lnTo>
                  <a:lnTo>
                    <a:pt x="718" y="2707"/>
                  </a:lnTo>
                  <a:lnTo>
                    <a:pt x="726" y="2714"/>
                  </a:lnTo>
                  <a:lnTo>
                    <a:pt x="726" y="2721"/>
                  </a:lnTo>
                  <a:lnTo>
                    <a:pt x="733" y="2728"/>
                  </a:lnTo>
                  <a:lnTo>
                    <a:pt x="733" y="2735"/>
                  </a:lnTo>
                  <a:lnTo>
                    <a:pt x="740" y="2741"/>
                  </a:lnTo>
                  <a:lnTo>
                    <a:pt x="740" y="2748"/>
                  </a:lnTo>
                  <a:lnTo>
                    <a:pt x="748" y="2755"/>
                  </a:lnTo>
                  <a:lnTo>
                    <a:pt x="748" y="2762"/>
                  </a:lnTo>
                  <a:lnTo>
                    <a:pt x="755" y="2762"/>
                  </a:lnTo>
                  <a:lnTo>
                    <a:pt x="755" y="2769"/>
                  </a:lnTo>
                  <a:lnTo>
                    <a:pt x="755" y="2775"/>
                  </a:lnTo>
                  <a:lnTo>
                    <a:pt x="762" y="2775"/>
                  </a:lnTo>
                  <a:lnTo>
                    <a:pt x="762" y="2782"/>
                  </a:lnTo>
                  <a:lnTo>
                    <a:pt x="762" y="2789"/>
                  </a:lnTo>
                  <a:lnTo>
                    <a:pt x="770" y="2789"/>
                  </a:lnTo>
                  <a:lnTo>
                    <a:pt x="770" y="2796"/>
                  </a:lnTo>
                  <a:lnTo>
                    <a:pt x="770" y="2803"/>
                  </a:lnTo>
                  <a:lnTo>
                    <a:pt x="777" y="2803"/>
                  </a:lnTo>
                  <a:lnTo>
                    <a:pt x="777" y="2810"/>
                  </a:lnTo>
                  <a:lnTo>
                    <a:pt x="784" y="2810"/>
                  </a:lnTo>
                  <a:lnTo>
                    <a:pt x="784" y="2816"/>
                  </a:lnTo>
                  <a:lnTo>
                    <a:pt x="784" y="2823"/>
                  </a:lnTo>
                  <a:lnTo>
                    <a:pt x="792" y="2823"/>
                  </a:lnTo>
                  <a:lnTo>
                    <a:pt x="792" y="2830"/>
                  </a:lnTo>
                  <a:lnTo>
                    <a:pt x="799" y="2837"/>
                  </a:lnTo>
                  <a:lnTo>
                    <a:pt x="799" y="2844"/>
                  </a:lnTo>
                  <a:lnTo>
                    <a:pt x="806" y="2851"/>
                  </a:lnTo>
                  <a:lnTo>
                    <a:pt x="814" y="2857"/>
                  </a:lnTo>
                  <a:lnTo>
                    <a:pt x="814" y="2864"/>
                  </a:lnTo>
                  <a:lnTo>
                    <a:pt x="821" y="2864"/>
                  </a:lnTo>
                  <a:lnTo>
                    <a:pt x="821" y="2871"/>
                  </a:lnTo>
                  <a:lnTo>
                    <a:pt x="828" y="2878"/>
                  </a:lnTo>
                  <a:lnTo>
                    <a:pt x="828" y="2885"/>
                  </a:lnTo>
                  <a:lnTo>
                    <a:pt x="836" y="2885"/>
                  </a:lnTo>
                  <a:lnTo>
                    <a:pt x="836" y="2891"/>
                  </a:lnTo>
                  <a:lnTo>
                    <a:pt x="843" y="2891"/>
                  </a:lnTo>
                  <a:lnTo>
                    <a:pt x="843" y="2898"/>
                  </a:lnTo>
                  <a:lnTo>
                    <a:pt x="850" y="2905"/>
                  </a:lnTo>
                  <a:lnTo>
                    <a:pt x="850" y="2912"/>
                  </a:lnTo>
                  <a:lnTo>
                    <a:pt x="858" y="2912"/>
                  </a:lnTo>
                  <a:lnTo>
                    <a:pt x="858" y="2919"/>
                  </a:lnTo>
                  <a:lnTo>
                    <a:pt x="865" y="2919"/>
                  </a:lnTo>
                  <a:lnTo>
                    <a:pt x="865" y="2926"/>
                  </a:lnTo>
                  <a:lnTo>
                    <a:pt x="872" y="2926"/>
                  </a:lnTo>
                  <a:lnTo>
                    <a:pt x="872" y="2932"/>
                  </a:lnTo>
                  <a:lnTo>
                    <a:pt x="880" y="2939"/>
                  </a:lnTo>
                  <a:lnTo>
                    <a:pt x="880" y="2946"/>
                  </a:lnTo>
                  <a:lnTo>
                    <a:pt x="887" y="2946"/>
                  </a:lnTo>
                  <a:lnTo>
                    <a:pt x="894" y="2953"/>
                  </a:lnTo>
                  <a:lnTo>
                    <a:pt x="902" y="2960"/>
                  </a:lnTo>
                  <a:lnTo>
                    <a:pt x="902" y="2966"/>
                  </a:lnTo>
                  <a:lnTo>
                    <a:pt x="909" y="2966"/>
                  </a:lnTo>
                  <a:lnTo>
                    <a:pt x="909" y="2973"/>
                  </a:lnTo>
                  <a:lnTo>
                    <a:pt x="916" y="2973"/>
                  </a:lnTo>
                  <a:lnTo>
                    <a:pt x="924" y="2980"/>
                  </a:lnTo>
                  <a:lnTo>
                    <a:pt x="931" y="2987"/>
                  </a:lnTo>
                  <a:lnTo>
                    <a:pt x="938" y="2987"/>
                  </a:lnTo>
                  <a:lnTo>
                    <a:pt x="938" y="2994"/>
                  </a:lnTo>
                  <a:lnTo>
                    <a:pt x="946" y="2994"/>
                  </a:lnTo>
                  <a:lnTo>
                    <a:pt x="946" y="3001"/>
                  </a:lnTo>
                  <a:lnTo>
                    <a:pt x="953" y="3001"/>
                  </a:lnTo>
                  <a:lnTo>
                    <a:pt x="960" y="3007"/>
                  </a:lnTo>
                  <a:lnTo>
                    <a:pt x="968" y="3007"/>
                  </a:lnTo>
                  <a:lnTo>
                    <a:pt x="968" y="3014"/>
                  </a:lnTo>
                  <a:lnTo>
                    <a:pt x="975" y="3014"/>
                  </a:lnTo>
                  <a:lnTo>
                    <a:pt x="982" y="3014"/>
                  </a:lnTo>
                  <a:lnTo>
                    <a:pt x="982" y="3021"/>
                  </a:lnTo>
                  <a:lnTo>
                    <a:pt x="989" y="3021"/>
                  </a:lnTo>
                  <a:lnTo>
                    <a:pt x="997" y="3021"/>
                  </a:lnTo>
                  <a:lnTo>
                    <a:pt x="997" y="3028"/>
                  </a:lnTo>
                  <a:lnTo>
                    <a:pt x="1004" y="3028"/>
                  </a:lnTo>
                  <a:lnTo>
                    <a:pt x="1011" y="3028"/>
                  </a:lnTo>
                  <a:lnTo>
                    <a:pt x="1019" y="3035"/>
                  </a:lnTo>
                  <a:lnTo>
                    <a:pt x="1026" y="3035"/>
                  </a:lnTo>
                  <a:lnTo>
                    <a:pt x="1033" y="3035"/>
                  </a:lnTo>
                  <a:lnTo>
                    <a:pt x="1041" y="3035"/>
                  </a:lnTo>
                  <a:lnTo>
                    <a:pt x="1041" y="3041"/>
                  </a:lnTo>
                  <a:lnTo>
                    <a:pt x="1048" y="3041"/>
                  </a:lnTo>
                  <a:lnTo>
                    <a:pt x="1055" y="3041"/>
                  </a:lnTo>
                  <a:lnTo>
                    <a:pt x="1063" y="3041"/>
                  </a:lnTo>
                  <a:lnTo>
                    <a:pt x="1070" y="3041"/>
                  </a:lnTo>
                  <a:lnTo>
                    <a:pt x="1077" y="3041"/>
                  </a:lnTo>
                  <a:lnTo>
                    <a:pt x="1085" y="3041"/>
                  </a:lnTo>
                  <a:lnTo>
                    <a:pt x="1092" y="3041"/>
                  </a:lnTo>
                  <a:lnTo>
                    <a:pt x="1099" y="3041"/>
                  </a:lnTo>
                  <a:lnTo>
                    <a:pt x="1107" y="3041"/>
                  </a:lnTo>
                  <a:lnTo>
                    <a:pt x="1114" y="3041"/>
                  </a:lnTo>
                  <a:lnTo>
                    <a:pt x="1114" y="3035"/>
                  </a:lnTo>
                  <a:lnTo>
                    <a:pt x="1121" y="3035"/>
                  </a:lnTo>
                  <a:lnTo>
                    <a:pt x="1129" y="3035"/>
                  </a:lnTo>
                  <a:lnTo>
                    <a:pt x="1136" y="3035"/>
                  </a:lnTo>
                  <a:lnTo>
                    <a:pt x="1143" y="3028"/>
                  </a:lnTo>
                  <a:lnTo>
                    <a:pt x="1151" y="3028"/>
                  </a:lnTo>
                  <a:lnTo>
                    <a:pt x="1158" y="3028"/>
                  </a:lnTo>
                  <a:lnTo>
                    <a:pt x="1158" y="3021"/>
                  </a:lnTo>
                  <a:lnTo>
                    <a:pt x="1165" y="3021"/>
                  </a:lnTo>
                  <a:lnTo>
                    <a:pt x="1173" y="3021"/>
                  </a:lnTo>
                  <a:lnTo>
                    <a:pt x="1173" y="3014"/>
                  </a:lnTo>
                  <a:lnTo>
                    <a:pt x="1180" y="3014"/>
                  </a:lnTo>
                  <a:lnTo>
                    <a:pt x="1187" y="3014"/>
                  </a:lnTo>
                  <a:lnTo>
                    <a:pt x="1187" y="3007"/>
                  </a:lnTo>
                  <a:lnTo>
                    <a:pt x="1195" y="3007"/>
                  </a:lnTo>
                  <a:lnTo>
                    <a:pt x="1202" y="3001"/>
                  </a:lnTo>
                  <a:lnTo>
                    <a:pt x="1209" y="3001"/>
                  </a:lnTo>
                  <a:lnTo>
                    <a:pt x="1209" y="2994"/>
                  </a:lnTo>
                  <a:lnTo>
                    <a:pt x="1217" y="2994"/>
                  </a:lnTo>
                  <a:lnTo>
                    <a:pt x="1217" y="2987"/>
                  </a:lnTo>
                  <a:lnTo>
                    <a:pt x="1224" y="2987"/>
                  </a:lnTo>
                  <a:lnTo>
                    <a:pt x="1231" y="2980"/>
                  </a:lnTo>
                  <a:lnTo>
                    <a:pt x="1239" y="2973"/>
                  </a:lnTo>
                  <a:lnTo>
                    <a:pt x="1246" y="2966"/>
                  </a:lnTo>
                  <a:lnTo>
                    <a:pt x="1253" y="2960"/>
                  </a:lnTo>
                  <a:lnTo>
                    <a:pt x="1261" y="2960"/>
                  </a:lnTo>
                  <a:lnTo>
                    <a:pt x="1261" y="2953"/>
                  </a:lnTo>
                  <a:lnTo>
                    <a:pt x="1268" y="2953"/>
                  </a:lnTo>
                  <a:lnTo>
                    <a:pt x="1268" y="2946"/>
                  </a:lnTo>
                  <a:lnTo>
                    <a:pt x="1275" y="2939"/>
                  </a:lnTo>
                  <a:lnTo>
                    <a:pt x="1283" y="2932"/>
                  </a:lnTo>
                  <a:lnTo>
                    <a:pt x="1290" y="2926"/>
                  </a:lnTo>
                  <a:lnTo>
                    <a:pt x="1290" y="2919"/>
                  </a:lnTo>
                  <a:lnTo>
                    <a:pt x="1297" y="2919"/>
                  </a:lnTo>
                  <a:lnTo>
                    <a:pt x="1297" y="2912"/>
                  </a:lnTo>
                  <a:lnTo>
                    <a:pt x="1305" y="2912"/>
                  </a:lnTo>
                  <a:lnTo>
                    <a:pt x="1305" y="2905"/>
                  </a:lnTo>
                  <a:lnTo>
                    <a:pt x="1312" y="2905"/>
                  </a:lnTo>
                  <a:lnTo>
                    <a:pt x="1312" y="2898"/>
                  </a:lnTo>
                  <a:lnTo>
                    <a:pt x="1319" y="2891"/>
                  </a:lnTo>
                  <a:lnTo>
                    <a:pt x="1319" y="2885"/>
                  </a:lnTo>
                  <a:lnTo>
                    <a:pt x="1327" y="2885"/>
                  </a:lnTo>
                  <a:lnTo>
                    <a:pt x="1327" y="2878"/>
                  </a:lnTo>
                  <a:lnTo>
                    <a:pt x="1334" y="2871"/>
                  </a:lnTo>
                  <a:lnTo>
                    <a:pt x="1341" y="2864"/>
                  </a:lnTo>
                  <a:lnTo>
                    <a:pt x="1341" y="2857"/>
                  </a:lnTo>
                </a:path>
              </a:pathLst>
            </a:custGeom>
            <a:noFill/>
            <a:ln w="39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19200" y="8640"/>
              <a:ext cx="2189160" cy="3665880"/>
            </a:xfrm>
            <a:custGeom>
              <a:avLst/>
              <a:gdLst/>
              <a:ahLst/>
              <a:rect l="l" t="t" r="r" b="b"/>
              <a:pathLst>
                <a:path w="814" h="2850">
                  <a:moveTo>
                    <a:pt x="0" y="2850"/>
                  </a:moveTo>
                  <a:lnTo>
                    <a:pt x="8" y="2850"/>
                  </a:lnTo>
                  <a:lnTo>
                    <a:pt x="8" y="2844"/>
                  </a:lnTo>
                  <a:lnTo>
                    <a:pt x="8" y="2837"/>
                  </a:lnTo>
                  <a:lnTo>
                    <a:pt x="15" y="2837"/>
                  </a:lnTo>
                  <a:lnTo>
                    <a:pt x="15" y="2830"/>
                  </a:lnTo>
                  <a:lnTo>
                    <a:pt x="22" y="2823"/>
                  </a:lnTo>
                  <a:lnTo>
                    <a:pt x="30" y="2816"/>
                  </a:lnTo>
                  <a:lnTo>
                    <a:pt x="30" y="2809"/>
                  </a:lnTo>
                  <a:lnTo>
                    <a:pt x="37" y="2803"/>
                  </a:lnTo>
                  <a:lnTo>
                    <a:pt x="37" y="2796"/>
                  </a:lnTo>
                  <a:lnTo>
                    <a:pt x="44" y="2789"/>
                  </a:lnTo>
                  <a:lnTo>
                    <a:pt x="44" y="2782"/>
                  </a:lnTo>
                  <a:lnTo>
                    <a:pt x="52" y="2775"/>
                  </a:lnTo>
                  <a:lnTo>
                    <a:pt x="59" y="2768"/>
                  </a:lnTo>
                  <a:lnTo>
                    <a:pt x="59" y="2762"/>
                  </a:lnTo>
                  <a:lnTo>
                    <a:pt x="66" y="2755"/>
                  </a:lnTo>
                  <a:lnTo>
                    <a:pt x="66" y="2748"/>
                  </a:lnTo>
                  <a:lnTo>
                    <a:pt x="74" y="2741"/>
                  </a:lnTo>
                  <a:lnTo>
                    <a:pt x="74" y="2734"/>
                  </a:lnTo>
                  <a:lnTo>
                    <a:pt x="81" y="2728"/>
                  </a:lnTo>
                  <a:lnTo>
                    <a:pt x="81" y="2721"/>
                  </a:lnTo>
                  <a:lnTo>
                    <a:pt x="88" y="2721"/>
                  </a:lnTo>
                  <a:lnTo>
                    <a:pt x="88" y="2714"/>
                  </a:lnTo>
                  <a:lnTo>
                    <a:pt x="88" y="2707"/>
                  </a:lnTo>
                  <a:lnTo>
                    <a:pt x="96" y="2700"/>
                  </a:lnTo>
                  <a:lnTo>
                    <a:pt x="96" y="2693"/>
                  </a:lnTo>
                  <a:lnTo>
                    <a:pt x="103" y="2687"/>
                  </a:lnTo>
                  <a:lnTo>
                    <a:pt x="103" y="2680"/>
                  </a:lnTo>
                  <a:lnTo>
                    <a:pt x="110" y="2680"/>
                  </a:lnTo>
                  <a:lnTo>
                    <a:pt x="110" y="2673"/>
                  </a:lnTo>
                  <a:lnTo>
                    <a:pt x="110" y="2666"/>
                  </a:lnTo>
                  <a:lnTo>
                    <a:pt x="118" y="2659"/>
                  </a:lnTo>
                  <a:lnTo>
                    <a:pt x="118" y="2653"/>
                  </a:lnTo>
                  <a:lnTo>
                    <a:pt x="125" y="2646"/>
                  </a:lnTo>
                  <a:lnTo>
                    <a:pt x="125" y="2639"/>
                  </a:lnTo>
                  <a:lnTo>
                    <a:pt x="132" y="2632"/>
                  </a:lnTo>
                  <a:lnTo>
                    <a:pt x="132" y="2625"/>
                  </a:lnTo>
                  <a:lnTo>
                    <a:pt x="140" y="2618"/>
                  </a:lnTo>
                  <a:lnTo>
                    <a:pt x="140" y="2612"/>
                  </a:lnTo>
                  <a:lnTo>
                    <a:pt x="140" y="2605"/>
                  </a:lnTo>
                  <a:lnTo>
                    <a:pt x="147" y="2605"/>
                  </a:lnTo>
                  <a:lnTo>
                    <a:pt x="147" y="2598"/>
                  </a:lnTo>
                  <a:lnTo>
                    <a:pt x="147" y="2591"/>
                  </a:lnTo>
                  <a:lnTo>
                    <a:pt x="154" y="2584"/>
                  </a:lnTo>
                  <a:lnTo>
                    <a:pt x="154" y="2578"/>
                  </a:lnTo>
                  <a:lnTo>
                    <a:pt x="154" y="2571"/>
                  </a:lnTo>
                  <a:lnTo>
                    <a:pt x="162" y="2571"/>
                  </a:lnTo>
                  <a:lnTo>
                    <a:pt x="162" y="2564"/>
                  </a:lnTo>
                  <a:lnTo>
                    <a:pt x="169" y="2557"/>
                  </a:lnTo>
                  <a:lnTo>
                    <a:pt x="169" y="2550"/>
                  </a:lnTo>
                  <a:lnTo>
                    <a:pt x="169" y="2543"/>
                  </a:lnTo>
                  <a:lnTo>
                    <a:pt x="176" y="2537"/>
                  </a:lnTo>
                  <a:lnTo>
                    <a:pt x="176" y="2530"/>
                  </a:lnTo>
                  <a:lnTo>
                    <a:pt x="176" y="2523"/>
                  </a:lnTo>
                  <a:lnTo>
                    <a:pt x="184" y="2516"/>
                  </a:lnTo>
                  <a:lnTo>
                    <a:pt x="184" y="2509"/>
                  </a:lnTo>
                  <a:lnTo>
                    <a:pt x="191" y="2503"/>
                  </a:lnTo>
                  <a:lnTo>
                    <a:pt x="191" y="2496"/>
                  </a:lnTo>
                  <a:lnTo>
                    <a:pt x="198" y="2489"/>
                  </a:lnTo>
                  <a:lnTo>
                    <a:pt x="198" y="2482"/>
                  </a:lnTo>
                  <a:lnTo>
                    <a:pt x="198" y="2475"/>
                  </a:lnTo>
                  <a:lnTo>
                    <a:pt x="206" y="2468"/>
                  </a:lnTo>
                  <a:lnTo>
                    <a:pt x="206" y="2462"/>
                  </a:lnTo>
                  <a:lnTo>
                    <a:pt x="206" y="2455"/>
                  </a:lnTo>
                  <a:lnTo>
                    <a:pt x="213" y="2448"/>
                  </a:lnTo>
                  <a:lnTo>
                    <a:pt x="213" y="2441"/>
                  </a:lnTo>
                  <a:lnTo>
                    <a:pt x="213" y="2434"/>
                  </a:lnTo>
                  <a:lnTo>
                    <a:pt x="220" y="2428"/>
                  </a:lnTo>
                  <a:lnTo>
                    <a:pt x="220" y="2421"/>
                  </a:lnTo>
                  <a:lnTo>
                    <a:pt x="228" y="2414"/>
                  </a:lnTo>
                  <a:lnTo>
                    <a:pt x="228" y="2407"/>
                  </a:lnTo>
                  <a:lnTo>
                    <a:pt x="228" y="2400"/>
                  </a:lnTo>
                  <a:lnTo>
                    <a:pt x="235" y="2393"/>
                  </a:lnTo>
                  <a:lnTo>
                    <a:pt x="235" y="2387"/>
                  </a:lnTo>
                  <a:lnTo>
                    <a:pt x="235" y="2380"/>
                  </a:lnTo>
                  <a:lnTo>
                    <a:pt x="242" y="2373"/>
                  </a:lnTo>
                  <a:lnTo>
                    <a:pt x="242" y="2366"/>
                  </a:lnTo>
                  <a:lnTo>
                    <a:pt x="242" y="2359"/>
                  </a:lnTo>
                  <a:lnTo>
                    <a:pt x="250" y="2353"/>
                  </a:lnTo>
                  <a:lnTo>
                    <a:pt x="250" y="2346"/>
                  </a:lnTo>
                  <a:lnTo>
                    <a:pt x="257" y="2339"/>
                  </a:lnTo>
                  <a:lnTo>
                    <a:pt x="257" y="2332"/>
                  </a:lnTo>
                  <a:lnTo>
                    <a:pt x="257" y="2325"/>
                  </a:lnTo>
                  <a:lnTo>
                    <a:pt x="264" y="2318"/>
                  </a:lnTo>
                  <a:lnTo>
                    <a:pt x="264" y="2312"/>
                  </a:lnTo>
                  <a:lnTo>
                    <a:pt x="264" y="2305"/>
                  </a:lnTo>
                  <a:lnTo>
                    <a:pt x="272" y="2291"/>
                  </a:lnTo>
                  <a:lnTo>
                    <a:pt x="272" y="2284"/>
                  </a:lnTo>
                  <a:lnTo>
                    <a:pt x="279" y="2278"/>
                  </a:lnTo>
                  <a:lnTo>
                    <a:pt x="279" y="2271"/>
                  </a:lnTo>
                  <a:lnTo>
                    <a:pt x="279" y="2264"/>
                  </a:lnTo>
                  <a:lnTo>
                    <a:pt x="286" y="2257"/>
                  </a:lnTo>
                  <a:lnTo>
                    <a:pt x="286" y="2250"/>
                  </a:lnTo>
                  <a:lnTo>
                    <a:pt x="286" y="2243"/>
                  </a:lnTo>
                  <a:lnTo>
                    <a:pt x="293" y="2237"/>
                  </a:lnTo>
                  <a:lnTo>
                    <a:pt x="293" y="2223"/>
                  </a:lnTo>
                  <a:lnTo>
                    <a:pt x="293" y="2216"/>
                  </a:lnTo>
                  <a:lnTo>
                    <a:pt x="301" y="2209"/>
                  </a:lnTo>
                  <a:lnTo>
                    <a:pt x="301" y="2203"/>
                  </a:lnTo>
                  <a:lnTo>
                    <a:pt x="308" y="2196"/>
                  </a:lnTo>
                  <a:lnTo>
                    <a:pt x="308" y="2189"/>
                  </a:lnTo>
                  <a:lnTo>
                    <a:pt x="308" y="2175"/>
                  </a:lnTo>
                  <a:lnTo>
                    <a:pt x="315" y="2168"/>
                  </a:lnTo>
                  <a:lnTo>
                    <a:pt x="315" y="2162"/>
                  </a:lnTo>
                  <a:lnTo>
                    <a:pt x="315" y="2155"/>
                  </a:lnTo>
                  <a:lnTo>
                    <a:pt x="323" y="2148"/>
                  </a:lnTo>
                  <a:lnTo>
                    <a:pt x="323" y="2141"/>
                  </a:lnTo>
                  <a:lnTo>
                    <a:pt x="323" y="2127"/>
                  </a:lnTo>
                  <a:lnTo>
                    <a:pt x="330" y="2121"/>
                  </a:lnTo>
                  <a:lnTo>
                    <a:pt x="330" y="2114"/>
                  </a:lnTo>
                  <a:lnTo>
                    <a:pt x="337" y="2107"/>
                  </a:lnTo>
                  <a:lnTo>
                    <a:pt x="337" y="2093"/>
                  </a:lnTo>
                  <a:lnTo>
                    <a:pt x="337" y="2087"/>
                  </a:lnTo>
                  <a:lnTo>
                    <a:pt x="345" y="2080"/>
                  </a:lnTo>
                  <a:lnTo>
                    <a:pt x="345" y="2073"/>
                  </a:lnTo>
                  <a:lnTo>
                    <a:pt x="345" y="2066"/>
                  </a:lnTo>
                  <a:lnTo>
                    <a:pt x="352" y="2052"/>
                  </a:lnTo>
                  <a:lnTo>
                    <a:pt x="352" y="2046"/>
                  </a:lnTo>
                  <a:lnTo>
                    <a:pt x="352" y="2039"/>
                  </a:lnTo>
                  <a:lnTo>
                    <a:pt x="359" y="2032"/>
                  </a:lnTo>
                  <a:lnTo>
                    <a:pt x="359" y="2018"/>
                  </a:lnTo>
                  <a:lnTo>
                    <a:pt x="367" y="2012"/>
                  </a:lnTo>
                  <a:lnTo>
                    <a:pt x="367" y="2005"/>
                  </a:lnTo>
                  <a:lnTo>
                    <a:pt x="367" y="1991"/>
                  </a:lnTo>
                  <a:lnTo>
                    <a:pt x="374" y="1984"/>
                  </a:lnTo>
                  <a:lnTo>
                    <a:pt x="374" y="1977"/>
                  </a:lnTo>
                  <a:lnTo>
                    <a:pt x="374" y="1964"/>
                  </a:lnTo>
                  <a:lnTo>
                    <a:pt x="381" y="1957"/>
                  </a:lnTo>
                  <a:lnTo>
                    <a:pt x="381" y="1950"/>
                  </a:lnTo>
                  <a:lnTo>
                    <a:pt x="381" y="1943"/>
                  </a:lnTo>
                  <a:lnTo>
                    <a:pt x="389" y="1930"/>
                  </a:lnTo>
                  <a:lnTo>
                    <a:pt x="389" y="1923"/>
                  </a:lnTo>
                  <a:lnTo>
                    <a:pt x="396" y="1916"/>
                  </a:lnTo>
                  <a:lnTo>
                    <a:pt x="396" y="1902"/>
                  </a:lnTo>
                  <a:lnTo>
                    <a:pt x="396" y="1896"/>
                  </a:lnTo>
                  <a:lnTo>
                    <a:pt x="403" y="1882"/>
                  </a:lnTo>
                  <a:lnTo>
                    <a:pt x="403" y="1875"/>
                  </a:lnTo>
                  <a:lnTo>
                    <a:pt x="403" y="1868"/>
                  </a:lnTo>
                  <a:lnTo>
                    <a:pt x="411" y="1855"/>
                  </a:lnTo>
                  <a:lnTo>
                    <a:pt x="411" y="1848"/>
                  </a:lnTo>
                  <a:lnTo>
                    <a:pt x="418" y="1841"/>
                  </a:lnTo>
                  <a:lnTo>
                    <a:pt x="418" y="1827"/>
                  </a:lnTo>
                  <a:lnTo>
                    <a:pt x="418" y="1821"/>
                  </a:lnTo>
                  <a:lnTo>
                    <a:pt x="425" y="1807"/>
                  </a:lnTo>
                  <a:lnTo>
                    <a:pt x="425" y="1800"/>
                  </a:lnTo>
                  <a:lnTo>
                    <a:pt x="425" y="1793"/>
                  </a:lnTo>
                  <a:lnTo>
                    <a:pt x="433" y="1780"/>
                  </a:lnTo>
                  <a:lnTo>
                    <a:pt x="433" y="1773"/>
                  </a:lnTo>
                  <a:lnTo>
                    <a:pt x="433" y="1759"/>
                  </a:lnTo>
                  <a:lnTo>
                    <a:pt x="440" y="1752"/>
                  </a:lnTo>
                  <a:lnTo>
                    <a:pt x="440" y="1746"/>
                  </a:lnTo>
                  <a:lnTo>
                    <a:pt x="447" y="1732"/>
                  </a:lnTo>
                  <a:lnTo>
                    <a:pt x="447" y="1725"/>
                  </a:lnTo>
                  <a:lnTo>
                    <a:pt x="447" y="1712"/>
                  </a:lnTo>
                  <a:lnTo>
                    <a:pt x="455" y="1705"/>
                  </a:lnTo>
                  <a:lnTo>
                    <a:pt x="455" y="1691"/>
                  </a:lnTo>
                  <a:lnTo>
                    <a:pt x="455" y="1684"/>
                  </a:lnTo>
                  <a:lnTo>
                    <a:pt x="462" y="1671"/>
                  </a:lnTo>
                  <a:lnTo>
                    <a:pt x="462" y="1664"/>
                  </a:lnTo>
                  <a:lnTo>
                    <a:pt x="462" y="1650"/>
                  </a:lnTo>
                  <a:lnTo>
                    <a:pt x="469" y="1643"/>
                  </a:lnTo>
                  <a:lnTo>
                    <a:pt x="469" y="1630"/>
                  </a:lnTo>
                  <a:lnTo>
                    <a:pt x="477" y="1623"/>
                  </a:lnTo>
                  <a:lnTo>
                    <a:pt x="477" y="1609"/>
                  </a:lnTo>
                  <a:lnTo>
                    <a:pt x="477" y="1602"/>
                  </a:lnTo>
                  <a:lnTo>
                    <a:pt x="484" y="1589"/>
                  </a:lnTo>
                  <a:lnTo>
                    <a:pt x="484" y="1582"/>
                  </a:lnTo>
                  <a:lnTo>
                    <a:pt x="484" y="1568"/>
                  </a:lnTo>
                  <a:lnTo>
                    <a:pt x="491" y="1561"/>
                  </a:lnTo>
                  <a:lnTo>
                    <a:pt x="491" y="1548"/>
                  </a:lnTo>
                  <a:lnTo>
                    <a:pt x="491" y="1541"/>
                  </a:lnTo>
                  <a:lnTo>
                    <a:pt x="499" y="1527"/>
                  </a:lnTo>
                  <a:lnTo>
                    <a:pt x="499" y="1521"/>
                  </a:lnTo>
                  <a:lnTo>
                    <a:pt x="506" y="1507"/>
                  </a:lnTo>
                  <a:lnTo>
                    <a:pt x="506" y="1493"/>
                  </a:lnTo>
                  <a:lnTo>
                    <a:pt x="506" y="1486"/>
                  </a:lnTo>
                  <a:lnTo>
                    <a:pt x="513" y="1473"/>
                  </a:lnTo>
                  <a:lnTo>
                    <a:pt x="513" y="1466"/>
                  </a:lnTo>
                  <a:lnTo>
                    <a:pt x="513" y="1452"/>
                  </a:lnTo>
                  <a:lnTo>
                    <a:pt x="521" y="1439"/>
                  </a:lnTo>
                  <a:lnTo>
                    <a:pt x="521" y="1432"/>
                  </a:lnTo>
                  <a:lnTo>
                    <a:pt x="521" y="1418"/>
                  </a:lnTo>
                  <a:lnTo>
                    <a:pt x="528" y="1411"/>
                  </a:lnTo>
                  <a:lnTo>
                    <a:pt x="528" y="1398"/>
                  </a:lnTo>
                  <a:lnTo>
                    <a:pt x="535" y="1384"/>
                  </a:lnTo>
                  <a:lnTo>
                    <a:pt x="535" y="1377"/>
                  </a:lnTo>
                  <a:lnTo>
                    <a:pt x="535" y="1364"/>
                  </a:lnTo>
                  <a:lnTo>
                    <a:pt x="543" y="1350"/>
                  </a:lnTo>
                  <a:lnTo>
                    <a:pt x="543" y="1343"/>
                  </a:lnTo>
                  <a:lnTo>
                    <a:pt x="543" y="1330"/>
                  </a:lnTo>
                  <a:lnTo>
                    <a:pt x="550" y="1323"/>
                  </a:lnTo>
                  <a:lnTo>
                    <a:pt x="550" y="1309"/>
                  </a:lnTo>
                  <a:lnTo>
                    <a:pt x="550" y="1296"/>
                  </a:lnTo>
                  <a:lnTo>
                    <a:pt x="557" y="1289"/>
                  </a:lnTo>
                  <a:lnTo>
                    <a:pt x="557" y="1275"/>
                  </a:lnTo>
                  <a:lnTo>
                    <a:pt x="565" y="1261"/>
                  </a:lnTo>
                  <a:lnTo>
                    <a:pt x="565" y="1248"/>
                  </a:lnTo>
                  <a:lnTo>
                    <a:pt x="565" y="1241"/>
                  </a:lnTo>
                  <a:lnTo>
                    <a:pt x="572" y="1227"/>
                  </a:lnTo>
                  <a:lnTo>
                    <a:pt x="572" y="1214"/>
                  </a:lnTo>
                  <a:lnTo>
                    <a:pt x="572" y="1207"/>
                  </a:lnTo>
                  <a:lnTo>
                    <a:pt x="579" y="1193"/>
                  </a:lnTo>
                  <a:lnTo>
                    <a:pt x="579" y="1180"/>
                  </a:lnTo>
                  <a:lnTo>
                    <a:pt x="587" y="1173"/>
                  </a:lnTo>
                  <a:lnTo>
                    <a:pt x="587" y="1159"/>
                  </a:lnTo>
                  <a:lnTo>
                    <a:pt x="587" y="1146"/>
                  </a:lnTo>
                  <a:lnTo>
                    <a:pt x="594" y="1132"/>
                  </a:lnTo>
                  <a:lnTo>
                    <a:pt x="594" y="1125"/>
                  </a:lnTo>
                  <a:lnTo>
                    <a:pt x="594" y="1111"/>
                  </a:lnTo>
                  <a:lnTo>
                    <a:pt x="601" y="1098"/>
                  </a:lnTo>
                  <a:lnTo>
                    <a:pt x="601" y="1084"/>
                  </a:lnTo>
                  <a:lnTo>
                    <a:pt x="601" y="1077"/>
                  </a:lnTo>
                  <a:lnTo>
                    <a:pt x="609" y="1064"/>
                  </a:lnTo>
                  <a:lnTo>
                    <a:pt x="609" y="1050"/>
                  </a:lnTo>
                  <a:lnTo>
                    <a:pt x="616" y="1036"/>
                  </a:lnTo>
                  <a:lnTo>
                    <a:pt x="616" y="1023"/>
                  </a:lnTo>
                  <a:lnTo>
                    <a:pt x="616" y="1016"/>
                  </a:lnTo>
                  <a:lnTo>
                    <a:pt x="623" y="1002"/>
                  </a:lnTo>
                  <a:lnTo>
                    <a:pt x="623" y="989"/>
                  </a:lnTo>
                  <a:lnTo>
                    <a:pt x="623" y="975"/>
                  </a:lnTo>
                  <a:lnTo>
                    <a:pt x="631" y="961"/>
                  </a:lnTo>
                  <a:lnTo>
                    <a:pt x="631" y="955"/>
                  </a:lnTo>
                  <a:lnTo>
                    <a:pt x="631" y="941"/>
                  </a:lnTo>
                  <a:lnTo>
                    <a:pt x="638" y="927"/>
                  </a:lnTo>
                  <a:lnTo>
                    <a:pt x="638" y="914"/>
                  </a:lnTo>
                  <a:lnTo>
                    <a:pt x="645" y="900"/>
                  </a:lnTo>
                  <a:lnTo>
                    <a:pt x="645" y="886"/>
                  </a:lnTo>
                  <a:lnTo>
                    <a:pt x="645" y="873"/>
                  </a:lnTo>
                  <a:lnTo>
                    <a:pt x="653" y="866"/>
                  </a:lnTo>
                  <a:lnTo>
                    <a:pt x="653" y="852"/>
                  </a:lnTo>
                  <a:lnTo>
                    <a:pt x="653" y="839"/>
                  </a:lnTo>
                  <a:lnTo>
                    <a:pt x="660" y="825"/>
                  </a:lnTo>
                  <a:lnTo>
                    <a:pt x="660" y="811"/>
                  </a:lnTo>
                  <a:lnTo>
                    <a:pt x="660" y="798"/>
                  </a:lnTo>
                  <a:lnTo>
                    <a:pt x="667" y="784"/>
                  </a:lnTo>
                  <a:lnTo>
                    <a:pt x="667" y="770"/>
                  </a:lnTo>
                  <a:lnTo>
                    <a:pt x="675" y="757"/>
                  </a:lnTo>
                  <a:lnTo>
                    <a:pt x="675" y="750"/>
                  </a:lnTo>
                  <a:lnTo>
                    <a:pt x="675" y="736"/>
                  </a:lnTo>
                  <a:lnTo>
                    <a:pt x="682" y="723"/>
                  </a:lnTo>
                  <a:lnTo>
                    <a:pt x="682" y="709"/>
                  </a:lnTo>
                  <a:lnTo>
                    <a:pt x="682" y="695"/>
                  </a:lnTo>
                  <a:lnTo>
                    <a:pt x="689" y="682"/>
                  </a:lnTo>
                  <a:lnTo>
                    <a:pt x="689" y="668"/>
                  </a:lnTo>
                  <a:lnTo>
                    <a:pt x="689" y="655"/>
                  </a:lnTo>
                  <a:lnTo>
                    <a:pt x="697" y="641"/>
                  </a:lnTo>
                  <a:lnTo>
                    <a:pt x="697" y="627"/>
                  </a:lnTo>
                  <a:lnTo>
                    <a:pt x="704" y="614"/>
                  </a:lnTo>
                  <a:lnTo>
                    <a:pt x="704" y="600"/>
                  </a:lnTo>
                  <a:lnTo>
                    <a:pt x="704" y="586"/>
                  </a:lnTo>
                  <a:lnTo>
                    <a:pt x="711" y="573"/>
                  </a:lnTo>
                  <a:lnTo>
                    <a:pt x="711" y="559"/>
                  </a:lnTo>
                  <a:lnTo>
                    <a:pt x="711" y="545"/>
                  </a:lnTo>
                  <a:lnTo>
                    <a:pt x="719" y="532"/>
                  </a:lnTo>
                  <a:lnTo>
                    <a:pt x="719" y="518"/>
                  </a:lnTo>
                  <a:lnTo>
                    <a:pt x="726" y="505"/>
                  </a:lnTo>
                  <a:lnTo>
                    <a:pt x="726" y="491"/>
                  </a:lnTo>
                  <a:lnTo>
                    <a:pt x="726" y="477"/>
                  </a:lnTo>
                  <a:lnTo>
                    <a:pt x="733" y="464"/>
                  </a:lnTo>
                  <a:lnTo>
                    <a:pt x="733" y="450"/>
                  </a:lnTo>
                  <a:lnTo>
                    <a:pt x="733" y="436"/>
                  </a:lnTo>
                  <a:lnTo>
                    <a:pt x="741" y="423"/>
                  </a:lnTo>
                  <a:lnTo>
                    <a:pt x="741" y="409"/>
                  </a:lnTo>
                  <a:lnTo>
                    <a:pt x="741" y="395"/>
                  </a:lnTo>
                  <a:lnTo>
                    <a:pt x="748" y="382"/>
                  </a:lnTo>
                  <a:lnTo>
                    <a:pt x="748" y="368"/>
                  </a:lnTo>
                  <a:lnTo>
                    <a:pt x="755" y="355"/>
                  </a:lnTo>
                  <a:lnTo>
                    <a:pt x="755" y="341"/>
                  </a:lnTo>
                  <a:lnTo>
                    <a:pt x="755" y="327"/>
                  </a:lnTo>
                  <a:lnTo>
                    <a:pt x="763" y="307"/>
                  </a:lnTo>
                  <a:lnTo>
                    <a:pt x="763" y="293"/>
                  </a:lnTo>
                  <a:lnTo>
                    <a:pt x="763" y="279"/>
                  </a:lnTo>
                  <a:lnTo>
                    <a:pt x="770" y="266"/>
                  </a:lnTo>
                  <a:lnTo>
                    <a:pt x="770" y="252"/>
                  </a:lnTo>
                  <a:lnTo>
                    <a:pt x="770" y="239"/>
                  </a:lnTo>
                  <a:lnTo>
                    <a:pt x="777" y="225"/>
                  </a:lnTo>
                  <a:lnTo>
                    <a:pt x="777" y="211"/>
                  </a:lnTo>
                  <a:lnTo>
                    <a:pt x="785" y="198"/>
                  </a:lnTo>
                  <a:lnTo>
                    <a:pt x="785" y="177"/>
                  </a:lnTo>
                  <a:lnTo>
                    <a:pt x="785" y="164"/>
                  </a:lnTo>
                  <a:lnTo>
                    <a:pt x="792" y="150"/>
                  </a:lnTo>
                  <a:lnTo>
                    <a:pt x="792" y="136"/>
                  </a:lnTo>
                  <a:lnTo>
                    <a:pt x="792" y="123"/>
                  </a:lnTo>
                  <a:lnTo>
                    <a:pt x="799" y="109"/>
                  </a:lnTo>
                  <a:lnTo>
                    <a:pt x="799" y="95"/>
                  </a:lnTo>
                  <a:lnTo>
                    <a:pt x="799" y="75"/>
                  </a:lnTo>
                  <a:lnTo>
                    <a:pt x="807" y="61"/>
                  </a:lnTo>
                  <a:lnTo>
                    <a:pt x="807" y="48"/>
                  </a:lnTo>
                  <a:lnTo>
                    <a:pt x="814" y="34"/>
                  </a:lnTo>
                  <a:lnTo>
                    <a:pt x="814" y="20"/>
                  </a:lnTo>
                  <a:lnTo>
                    <a:pt x="814" y="0"/>
                  </a:lnTo>
                </a:path>
              </a:pathLst>
            </a:custGeom>
            <a:noFill/>
            <a:ln w="42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0" y="17002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10)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y=½(x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2)²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5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09308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0072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0400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826920" y="1700280"/>
            <a:ext cx="792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"/>
          <p:cNvSpPr/>
          <p:nvPr/>
        </p:nvSpPr>
        <p:spPr>
          <a:xfrm>
            <a:off x="716436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00000" y="5300640"/>
            <a:ext cx="1152720" cy="1152720"/>
          </a:xfrm>
          <a:custGeom>
            <a:avLst/>
            <a:gdLst>
              <a:gd name="textAreaLeft" fmla="*/ 474840 w 1152720"/>
              <a:gd name="textAreaRight" fmla="*/ 677880 w 1152720"/>
              <a:gd name="textAreaTop" fmla="*/ 474840 h 1152720"/>
              <a:gd name="textAreaBottom" fmla="*/ 677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948360" y="4437000"/>
            <a:ext cx="1800360" cy="1706760"/>
          </a:xfrm>
          <a:custGeom>
            <a:avLst/>
            <a:gdLst>
              <a:gd name="textAreaLeft" fmla="*/ 741960 w 1800360"/>
              <a:gd name="textAreaRight" fmla="*/ 1058400 w 1800360"/>
              <a:gd name="textAreaTop" fmla="*/ 703080 h 1706760"/>
              <a:gd name="textAreaBottom" fmla="*/ 1003680 h 170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0920" y="620640"/>
            <a:ext cx="2376360" cy="1873440"/>
          </a:xfrm>
          <a:custGeom>
            <a:avLst/>
            <a:gdLst>
              <a:gd name="textAreaLeft" fmla="*/ 979200 w 2376360"/>
              <a:gd name="textAreaRight" fmla="*/ 1397160 w 2376360"/>
              <a:gd name="textAreaTop" fmla="*/ 771840 h 1873440"/>
              <a:gd name="textAreaBottom" fmla="*/ 110160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91000" y="311040"/>
            <a:ext cx="2676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Цветы в форме параб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680" y="816120"/>
            <a:ext cx="2616120" cy="2087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15000" y="816120"/>
            <a:ext cx="3470400" cy="2023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102120" y="3124080"/>
            <a:ext cx="2284200" cy="275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3440" y="3260880"/>
            <a:ext cx="1368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олокольч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4120" y="2937960"/>
            <a:ext cx="32688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55880" y="1143000"/>
            <a:ext cx="1132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тюльп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60880" y="1306440"/>
            <a:ext cx="490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633680"/>
            <a:ext cx="1440" cy="9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20" y="1327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9320"/>
            <a:ext cx="36687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6880" bIns="40680" anchor="t">
            <a:noAutofit/>
          </a:bodyPr>
          <a:p>
            <a:pPr>
              <a:lnSpc>
                <a:spcPct val="93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болическая орбита и движение спутника по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65412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78440" y="1309680"/>
            <a:ext cx="3265560" cy="277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0" y="176040"/>
            <a:ext cx="146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Рад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488880"/>
            <a:ext cx="180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611440" y="3971880"/>
            <a:ext cx="3267000" cy="272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91000" y="3102120"/>
            <a:ext cx="885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фон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83120" y="34290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Цели : </a:t>
            </a:r>
            <a:br>
              <a:rPr sz="4800"/>
            </a:b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1)Повторить правила преобразований функци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 = f(x) + 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 = f(x + 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 = af(x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2) Научиться строить графики вида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0720" indent="0" algn="ctr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 = f(x + t) + 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3)Закрепить умения, выполнив практические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47640" y="907920"/>
            <a:ext cx="63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остроение графиков функц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у =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и у =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9:38:15Z</dcterms:created>
  <dc:creator>Алтунина Н.С.</dc:creator>
  <dc:description/>
  <dc:language>en-US</dc:language>
  <cp:lastModifiedBy>Нина Сергеевна</cp:lastModifiedBy>
  <dcterms:modified xsi:type="dcterms:W3CDTF">2012-03-01T23:10:06Z</dcterms:modified>
  <cp:revision>25</cp:revision>
  <dc:subject/>
  <dc:title>Повторить правила преобразований:</dc:title>
</cp:coreProperties>
</file>