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1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33C-C70D-4C51-B28F-C048644C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BDB-74F0-475C-A9A3-40FB35CE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B16-CA0C-47BE-B2A2-1E2240D5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BD4-55B8-4EF1-995B-70B6984B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5262-EA94-4060-8957-045BA12C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22E4-6518-4735-AF98-1BD88DDE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A9A2-BA0E-47DD-8F2B-CF46CEF1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1D12-4402-49E0-B807-F94100D6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023-7D07-4CEF-A5F5-DF87B51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353-63DE-4AA3-AA50-EE4D7B99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B099-F062-4B0F-9C03-87D87A4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B4A-5429-462D-9824-5AECD0E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CD5-A9F1-4B3E-B994-96A3F056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6527-8789-45FA-8FC8-A797D1C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BB84-57E9-4F30-9E17-18B62D5F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F67-768C-4A88-AF88-C0B9172E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0957-4721-4C26-A3F8-407D1B77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CC2-469A-465F-9E07-C489217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803-715C-4F70-8BCD-972EB932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98C-13E3-497D-BDC3-5A494ED0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0D0-33CC-401F-8DB5-E120D15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669-6319-4C7A-8A43-81EDF1A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135-B1DD-4F31-88CC-7F84618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F83-C523-465C-A5C7-C54B742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56B-194F-49F9-AE8D-E4C3DA1CB94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484-8870-49BF-B2DA-FBA947F49BC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рактические задания по русскому языку № 2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16000" y="4149720"/>
            <a:ext cx="4451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Подготовила Михайлова Надежда Юрьев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432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Цель: повторить различные разборы слов и предложени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2637000"/>
            <a:ext cx="7386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Технологии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использование ИКТ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игровая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проблемного диалога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оценивания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Сделайте морфологический разбор слов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2492280"/>
            <a:ext cx="73864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Под солнцем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О синем (море)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313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Спишите предложение. Разберите его по членам предложения и частям реч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2852280"/>
            <a:ext cx="7386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Мутными ручьями побежала вода к реке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Спишите, вставляя окончани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311"/>
                </a:solidFill>
                <a:latin typeface="Arial"/>
              </a:rPr>
              <a:t>Поздн… листопад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311"/>
                </a:solidFill>
                <a:latin typeface="Arial"/>
              </a:rPr>
              <a:t>лишн… задани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311"/>
                </a:solidFill>
                <a:latin typeface="Arial"/>
              </a:rPr>
              <a:t>весенн… капель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311"/>
                </a:solidFill>
                <a:latin typeface="Arial"/>
              </a:rPr>
              <a:t>дремуч… лес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311"/>
                </a:solidFill>
                <a:latin typeface="Arial"/>
              </a:rPr>
              <a:t>тих… реч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311"/>
                </a:solidFill>
                <a:latin typeface="Arial"/>
              </a:rPr>
              <a:t>верн… дру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Спишите, заменяя выделенные слова синонимам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Тихо </a:t>
            </a:r>
            <a:r>
              <a:rPr b="1" i="1" lang="en-US" sz="4400" spc="-1" strike="noStrike" u="sng">
                <a:solidFill>
                  <a:srgbClr val="2f1311"/>
                </a:solidFill>
                <a:uFillTx/>
                <a:latin typeface="Arial"/>
              </a:rPr>
              <a:t>веет</a:t>
            </a: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 теплый ветерок. Ласково </a:t>
            </a:r>
            <a:r>
              <a:rPr b="1" i="1" lang="en-US" sz="4400" spc="-1" strike="noStrike" u="sng">
                <a:solidFill>
                  <a:srgbClr val="2f1311"/>
                </a:solidFill>
                <a:uFillTx/>
                <a:latin typeface="Arial"/>
              </a:rPr>
              <a:t>смотрит</a:t>
            </a: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 весеннее солнце. Как </a:t>
            </a:r>
            <a:r>
              <a:rPr b="1" i="1" lang="en-US" sz="4400" spc="-1" strike="noStrike" u="sng">
                <a:solidFill>
                  <a:srgbClr val="2f1311"/>
                </a:solidFill>
                <a:uFillTx/>
                <a:latin typeface="Arial"/>
              </a:rPr>
              <a:t>чудесно </a:t>
            </a: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весной!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0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Что такое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антонимы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2708280"/>
            <a:ext cx="73864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Назовите пары слов-антонимов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26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a9c8"/>
                </a:solidFill>
                <a:latin typeface="Arial"/>
              </a:rPr>
              <a:t>Продолжаем урок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400720" cy="432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0:01:09Z</dcterms:created>
  <dc:creator>Школа</dc:creator>
  <dc:description/>
  <dc:language>en-US</dc:language>
  <cp:lastModifiedBy>Школа</cp:lastModifiedBy>
  <dcterms:modified xsi:type="dcterms:W3CDTF">2012-02-26T10:32:41Z</dcterms:modified>
  <cp:revision>2</cp:revision>
  <dc:subject/>
  <dc:title>Практические задания по русскому языку № 2.</dc:title>
</cp:coreProperties>
</file>