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C5B1-5A46-46E0-8662-466ACED1E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D6B-CE15-4CF3-9D39-8DF8DABE0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05E-8EA9-4AE2-9BD3-9AF91C02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C1A-BF67-40C3-BB1E-58E492C6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D99-84BB-45C2-A31F-1F5BE998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C02-9F45-4FC3-AF9A-5EAF03E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913-D900-4056-BADC-E94AC9A3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D2CC-197D-4FD5-BEF2-F72E665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D853-7AEC-4301-8B2D-2F41034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1AC1-5288-4185-A481-394BB67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D5E6-F752-4CE6-91F4-631D3418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6CA3-8BEE-48F8-93C3-91917AE4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0DF-99F5-479E-B303-6D97228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3EE-F3A2-44D4-A083-10495926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5BD-1271-45C1-9243-1DD66D2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4DB-AD91-4318-995C-B79F034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507F-409E-44A5-AD6A-40757DA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EFE-CE66-41D1-BFE0-E44C51F8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C4E-35EF-4D0F-9A97-074F2A5B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6C37A-1926-46EC-B6FA-5313D751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C312A-8F26-4ADF-A015-BE64B18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67E50-B6B6-4527-B7CC-8F4DAA7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2B090-1088-41B6-9E56-AB390A7C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23339-41F6-4E3B-A989-676CF0F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0FC-D724-4DF4-BB07-637FB40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0B02E-34DD-4E70-9808-C97BCCC9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3A1EA-33DA-4945-B934-A4B9DCE3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B7BE8-08A1-4977-A025-4917953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9E1CF-F943-4414-866C-CB960B4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4714C-AFDD-47FC-8F17-D41B2C5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43E95-C81E-4318-A639-EFBC0285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E95A3-33C6-4D97-80A0-D1F57D1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0EE2-48E8-4246-A6FB-60F69D89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EF06-45E3-4A3E-A5D3-D13F130E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1474-1720-44CD-8AB9-1DA6138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65A-C8D1-4C18-A840-BE032052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A458-B371-4A50-9DAD-F62C36EF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0FDD-41CF-4240-9DA2-3D1AB81F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D99B-953A-479A-A703-43D20B0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D868-C9D2-4621-8371-73677EA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C1D9-C14A-4AAA-9F3F-4DAB5F1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4103-CF6C-4EB1-9418-8460EC3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E3CF-3175-4D8D-A9F8-73F92151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1DB9-E647-4683-8E3F-A49E95C5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0C48-3161-4315-93F4-C21DE529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B30B2-1241-4458-AAB3-3900F173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1C4-80AD-4EFE-936B-A5E9451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4F2CC-B872-495A-A4D6-CF8DE585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1A223-ED58-4BB0-A221-380B1D3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A1E38-0E13-48D5-B777-EF96C84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3F211-CA7D-4CE2-8723-0D5AAE26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9531B-3D3A-470B-BF95-1FEEED7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380AC-EB57-4871-86A5-651C4DE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5A3BD-BE6C-4462-BCF9-DD9AE6D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25405-A822-42B5-9854-06E6DA0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D8825-BDF8-4CC0-B299-9F4C513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521D0-B98C-4225-AF26-CA44DC07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9F1-B2C0-46BC-BF02-88B01F7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54BEF-FD64-4E59-8A4F-80C871BE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160B3-94FB-41E9-A60F-62353C5F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09EAF-205B-4DBB-9721-6D638B2B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A1AA9-ABDC-4BA3-881E-A2F74F6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C85D1-B9CA-4FAE-89EE-4B89C43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A8901-10FA-4E38-9CA6-2534EA4B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416CE-465B-4332-AFD9-5FBE4F5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6B7D0-4525-4212-AF7A-01EC969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4E66E-FCA2-44FF-8F27-BDBF164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D7C81-2A13-4A99-975A-FEAC3E6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AC4-58F8-4B5F-AE1B-DAD0226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5FD44-8D06-408A-804E-538FC63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A5E76-2415-41B9-A638-D9300E0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05F76-CE69-4F3F-9F8E-B1A9AFCA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88062-744B-4349-81B9-93631728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6741D-A0C1-4430-8B99-CF3C2A6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26B3F-E48A-4C4E-A932-F67ACFB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F8465-6960-4066-AF66-11A4C6F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EFAB1-9CE9-4737-9FDB-646A83A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3D2D5-8A6B-413A-8A00-E32D218D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F7058-7C1C-4A19-8577-8C95436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441-3A2A-44AE-B941-45A2DDA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8BEF9-7138-4EE5-AE9B-A844005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6A9F7-5453-4B03-BDF2-F63EDF2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87DA3-8F2D-428C-8F3C-369E396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2E354-575D-434F-931F-B58CF72B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289B3-0349-499B-B758-9A920790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CC2-030C-49A9-8D2D-C4FCBCB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CEFE-F81A-4AAB-B550-FC2F51D62C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386-D944-4A6C-B927-3D63CCB2E4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30FF-F97D-4FED-879C-7EACC772A7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101A-99FD-4C38-8D1D-F6194001E9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0AC8-3445-41F2-AC1F-7DC81E8F46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09F4-9B1C-41EB-BE39-29DCA17DDB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dff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F351-8BD9-4986-819C-CC51D269AF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8580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0042"/>
                </a:solidFill>
                <a:latin typeface="Century Schoolbook"/>
              </a:rPr>
              <a:t>ДА, ПУТЬ ПОЗНАНИЯ НЕ ГЛАДОК!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c0042"/>
                </a:solidFill>
                <a:latin typeface="Century Schoolbook"/>
              </a:rPr>
              <a:t>НО ЗНАЕМ МЫ СО ШКОЛЬНЫХ ЛЕТ: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c0042"/>
                </a:solidFill>
                <a:latin typeface="Century Schoolbook"/>
              </a:rPr>
              <a:t>ЗАГАДОК БОЛЬШЕ, ЧЕМ ОТГАДОК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c0042"/>
                </a:solidFill>
                <a:latin typeface="Century Schoolbook"/>
              </a:rPr>
              <a:t>И ПОИСКАМ ПРЕДЕЛА НЕТ!</a:t>
            </a: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357120" y="7142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5. Сумма показателей степеней всех букв, входящих в одночлен называемый степенью одночл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6. Одинаковые или отличающиеся друг от друга только коэффициентами  слагаемые, называют подобными чле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7. Два одночлена, состоящие из одних и тех же переменных, называют подобными одночл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85840" y="285840"/>
            <a:ext cx="88581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8. Одночлен,  в котором перемножены все числовые множители и их произведение поставлено на первое место, перемножены все имеющиеся степени с одинаковым буквенным основанием, перемножены все степени с другим буквенным основанием называется одночленом стандартного 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9. Чтобы раскрыть скобки, перед которыми стоит знак “+”, скобки надо опустить, сохранив знак каждого члена, который был заключен в ско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10. Когда раскрываем скобки, перед которыми стоит знак “-”, скобки опускаем, и знаки членов, которые были заключены в скобки, меняют на противоположные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ая соединительная линия 6"/>
          <p:cNvSpPr/>
          <p:nvPr/>
        </p:nvSpPr>
        <p:spPr>
          <a:xfrm>
            <a:off x="285840" y="2643120"/>
            <a:ext cx="7142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"/>
          <p:cNvSpPr/>
          <p:nvPr/>
        </p:nvSpPr>
        <p:spPr>
          <a:xfrm flipV="1">
            <a:off x="1000080" y="2071440"/>
            <a:ext cx="642960" cy="571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1"/>
          <p:cNvSpPr/>
          <p:nvPr/>
        </p:nvSpPr>
        <p:spPr>
          <a:xfrm>
            <a:off x="1713960" y="2071800"/>
            <a:ext cx="642600" cy="642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3"/>
          <p:cNvSpPr/>
          <p:nvPr/>
        </p:nvSpPr>
        <p:spPr>
          <a:xfrm>
            <a:off x="2357280" y="2714760"/>
            <a:ext cx="7146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5"/>
          <p:cNvSpPr/>
          <p:nvPr/>
        </p:nvSpPr>
        <p:spPr>
          <a:xfrm flipV="1">
            <a:off x="3071880" y="1999800"/>
            <a:ext cx="78588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7"/>
          <p:cNvSpPr/>
          <p:nvPr/>
        </p:nvSpPr>
        <p:spPr>
          <a:xfrm>
            <a:off x="3857760" y="2000160"/>
            <a:ext cx="714240" cy="642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9"/>
          <p:cNvSpPr/>
          <p:nvPr/>
        </p:nvSpPr>
        <p:spPr>
          <a:xfrm flipV="1">
            <a:off x="4572000" y="1928880"/>
            <a:ext cx="714240" cy="71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1"/>
          <p:cNvSpPr/>
          <p:nvPr/>
        </p:nvSpPr>
        <p:spPr>
          <a:xfrm>
            <a:off x="5285520" y="2000160"/>
            <a:ext cx="71460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3"/>
          <p:cNvSpPr/>
          <p:nvPr/>
        </p:nvSpPr>
        <p:spPr>
          <a:xfrm flipV="1">
            <a:off x="6000840" y="1999800"/>
            <a:ext cx="64296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25"/>
          <p:cNvSpPr/>
          <p:nvPr/>
        </p:nvSpPr>
        <p:spPr>
          <a:xfrm>
            <a:off x="6643800" y="2000160"/>
            <a:ext cx="78588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27"/>
          <p:cNvSpPr/>
          <p:nvPr/>
        </p:nvSpPr>
        <p:spPr>
          <a:xfrm>
            <a:off x="7500960" y="2714760"/>
            <a:ext cx="642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31"/>
          <p:cNvSpPr/>
          <p:nvPr/>
        </p:nvSpPr>
        <p:spPr>
          <a:xfrm flipV="1">
            <a:off x="928800" y="4142880"/>
            <a:ext cx="71424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33"/>
          <p:cNvSpPr/>
          <p:nvPr/>
        </p:nvSpPr>
        <p:spPr>
          <a:xfrm>
            <a:off x="1643040" y="4143240"/>
            <a:ext cx="71424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35"/>
          <p:cNvSpPr/>
          <p:nvPr/>
        </p:nvSpPr>
        <p:spPr>
          <a:xfrm flipV="1">
            <a:off x="2356560" y="4142880"/>
            <a:ext cx="71460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37"/>
          <p:cNvSpPr/>
          <p:nvPr/>
        </p:nvSpPr>
        <p:spPr>
          <a:xfrm>
            <a:off x="3071880" y="4143240"/>
            <a:ext cx="71424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39"/>
          <p:cNvSpPr/>
          <p:nvPr/>
        </p:nvSpPr>
        <p:spPr>
          <a:xfrm flipV="1">
            <a:off x="3785400" y="4142880"/>
            <a:ext cx="71460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41"/>
          <p:cNvSpPr/>
          <p:nvPr/>
        </p:nvSpPr>
        <p:spPr>
          <a:xfrm>
            <a:off x="4500720" y="4143240"/>
            <a:ext cx="714240" cy="7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1857240" y="1228320"/>
            <a:ext cx="535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ритерии оцени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5» - 10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4»- 8 - 9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3» - 6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56880" y="213840"/>
            <a:ext cx="6172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РАСШИФРУЙ СЛОВО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14680" y="1857240"/>
            <a:ext cx="23572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entury Schoolbook"/>
              </a:rPr>
              <a:t>отлично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9" name="Текст 2"/>
          <p:cNvSpPr/>
          <p:nvPr/>
        </p:nvSpPr>
        <p:spPr>
          <a:xfrm>
            <a:off x="3857760" y="2857680"/>
            <a:ext cx="1928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entury Schoolbook"/>
              </a:rPr>
              <a:t>здо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Текст 2"/>
          <p:cNvSpPr/>
          <p:nvPr/>
        </p:nvSpPr>
        <p:spPr>
          <a:xfrm>
            <a:off x="6215040" y="4000680"/>
            <a:ext cx="1928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entury Schoolbook"/>
              </a:rPr>
              <a:t>г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5005f"/>
                </a:solidFill>
                <a:latin typeface="Century Schoolbook"/>
              </a:rPr>
              <a:t>ФИЗМИНУТКА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2104920" cy="3906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2050920" cy="4284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286000" cy="3906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7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8" descr=""/>
          <p:cNvPicPr/>
          <p:nvPr/>
        </p:nvPicPr>
        <p:blipFill>
          <a:blip r:embed="rId4"/>
          <a:stretch/>
        </p:blipFill>
        <p:spPr>
          <a:xfrm>
            <a:off x="428760" y="2286000"/>
            <a:ext cx="3333600" cy="390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0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1" descr=""/>
          <p:cNvPicPr/>
          <p:nvPr/>
        </p:nvPicPr>
        <p:blipFill>
          <a:blip r:embed="rId5"/>
          <a:stretch/>
        </p:blipFill>
        <p:spPr>
          <a:xfrm>
            <a:off x="2928960" y="2786040"/>
            <a:ext cx="1685880" cy="390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3" descr=""/>
          <p:cNvPicPr/>
          <p:nvPr/>
        </p:nvPicPr>
        <p:blipFill>
          <a:blip r:embed="rId6"/>
          <a:stretch/>
        </p:blipFill>
        <p:spPr>
          <a:xfrm>
            <a:off x="2928960" y="3143160"/>
            <a:ext cx="2152800" cy="3906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5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6" descr=""/>
          <p:cNvPicPr/>
          <p:nvPr/>
        </p:nvPicPr>
        <p:blipFill>
          <a:blip r:embed="rId7"/>
          <a:stretch/>
        </p:blipFill>
        <p:spPr>
          <a:xfrm>
            <a:off x="2928960" y="3571920"/>
            <a:ext cx="2438280" cy="399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18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9" descr=""/>
          <p:cNvPicPr/>
          <p:nvPr/>
        </p:nvPicPr>
        <p:blipFill>
          <a:blip r:embed="rId8"/>
          <a:stretch/>
        </p:blipFill>
        <p:spPr>
          <a:xfrm>
            <a:off x="2928960" y="3929040"/>
            <a:ext cx="3152880" cy="3906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21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2" descr=""/>
          <p:cNvPicPr/>
          <p:nvPr/>
        </p:nvPicPr>
        <p:blipFill>
          <a:blip r:embed="rId9"/>
          <a:stretch/>
        </p:blipFill>
        <p:spPr>
          <a:xfrm>
            <a:off x="6143760" y="4286160"/>
            <a:ext cx="1514520" cy="3906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4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5" descr=""/>
          <p:cNvPicPr/>
          <p:nvPr/>
        </p:nvPicPr>
        <p:blipFill>
          <a:blip r:embed="rId10"/>
          <a:stretch/>
        </p:blipFill>
        <p:spPr>
          <a:xfrm>
            <a:off x="6143760" y="4643280"/>
            <a:ext cx="1333440" cy="4003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"/>
          <p:cNvPicPr/>
          <p:nvPr/>
        </p:nvPicPr>
        <p:blipFill>
          <a:blip r:embed="rId11"/>
          <a:stretch/>
        </p:blipFill>
        <p:spPr>
          <a:xfrm>
            <a:off x="6143760" y="5072040"/>
            <a:ext cx="1380960" cy="390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30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1" descr=""/>
          <p:cNvPicPr/>
          <p:nvPr/>
        </p:nvPicPr>
        <p:blipFill>
          <a:blip r:embed="rId12"/>
          <a:stretch/>
        </p:blipFill>
        <p:spPr>
          <a:xfrm>
            <a:off x="6143760" y="5429160"/>
            <a:ext cx="1209600" cy="3906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3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2428920" y="1214280"/>
          <a:ext cx="2609640" cy="2560680"/>
        </p:xfrm>
        <a:graphic>
          <a:graphicData uri="http://schemas.openxmlformats.org/drawingml/2006/table">
            <a:tbl>
              <a:tblPr/>
              <a:tblGrid>
                <a:gridCol w="900000"/>
                <a:gridCol w="170964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2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,5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2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11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1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Прямоугольник 9"/>
          <p:cNvSpPr/>
          <p:nvPr/>
        </p:nvSpPr>
        <p:spPr>
          <a:xfrm>
            <a:off x="500040" y="44290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2157840" y="4429080"/>
            <a:ext cx="8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3,5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085560" y="435780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-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3871440" y="44290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4656960" y="44290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-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5581080" y="4429080"/>
            <a:ext cx="8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-1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571680" y="54291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b0043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1357200" y="54291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04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2357280" y="542916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b004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3143160" y="542916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b0043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4007520" y="54291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b0043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4786200" y="5429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04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2"/>
          <p:cNvSpPr/>
          <p:nvPr/>
        </p:nvSpPr>
        <p:spPr>
          <a:xfrm>
            <a:off x="5715000" y="5429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b0043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3714840" y="3000240"/>
            <a:ext cx="609480" cy="400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1285920" y="4357800"/>
            <a:ext cx="826920" cy="54288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ая соединительная линия 25"/>
          <p:cNvSpPr/>
          <p:nvPr/>
        </p:nvSpPr>
        <p:spPr>
          <a:xfrm>
            <a:off x="285840" y="5000760"/>
            <a:ext cx="6715080" cy="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42720" y="3571920"/>
            <a:ext cx="6172200" cy="20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1) 6А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 * = 24А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В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2) *  5Х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У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 =-30Х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У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e005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) 36АС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 = *    4С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e005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) -8А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В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6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 = 8А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В</a:t>
            </a:r>
            <a:r>
              <a:rPr b="1" lang="ru-RU" sz="2400" spc="-1" strike="noStrike" baseline="30000">
                <a:solidFill>
                  <a:srgbClr val="4e005f"/>
                </a:solidFill>
                <a:latin typeface="Century Schoolbook"/>
              </a:rPr>
              <a:t>4</a:t>
            </a:r>
            <a:r>
              <a:rPr b="1" lang="ru-RU" sz="2400" spc="-1" strike="noStrike">
                <a:solidFill>
                  <a:srgbClr val="4e005f"/>
                </a:solidFill>
                <a:latin typeface="Century Schoolbook"/>
              </a:rPr>
              <a:t>   *.</a:t>
            </a:r>
            <a:br>
              <a:rPr sz="2400"/>
            </a:br>
            <a:endParaRPr b="0" lang="en-US" sz="24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14320" y="2858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0059"/>
                </a:solidFill>
                <a:uFillTx/>
                <a:latin typeface="Century Schoolbook"/>
              </a:rPr>
              <a:t>Замените *</a:t>
            </a:r>
            <a:r>
              <a:rPr b="1" lang="ru-RU" sz="3200" spc="-1" strike="noStrike">
                <a:solidFill>
                  <a:srgbClr val="e40059"/>
                </a:solidFill>
                <a:latin typeface="Century Schoolbook"/>
              </a:rPr>
              <a:t>  одночленом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85600" y="499680"/>
            <a:ext cx="61722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5005f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42760" y="2000160"/>
            <a:ext cx="4000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Century Schoolbook"/>
              </a:rPr>
              <a:t>«3» – 456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Century Schoolbook"/>
              </a:rPr>
              <a:t>«4» – 459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Century Schoolbook"/>
              </a:rPr>
              <a:t>«5» – 461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WordArt 4" descr=""/>
          <p:cNvPicPr/>
          <p:nvPr/>
        </p:nvPicPr>
        <p:blipFill>
          <a:blip r:embed="rId1"/>
          <a:stretch/>
        </p:blipFill>
        <p:spPr>
          <a:xfrm>
            <a:off x="987480" y="957240"/>
            <a:ext cx="6870600" cy="1670040"/>
          </a:xfrm>
          <a:prstGeom prst="rect">
            <a:avLst/>
          </a:prstGeom>
          <a:ln w="0">
            <a:noFill/>
          </a:ln>
        </p:spPr>
      </p:pic>
      <p:pic>
        <p:nvPicPr>
          <p:cNvPr id="498" name="WordArt 5" descr=""/>
          <p:cNvPicPr/>
          <p:nvPr/>
        </p:nvPicPr>
        <p:blipFill>
          <a:blip r:embed="rId2"/>
          <a:stretch/>
        </p:blipFill>
        <p:spPr>
          <a:xfrm>
            <a:off x="1231920" y="3328920"/>
            <a:ext cx="69008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28560" y="128592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ХОЧУ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МОГУ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УМЕЮ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ДЕЛАЮ…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73580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0059"/>
                </a:solidFill>
                <a:latin typeface="Century Schoolbook"/>
              </a:rPr>
              <a:t>СЧИТАЮ, ЧТО СЕГОДНЯ НА УРОКЕ…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меня всё получилось, я доволен своей работо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меня не всё получилось, но я доволен своей работо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хорошо знаю теоретический материал, но в практической работе у меня получилось не всё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не было сложно и малопонятн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Прямоугольник 3"/>
          <p:cNvSpPr/>
          <p:nvPr/>
        </p:nvSpPr>
        <p:spPr>
          <a:xfrm>
            <a:off x="571680" y="1857240"/>
            <a:ext cx="285480" cy="357480"/>
          </a:xfrm>
          <a:prstGeom prst="rect">
            <a:avLst/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500040" y="2857680"/>
            <a:ext cx="285840" cy="357120"/>
          </a:xfrm>
          <a:prstGeom prst="rect">
            <a:avLst/>
          </a:prstGeom>
          <a:solidFill>
            <a:srgbClr val="00b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6"/>
          <p:cNvSpPr/>
          <p:nvPr/>
        </p:nvSpPr>
        <p:spPr>
          <a:xfrm>
            <a:off x="500040" y="3929040"/>
            <a:ext cx="285840" cy="357120"/>
          </a:xfrm>
          <a:prstGeom prst="rect">
            <a:avLst/>
          </a:prstGeom>
          <a:solidFill>
            <a:srgbClr val="ffff0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500040" y="5572080"/>
            <a:ext cx="285840" cy="357120"/>
          </a:xfrm>
          <a:prstGeom prst="rect">
            <a:avLst/>
          </a:prstGeom>
          <a:solidFill>
            <a:srgbClr val="00449e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771552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b0043"/>
                </a:solidFill>
                <a:latin typeface="Century Schoolbook"/>
              </a:rPr>
              <a:t>ОДНОЧЛЕНЫ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b0043"/>
                </a:solidFill>
                <a:latin typeface="Century Schoolbook"/>
              </a:rPr>
              <a:t>УМНОЖЕНИЕ И ВОЗВЕДЕНИЕ ОДНОЧЛЕНОВ В СТЕПЕНЬ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1. УМЕНИЕ ПРИМЕНЯТЬ ФОРМУЛЫ…</a:t>
            </a: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2. УМЕНИЕ ГРАМОТНО ГОВОРИТЬ …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3. УМЕНИЕ ОБОБЩАТЬ, </a:t>
            </a: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СИСТЕМАТИЗИРОВАТЬ…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4. УМЕНИЕ ЛОГИЧЕСКИ МЫСЛИТЬ…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5. УМЕНИЕ ПЕРЕСКАЗЫВАТЬ…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005f"/>
                </a:solidFill>
                <a:latin typeface="Century Schoolbook"/>
              </a:rPr>
              <a:t>6. УМЕНИЕ МОЛЧАТЬ…</a:t>
            </a:r>
            <a:r>
              <a:rPr b="0" lang="ru-RU" sz="3200" spc="-1" strike="noStrike">
                <a:solidFill>
                  <a:srgbClr val="666666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90062"/>
                </a:solidFill>
                <a:latin typeface="Century Schoolbook"/>
              </a:rPr>
              <a:t>ЦЕЛИ:</a:t>
            </a:r>
            <a:r>
              <a:rPr b="1" lang="ru-RU" sz="2400" spc="-1" strike="noStrike">
                <a:solidFill>
                  <a:srgbClr val="e90062"/>
                </a:solidFill>
                <a:latin typeface="Century Schoolbook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e90062"/>
                </a:solidFill>
                <a:uFillTx/>
                <a:latin typeface="Century Schoolbook"/>
              </a:rPr>
              <a:t>ОБРАЗОВАТЕЛЬНЫЕ:</a:t>
            </a:r>
            <a:r>
              <a:rPr b="1" lang="ru-RU" sz="2400" spc="-1" strike="noStrike">
                <a:solidFill>
                  <a:srgbClr val="e90062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ПРОДОЛЖИТЬ ФОРМИРОВАТЬ У УЧАЩИХСЯ УМЕНИЕ РЕШАТЬ ТИПОВЫЕ МАТЕМАТИЧЕСКИЕ ЗАДАЧИ НА УМНОЖЕНИЕ  И ВОЗВЕДЕНИЕ ОДНОЧЛЕНА В СТЕПЕНЬ.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 </a:t>
            </a:r>
            <a:br>
              <a:rPr sz="2400"/>
            </a:br>
            <a:r>
              <a:rPr b="1" lang="ru-RU" sz="2400" spc="-1" strike="noStrike" u="sng">
                <a:solidFill>
                  <a:srgbClr val="e90062"/>
                </a:solidFill>
                <a:uFillTx/>
                <a:latin typeface="Century Schoolbook"/>
              </a:rPr>
              <a:t>РАЗВИВАЮЩИЕ:</a:t>
            </a:r>
            <a:r>
              <a:rPr b="1" lang="ru-RU" sz="2400" spc="-1" strike="noStrike">
                <a:solidFill>
                  <a:srgbClr val="e90062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СПОСОБСТВОВАТЬ РАЗВИТИЮ УМЕНИЯ ПРИМЕНЯТЬ СВОЙСТВА СТЕПЕНИ К УМНОЖЕНИЮ ОДНОЧЛЕНОВ, РАЗВИВАТЬ ИНТЕРЕС К ПРЕДМЕТУ.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  </a:t>
            </a:r>
            <a:br>
              <a:rPr sz="2400"/>
            </a:br>
            <a:r>
              <a:rPr b="1" lang="ru-RU" sz="2400" spc="-1" strike="noStrike" u="sng">
                <a:solidFill>
                  <a:srgbClr val="e90062"/>
                </a:solidFill>
                <a:uFillTx/>
                <a:latin typeface="Century Schoolbook"/>
              </a:rPr>
              <a:t>ВОСПИТАТЕЛЬНЫЕ</a:t>
            </a:r>
            <a:r>
              <a:rPr b="1" lang="ru-RU" sz="2400" spc="-1" strike="noStrike" u="sng">
                <a:solidFill>
                  <a:srgbClr val="00449e"/>
                </a:solidFill>
                <a:uFillTx/>
                <a:latin typeface="Century Schoolbook"/>
              </a:rPr>
              <a:t>: </a:t>
            </a: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ВОСПИТЫВАТЬ КРИТИЧЕСКОЕ ОТНОШЕНИЕ К СВОИМ ЗНАНИЯМ, УЧИТЬ СРАВНИВАТЬ, ДЕЛАТЬ ВЫВОДЫ, ПРИУЧАТЬ УЧАЩИХСЯ ПОЯСНЯТЬ СВОИ РЕШЕНИЯ, КУЛЬТУРЕ ЗАПИСИ.</a:t>
            </a:r>
            <a:br>
              <a:rPr sz="2700"/>
            </a:br>
            <a:endParaRPr b="0" lang="en-US" sz="24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14200" y="1458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произведение цифр года начала Великой Отечественной вой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214200" y="83304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личество планет Солнечной системы поделите на двадц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14200" y="157428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Количество букв в названии столицы Украины возведите в 4 степ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214200" y="22881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личество букв в названии самой длинной реки в Европе возведите в квадр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214200" y="3074760"/>
            <a:ext cx="78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5. Количество материков умножьте на количество океанов и поделите на 0,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214200" y="3860280"/>
            <a:ext cx="74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6. Возведите в куб количество букв в названии самой маленькой пт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214200" y="4813200"/>
            <a:ext cx="735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179280" y="479628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. Количество слогов в названии самого большого материка умножьте на количество согласных букв в этом сл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643720" y="5004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19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6786720" y="5004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5786280" y="1214640"/>
            <a:ext cx="64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5643720" y="19292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Ки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5572080" y="2715120"/>
            <a:ext cx="107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Дун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5572080" y="35006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6 х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5500800" y="4286520"/>
            <a:ext cx="142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Колиб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5715000" y="57934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  <a:ea typeface="Times New Roman"/>
              </a:rPr>
              <a:t>Евраз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6786720" y="12146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0,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6786720" y="20005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2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6786720" y="27151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6643800" y="35006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2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7072200" y="42152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34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7164360" y="57344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90062"/>
                </a:solidFill>
                <a:latin typeface="Arial"/>
                <a:ea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4280" y="1356840"/>
            <a:ext cx="7358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49e"/>
                </a:solidFill>
                <a:latin typeface="Century Schoolbook"/>
              </a:rPr>
              <a:t>УПРОСТИТЕ: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1)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2) (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3)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: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4)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; 5) (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6)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: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7)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9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449e"/>
                </a:solidFill>
                <a:latin typeface="Century Schoolbook"/>
              </a:rPr>
              <a:t>ШИФР: 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А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7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 ;           В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5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 ;          Г-А;         И- 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30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К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9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  М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4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 Н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3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О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2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Р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С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   Т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;          Ч-А</a:t>
            </a:r>
            <a:r>
              <a:rPr b="1" lang="ru-RU" sz="27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99720" y="3567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0059"/>
                </a:solidFill>
                <a:latin typeface="Century Schoolbook"/>
              </a:rPr>
              <a:t>Зарядка для глаз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ая соединительная линия 2"/>
          <p:cNvSpPr/>
          <p:nvPr/>
        </p:nvSpPr>
        <p:spPr>
          <a:xfrm flipV="1">
            <a:off x="785880" y="857160"/>
            <a:ext cx="714240" cy="928800"/>
          </a:xfrm>
          <a:prstGeom prst="line">
            <a:avLst/>
          </a:prstGeom>
          <a:ln w="5724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4"/>
          <p:cNvSpPr/>
          <p:nvPr/>
        </p:nvSpPr>
        <p:spPr>
          <a:xfrm>
            <a:off x="1499400" y="857160"/>
            <a:ext cx="714600" cy="1000080"/>
          </a:xfrm>
          <a:prstGeom prst="line">
            <a:avLst/>
          </a:prstGeom>
          <a:ln w="5724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6"/>
          <p:cNvSpPr/>
          <p:nvPr/>
        </p:nvSpPr>
        <p:spPr>
          <a:xfrm>
            <a:off x="1000080" y="3857760"/>
            <a:ext cx="1357200" cy="1440"/>
          </a:xfrm>
          <a:prstGeom prst="line">
            <a:avLst/>
          </a:prstGeom>
          <a:ln w="7632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Прямоугольник 8" descr=""/>
          <p:cNvPicPr/>
          <p:nvPr/>
        </p:nvPicPr>
        <p:blipFill>
          <a:blip r:embed="rId1"/>
          <a:stretch/>
        </p:blipFill>
        <p:spPr>
          <a:xfrm>
            <a:off x="2919240" y="566640"/>
            <a:ext cx="183528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0" descr=""/>
          <p:cNvPicPr/>
          <p:nvPr/>
        </p:nvPicPr>
        <p:blipFill>
          <a:blip r:embed="rId2"/>
          <a:stretch/>
        </p:blipFill>
        <p:spPr>
          <a:xfrm>
            <a:off x="2919240" y="3206880"/>
            <a:ext cx="2090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214200"/>
            <a:ext cx="87156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4e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Schoolbook"/>
              </a:rPr>
              <a:t>Одночленом называют сумму числовых и буквенных множ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Schoolbook"/>
              </a:rPr>
              <a:t>2. Одночленами считают так же все числа, любые переменные, степени п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Schoolbook"/>
              </a:rPr>
              <a:t>3. Буквенный множитель одночлена, записанного в стандартном виде, называют коэффициентом одноч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Schoolbook"/>
              </a:rPr>
              <a:t>4. Алгебраическое выражение, которое представляет собой  произведение чисел и переменных,  возведенных в степени с натуральным показателем, называют одночле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35:36Z</dcterms:created>
  <dc:creator>учитель</dc:creator>
  <dc:description/>
  <dc:language>en-US</dc:language>
  <cp:lastModifiedBy>Григорий</cp:lastModifiedBy>
  <dcterms:modified xsi:type="dcterms:W3CDTF">2009-12-22T03:47:20Z</dcterms:modified>
  <cp:revision>32</cp:revision>
  <dc:subject/>
  <dc:title>Слайд 1</dc:title>
</cp:coreProperties>
</file>