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EB98-A484-4FCF-A953-0DF8EA832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039E-9336-47B8-95AE-11EDA94A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4558-F3F9-4D32-A441-DB24A866A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FE29-8D4A-482E-B8F7-44EDD0270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BA7A-0D6C-4536-8642-E370B6B54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8D3E-641A-484B-8D62-F6138E7F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9290-D6C2-4AE1-80EC-326D3C76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12F7-E338-4DEA-A5F5-D6DF439D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AF5A-ACBF-4515-8054-B1C4EC5A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C93A-0E7B-4D19-A6D7-A81EABF1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A495C-8724-4614-AEBF-29B4FA27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784D-E22F-4E92-BF96-5E901914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FA41-4F6D-4354-A6F0-FCB6AE3D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2CA7-1BF3-4A88-956C-A6E28C9C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2939-B01D-4E2C-A987-749F7245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D31A-8D24-42DC-A85B-AED46B905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2160-719C-44FD-ADD2-011524DD0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5DFF-E33B-428B-B069-6A21A624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A851-232C-474E-AD06-56968B9F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4B49-4ABD-4065-BE0F-B88DC0B7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6EDD-C619-4026-9032-76E8B246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3CF3-68D9-4A41-8E8A-82E02352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B4C8-3205-4926-A8F8-499EC915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FEFF-8CF8-4704-9A2E-A05098F2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FEF9-0B33-46E0-9EEB-FE682B824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7C9F-2451-4EA3-A3A7-EE1DCCE70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рганизация исследовательской деятельности учащихся с применением дистанционных технолог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88000" y="5373720"/>
            <a:ext cx="3313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Рачко С.Н., учитель биолог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ОСШ №2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 flipV="1" rot="10800000">
            <a:off x="5567400" y="3709800"/>
            <a:ext cx="3254400" cy="13136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Владение поисковыми системами сети ИНТЕР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3"/>
          <p:cNvGrpSpPr/>
          <p:nvPr/>
        </p:nvGrpSpPr>
        <p:grpSpPr>
          <a:xfrm>
            <a:off x="385920" y="1285920"/>
            <a:ext cx="4506840" cy="2635200"/>
            <a:chOff x="385920" y="1285920"/>
            <a:chExt cx="4506840" cy="2635200"/>
          </a:xfrm>
        </p:grpSpPr>
        <p:sp>
          <p:nvSpPr>
            <p:cNvPr id="145" name="AutoShape 4"/>
            <p:cNvSpPr/>
            <p:nvPr/>
          </p:nvSpPr>
          <p:spPr>
            <a:xfrm>
              <a:off x="385920" y="1488960"/>
              <a:ext cx="4297320" cy="2432160"/>
            </a:xfrm>
            <a:custGeom>
              <a:avLst/>
              <a:gdLst>
                <a:gd name="textAreaLeft" fmla="*/ 286560 w 4297320"/>
                <a:gd name="textAreaRight" fmla="*/ 4010760 w 4297320"/>
                <a:gd name="textAreaTop" fmla="*/ 286560 h 2432160"/>
                <a:gd name="textAreaBottom" fmla="*/ 2145600 h 2432160"/>
              </a:gdLst>
              <a:ahLst/>
              <a:rect l="textAreaLeft" t="textAreaTop" r="textAreaRight" b="textAreaBottom"/>
              <a:pathLst>
                <a:path w="38162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34562" y="21600"/>
                  </a:lnTo>
                  <a:arcTo wR="3600" hR="3600" stAng="10800000" swAng="5400000"/>
                  <a:lnTo>
                    <a:pt x="38162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92d050"/>
            </a:solidFill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r>
                <a:rPr b="1" lang="ru-RU" sz="1600" spc="-1" strike="noStrike">
                  <a:solidFill>
                    <a:srgbClr val="ffffff"/>
                  </a:solidFill>
                  <a:latin typeface="Century Gothic"/>
                </a:rPr>
                <a:t>наряду с исследовательскими навыками, в процессе использования дистанционных форм обучения ученик приобретает личностные качества, которые отличают выпускника 21 века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5"/>
            <p:cNvSpPr/>
            <p:nvPr/>
          </p:nvSpPr>
          <p:spPr>
            <a:xfrm>
              <a:off x="571680" y="1285920"/>
              <a:ext cx="4321080" cy="118080"/>
            </a:xfrm>
            <a:custGeom>
              <a:avLst/>
              <a:gdLst>
                <a:gd name="textAreaLeft" fmla="*/ 13680 w 4321080"/>
                <a:gd name="textAreaRight" fmla="*/ 4307400 w 4321080"/>
                <a:gd name="textAreaTop" fmla="*/ 13680 h 118080"/>
                <a:gd name="textAreaBottom" fmla="*/ 104400 h 118080"/>
              </a:gdLst>
              <a:ahLst/>
              <a:rect l="textAreaLeft" t="textAreaTop" r="textAreaRight" b="textAreaBottom"/>
              <a:pathLst>
                <a:path w="788105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784505" y="21600"/>
                  </a:lnTo>
                  <a:arcTo wR="3600" hR="3600" stAng="10800000" swAng="5400000"/>
                  <a:lnTo>
                    <a:pt x="788105" y="3600"/>
                  </a:lnTo>
                  <a:arcTo wR="3600" hR="3600" stAng="5400000" swAng="5400000"/>
                  <a:close/>
                </a:path>
              </a:pathLst>
            </a:custGeom>
            <a:noFill/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6"/>
          <p:cNvSpPr/>
          <p:nvPr/>
        </p:nvSpPr>
        <p:spPr>
          <a:xfrm flipV="1" rot="10800000">
            <a:off x="5584680" y="1197000"/>
            <a:ext cx="3424320" cy="10087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Компьютерная и технологическая грамо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684360" y="4622760"/>
            <a:ext cx="4173480" cy="13136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38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Способность устанавливать и поддерживать телекоммуникации с удаленными люд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8"/>
          <p:cNvSpPr txBox="1"/>
          <p:nvPr/>
        </p:nvSpPr>
        <p:spPr>
          <a:xfrm>
            <a:off x="152280" y="228600"/>
            <a:ext cx="5029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Таким образом,</a:t>
            </a:r>
            <a:endParaRPr b="1" lang="en-US" sz="1800" spc="1" strike="noStrike">
              <a:ln w="12600">
                <a:solidFill>
                  <a:srgbClr val="996633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" name="AutoShape 9"/>
          <p:cNvSpPr/>
          <p:nvPr/>
        </p:nvSpPr>
        <p:spPr>
          <a:xfrm>
            <a:off x="4724280" y="16765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0"/>
          <p:cNvSpPr/>
          <p:nvPr/>
        </p:nvSpPr>
        <p:spPr>
          <a:xfrm>
            <a:off x="4786200" y="35719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1"/>
          <p:cNvSpPr/>
          <p:nvPr/>
        </p:nvSpPr>
        <p:spPr>
          <a:xfrm rot="5400000">
            <a:off x="3452400" y="411948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2"/>
          <p:cNvSpPr/>
          <p:nvPr/>
        </p:nvSpPr>
        <p:spPr>
          <a:xfrm>
            <a:off x="8358120" y="2357280"/>
            <a:ext cx="568440" cy="56376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3"/>
          <p:cNvSpPr/>
          <p:nvPr/>
        </p:nvSpPr>
        <p:spPr>
          <a:xfrm>
            <a:off x="7885080" y="4941720"/>
            <a:ext cx="568440" cy="56376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4"/>
          <p:cNvSpPr/>
          <p:nvPr/>
        </p:nvSpPr>
        <p:spPr>
          <a:xfrm>
            <a:off x="5000760" y="5143680"/>
            <a:ext cx="568080" cy="56376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500"/>
                            </p:stCondLst>
                            <p:childTnLst>
                              <p:par>
                                <p:cTn id="1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8604360" y="6597720"/>
            <a:ext cx="539640" cy="260280"/>
            <a:chOff x="8604360" y="6597720"/>
            <a:chExt cx="539640" cy="260280"/>
          </a:xfrm>
        </p:grpSpPr>
        <p:sp>
          <p:nvSpPr>
            <p:cNvPr id="157" name="">
              <a:hlinkClick r:id="" action="ppaction://hlinkshowjump?jump=nextslide"/>
            </p:cNvPr>
            <p:cNvSpPr/>
            <p:nvPr/>
          </p:nvSpPr>
          <p:spPr>
            <a:xfrm>
              <a:off x="8893080" y="6597720"/>
              <a:ext cx="250920" cy="260280"/>
            </a:xfrm>
            <a:custGeom>
              <a:avLst/>
              <a:gdLst>
                <a:gd name="textAreaLeft" fmla="*/ 16200 w 250920"/>
                <a:gd name="textAreaRight" fmla="*/ 234720 w 250920"/>
                <a:gd name="textAreaTop" fmla="*/ 16200 h 260280"/>
                <a:gd name="textAreaBottom" fmla="*/ 244080 h 260280"/>
              </a:gdLst>
              <a:ahLst/>
              <a:rect l="textAreaLeft" t="textAreaTop" r="textAreaRight" b="textAreaBottom"/>
              <a:pathLst>
                <a:path w="21600" h="22405">
                  <a:moveTo>
                    <a:pt x="0" y="0"/>
                  </a:moveTo>
                  <a:lnTo>
                    <a:pt x="21600" y="0"/>
                  </a:lnTo>
                  <a:lnTo>
                    <a:pt x="21600" y="22405"/>
                  </a:lnTo>
                  <a:lnTo>
                    <a:pt x="0" y="22405"/>
                  </a:lnTo>
                  <a:close/>
                </a:path>
                <a:path fill="lightenLess" w="21600" h="22405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405">
                  <a:moveTo>
                    <a:pt x="21600" y="0"/>
                  </a:moveTo>
                  <a:lnTo>
                    <a:pt x="21600" y="22405"/>
                  </a:lnTo>
                  <a:lnTo>
                    <a:pt x="20200" y="21005"/>
                  </a:lnTo>
                  <a:lnTo>
                    <a:pt x="20200" y="1400"/>
                  </a:lnTo>
                  <a:close/>
                </a:path>
                <a:path fill="darkenLess" w="21600" h="22405">
                  <a:moveTo>
                    <a:pt x="21600" y="22405"/>
                  </a:moveTo>
                  <a:lnTo>
                    <a:pt x="0" y="22405"/>
                  </a:lnTo>
                  <a:lnTo>
                    <a:pt x="1400" y="21005"/>
                  </a:lnTo>
                  <a:lnTo>
                    <a:pt x="20200" y="21005"/>
                  </a:lnTo>
                  <a:close/>
                </a:path>
                <a:path fill="lighten" w="21600" h="22405">
                  <a:moveTo>
                    <a:pt x="0" y="22405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1005"/>
                  </a:lnTo>
                  <a:close/>
                </a:path>
                <a:path fill="darken" w="21600" h="22405">
                  <a:moveTo>
                    <a:pt x="3794" y="4196"/>
                  </a:moveTo>
                  <a:lnTo>
                    <a:pt x="17806" y="11202"/>
                  </a:lnTo>
                  <a:lnTo>
                    <a:pt x="3794" y="18209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>
              <a:hlinkClick r:id="" action="ppaction://hlinkshowjump?jump=previousslide"/>
            </p:cNvPr>
            <p:cNvSpPr/>
            <p:nvPr/>
          </p:nvSpPr>
          <p:spPr>
            <a:xfrm>
              <a:off x="8604360" y="6597720"/>
              <a:ext cx="288720" cy="260280"/>
            </a:xfrm>
            <a:custGeom>
              <a:avLst/>
              <a:gdLst>
                <a:gd name="textAreaLeft" fmla="*/ 16560 w 288720"/>
                <a:gd name="textAreaRight" fmla="*/ 272160 w 28872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3957" h="21600">
                  <a:moveTo>
                    <a:pt x="0" y="0"/>
                  </a:moveTo>
                  <a:lnTo>
                    <a:pt x="23957" y="0"/>
                  </a:lnTo>
                  <a:lnTo>
                    <a:pt x="23957" y="21600"/>
                  </a:lnTo>
                  <a:lnTo>
                    <a:pt x="0" y="21600"/>
                  </a:lnTo>
                  <a:close/>
                </a:path>
                <a:path fill="lightenLess" w="23957" h="21600">
                  <a:moveTo>
                    <a:pt x="0" y="0"/>
                  </a:moveTo>
                  <a:lnTo>
                    <a:pt x="23957" y="0"/>
                  </a:lnTo>
                  <a:lnTo>
                    <a:pt x="22557" y="1400"/>
                  </a:lnTo>
                  <a:lnTo>
                    <a:pt x="1400" y="1400"/>
                  </a:lnTo>
                  <a:close/>
                </a:path>
                <a:path fill="darken" w="23957" h="21600">
                  <a:moveTo>
                    <a:pt x="23957" y="0"/>
                  </a:moveTo>
                  <a:lnTo>
                    <a:pt x="23957" y="21600"/>
                  </a:lnTo>
                  <a:lnTo>
                    <a:pt x="22557" y="20200"/>
                  </a:lnTo>
                  <a:lnTo>
                    <a:pt x="22557" y="1400"/>
                  </a:lnTo>
                  <a:close/>
                </a:path>
                <a:path fill="darkenLess" w="23957" h="21600">
                  <a:moveTo>
                    <a:pt x="2395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2557" y="20200"/>
                  </a:lnTo>
                  <a:close/>
                </a:path>
                <a:path fill="lighten" w="2395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3957" h="21600">
                  <a:moveTo>
                    <a:pt x="4972" y="10800"/>
                  </a:moveTo>
                  <a:lnTo>
                    <a:pt x="18985" y="3794"/>
                  </a:lnTo>
                  <a:lnTo>
                    <a:pt x="18985" y="1780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8317080" y="6597720"/>
            <a:ext cx="287280" cy="260280"/>
          </a:xfrm>
          <a:custGeom>
            <a:avLst/>
            <a:gdLst>
              <a:gd name="textAreaLeft" fmla="*/ 16560 w 287280"/>
              <a:gd name="textAreaRight" fmla="*/ 270720 w 287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3838" h="21600">
                <a:moveTo>
                  <a:pt x="0" y="0"/>
                </a:moveTo>
                <a:lnTo>
                  <a:pt x="23838" y="0"/>
                </a:lnTo>
                <a:lnTo>
                  <a:pt x="23838" y="21600"/>
                </a:lnTo>
                <a:lnTo>
                  <a:pt x="0" y="21600"/>
                </a:lnTo>
                <a:close/>
              </a:path>
              <a:path fill="lightenLess" w="23838" h="21600">
                <a:moveTo>
                  <a:pt x="0" y="0"/>
                </a:moveTo>
                <a:lnTo>
                  <a:pt x="23838" y="0"/>
                </a:lnTo>
                <a:lnTo>
                  <a:pt x="22438" y="1400"/>
                </a:lnTo>
                <a:lnTo>
                  <a:pt x="1400" y="1400"/>
                </a:lnTo>
                <a:close/>
              </a:path>
              <a:path fill="darken" w="23838" h="21600">
                <a:moveTo>
                  <a:pt x="23838" y="0"/>
                </a:moveTo>
                <a:lnTo>
                  <a:pt x="23838" y="21600"/>
                </a:lnTo>
                <a:lnTo>
                  <a:pt x="22438" y="20200"/>
                </a:lnTo>
                <a:lnTo>
                  <a:pt x="22438" y="1400"/>
                </a:lnTo>
                <a:close/>
              </a:path>
              <a:path fill="darkenLess" w="23838" h="21600">
                <a:moveTo>
                  <a:pt x="23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38" y="20200"/>
                </a:lnTo>
                <a:close/>
              </a:path>
              <a:path fill="lighten" w="23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360" y="981000"/>
            <a:ext cx="3419640" cy="4824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edb1df"/>
              </a:gs>
            </a:gsLst>
            <a:lin ang="5400000"/>
          </a:gra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Arial"/>
              </a:rPr>
              <a:t>Рабо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Arial"/>
              </a:rPr>
              <a:t>«Влияние моб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Arial"/>
              </a:rPr>
              <a:t>льных телеф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Arial"/>
              </a:rPr>
              <a:t>на здоров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Arial"/>
              </a:rPr>
              <a:t>чело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66"/>
                </a:solidFill>
                <a:latin typeface="Arial"/>
              </a:rPr>
              <a:t>1 место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Arial"/>
              </a:rPr>
              <a:t>муниципаль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Arial"/>
              </a:rPr>
              <a:t>этап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Arial"/>
              </a:rPr>
              <a:t>Олимпиа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Arial"/>
              </a:rPr>
              <a:t>школь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Arial"/>
              </a:rPr>
              <a:t>по эколог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Arial"/>
              </a:rPr>
              <a:t>2мес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Arial"/>
              </a:rPr>
              <a:t>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Arial"/>
              </a:rPr>
              <a:t>региональ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Arial"/>
              </a:rPr>
              <a:t>этапе 2008-09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87640" y="2494080"/>
            <a:ext cx="3168720" cy="38876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edb1df"/>
              </a:gs>
            </a:gsLst>
            <a:lin ang="5400000"/>
          </a:gra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Рабо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«Плеснев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грибы на кухн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3 место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на сл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НО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2 место на науч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практичес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конфер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по эк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2008-09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1197000"/>
            <a:ext cx="3203640" cy="39592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edb1df"/>
              </a:gs>
            </a:gsLst>
            <a:lin ang="5400000"/>
          </a:gra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Рабо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«Влия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ароматиче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масел на здоров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чело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1 место на науч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Практиче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конферен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по эк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2008-09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Результаты научно – исследовательской деятельности учащихся по биологи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6286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Технологии – это инструмент, который помогает нам достигать стратегические образовательные ц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Учителя не могут быть заменены и не будут заменены технологиями, но учителя, которые не используют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технологии, будут замене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учителями, которые их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использу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9640" y="1742760"/>
            <a:ext cx="784872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…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Для того чтобы научить детей самим получать знания, сформировать у них нормальное креативное мышление, уверенность в себе, в своих способностях – для всего этого нужны соответствующие учите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Необходимо также развивать и дистанционные технологии обучения, создавать возможности для самостоятельного образован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96000" y="5445000"/>
            <a:ext cx="2665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ndantino script"/>
              </a:rPr>
              <a:t>Д.А.Медведев,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ndantino script"/>
              </a:rPr>
              <a:t> Президент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9672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Дистанционное обучение реализуется с помощь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7775640" cy="38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лектронной поч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й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б-стран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Q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б-конференци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1989000"/>
            <a:ext cx="7775640" cy="38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604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Формы педагогиче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21360" y="41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23200" y="573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963720" y="1688040"/>
            <a:ext cx="7449120" cy="4362840"/>
            <a:chOff x="963720" y="1688040"/>
            <a:chExt cx="7449120" cy="4362840"/>
          </a:xfrm>
        </p:grpSpPr>
        <p:grpSp>
          <p:nvGrpSpPr>
            <p:cNvPr id="93" name=""/>
            <p:cNvGrpSpPr/>
            <p:nvPr/>
          </p:nvGrpSpPr>
          <p:grpSpPr>
            <a:xfrm>
              <a:off x="963720" y="1688040"/>
              <a:ext cx="7449120" cy="4362840"/>
              <a:chOff x="963720" y="1688040"/>
              <a:chExt cx="7449120" cy="4362840"/>
            </a:xfrm>
          </p:grpSpPr>
          <p:sp>
            <p:nvSpPr>
              <p:cNvPr id="94" name=""/>
              <p:cNvSpPr/>
              <p:nvPr/>
            </p:nvSpPr>
            <p:spPr>
              <a:xfrm rot="5433000">
                <a:off x="6256080" y="2506320"/>
                <a:ext cx="1690920" cy="2606400"/>
              </a:xfrm>
              <a:prstGeom prst="hexagon">
                <a:avLst>
                  <a:gd name="adj" fmla="val 25000"/>
                  <a:gd name="vf" fmla="val 115470"/>
                </a:avLst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807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5433000">
                <a:off x="4970520" y="1242720"/>
                <a:ext cx="1690920" cy="2605680"/>
              </a:xfrm>
              <a:prstGeom prst="hexagon">
                <a:avLst>
                  <a:gd name="adj" fmla="val 25000"/>
                  <a:gd name="vf" fmla="val 115470"/>
                </a:avLst>
              </a:prstGeom>
              <a:gradFill rotWithShape="0">
                <a:gsLst>
                  <a:gs pos="0">
                    <a:srgbClr val="171746"/>
                  </a:gs>
                  <a:gs pos="50000">
                    <a:srgbClr val="333399"/>
                  </a:gs>
                  <a:gs pos="100000">
                    <a:srgbClr val="171746"/>
                  </a:gs>
                </a:gsLst>
                <a:lin ang="807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5433000">
                <a:off x="5108400" y="3826800"/>
                <a:ext cx="1691280" cy="2605680"/>
              </a:xfrm>
              <a:prstGeom prst="hexagon">
                <a:avLst>
                  <a:gd name="adj" fmla="val 25000"/>
                  <a:gd name="vf" fmla="val 115470"/>
                </a:avLst>
              </a:prstGeom>
              <a:gradFill rotWithShape="0">
                <a:gsLst>
                  <a:gs pos="0">
                    <a:srgbClr val="171746"/>
                  </a:gs>
                  <a:gs pos="50000">
                    <a:srgbClr val="333399"/>
                  </a:gs>
                  <a:gs pos="100000">
                    <a:srgbClr val="171746"/>
                  </a:gs>
                </a:gsLst>
                <a:lin ang="807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5400000">
                <a:off x="3828240" y="2555640"/>
                <a:ext cx="1690920" cy="260568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5433000">
                <a:off x="2594160" y="1311120"/>
                <a:ext cx="1690920" cy="2605680"/>
              </a:xfrm>
              <a:prstGeom prst="hexagon">
                <a:avLst>
                  <a:gd name="adj" fmla="val 25000"/>
                  <a:gd name="vf" fmla="val 115470"/>
                </a:avLst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807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5433000">
                <a:off x="2688480" y="3890160"/>
                <a:ext cx="1690920" cy="2605680"/>
              </a:xfrm>
              <a:prstGeom prst="hexagon">
                <a:avLst>
                  <a:gd name="adj" fmla="val 25000"/>
                  <a:gd name="vf" fmla="val 115470"/>
                </a:avLst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807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5433000">
                <a:off x="1428840" y="2628000"/>
                <a:ext cx="1690920" cy="2605680"/>
              </a:xfrm>
              <a:prstGeom prst="hexagon">
                <a:avLst>
                  <a:gd name="adj" fmla="val 25000"/>
                  <a:gd name="vf" fmla="val 115470"/>
                </a:avLst>
              </a:prstGeom>
              <a:gradFill rotWithShape="0">
                <a:gsLst>
                  <a:gs pos="0">
                    <a:srgbClr val="171746"/>
                  </a:gs>
                  <a:gs pos="50000">
                    <a:srgbClr val="333399"/>
                  </a:gs>
                  <a:gs pos="100000">
                    <a:srgbClr val="171746"/>
                  </a:gs>
                </a:gsLst>
                <a:lin ang="807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2340000" y="227664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истанционные деловые иг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16360" y="2060640"/>
              <a:ext cx="223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Лабораторные работы и практику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71640" y="3579840"/>
              <a:ext cx="2448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Научно-практические конферен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492360" y="3716280"/>
              <a:ext cx="2448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12000" y="3429000"/>
              <a:ext cx="2232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иртуаль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экскурс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68360" y="4797360"/>
              <a:ext cx="244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лимпиады, виктори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03640" y="5013360"/>
              <a:ext cx="19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Дистанционные кур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7480" y="-1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Что необходимо учитывать при применении дистанционных технолог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21360" y="41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23200" y="573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2200" y="1574640"/>
            <a:ext cx="7292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зрастные и индивидуа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обенности учащих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ровень самостояте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ровень мотивации субъек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ятельност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хнические возможности школы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ащих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личество участ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516720" y="46530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С чего начать</a:t>
            </a: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?</a:t>
            </a:r>
            <a:br>
              <a:rPr sz="3200"/>
            </a:b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Учителю необходимо прове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Диагностику уровня умений учащихся работать с текстовым редактором, средствами коммуника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Обсуждение плана работы по теме исследова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Обсуждение графика дистанционного он-лайн и офф-лайн общ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Знакомство с системой хранения, ускоренного поиска и обработки информ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Практическое использование учениками запланированных ИК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11280" y="4869000"/>
            <a:ext cx="2592360" cy="10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a7b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Чат, форум-общ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1628640"/>
            <a:ext cx="3529080" cy="1020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a7b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Страницы сай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шко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867280" y="4869000"/>
            <a:ext cx="2610000" cy="11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a7b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Электр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почта, </a:t>
            </a: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ICQ</a:t>
            </a: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Skype</a:t>
            </a: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.</a:t>
            </a: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933720"/>
            <a:ext cx="2952720" cy="368280"/>
          </a:xfrm>
          <a:prstGeom prst="rect">
            <a:avLst/>
          </a:prstGeom>
          <a:gradFill rotWithShape="0">
            <a:gsLst>
              <a:gs pos="0">
                <a:srgbClr val="eed386">
                  <a:alpha val="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692360" y="2637000"/>
            <a:ext cx="5761080" cy="2241360"/>
            <a:chOff x="1692360" y="2637000"/>
            <a:chExt cx="5761080" cy="2241360"/>
          </a:xfrm>
        </p:grpSpPr>
        <p:sp>
          <p:nvSpPr>
            <p:cNvPr id="120" name=""/>
            <p:cNvSpPr/>
            <p:nvPr/>
          </p:nvSpPr>
          <p:spPr>
            <a:xfrm>
              <a:off x="1692360" y="2637000"/>
              <a:ext cx="5761080" cy="224136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2916360" y="3573360"/>
              <a:ext cx="2881080" cy="1282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c99ff"/>
                    </a:solidFill>
                    <a:miter/>
                  </a:ln>
                  <a:solidFill>
                    <a:srgbClr val="ff0000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диалог</a:t>
              </a:r>
              <a:endPara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c99ff"/>
                    </a:solidFill>
                    <a:miter/>
                  </a:ln>
                  <a:solidFill>
                    <a:srgbClr val="ff0000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учитель-ученик</a:t>
              </a:r>
              <a:endPara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8604360" y="6597720"/>
            <a:ext cx="539640" cy="260280"/>
            <a:chOff x="8604360" y="6597720"/>
            <a:chExt cx="539640" cy="260280"/>
          </a:xfrm>
        </p:grpSpPr>
        <p:sp>
          <p:nvSpPr>
            <p:cNvPr id="123" name="">
              <a:hlinkClick r:id="" action="ppaction://hlinkshowjump?jump=nextslide"/>
            </p:cNvPr>
            <p:cNvSpPr/>
            <p:nvPr/>
          </p:nvSpPr>
          <p:spPr>
            <a:xfrm>
              <a:off x="8893080" y="6597720"/>
              <a:ext cx="250920" cy="260280"/>
            </a:xfrm>
            <a:custGeom>
              <a:avLst/>
              <a:gdLst>
                <a:gd name="textAreaLeft" fmla="*/ 16200 w 250920"/>
                <a:gd name="textAreaRight" fmla="*/ 234720 w 250920"/>
                <a:gd name="textAreaTop" fmla="*/ 16200 h 260280"/>
                <a:gd name="textAreaBottom" fmla="*/ 244080 h 260280"/>
              </a:gdLst>
              <a:ahLst/>
              <a:rect l="textAreaLeft" t="textAreaTop" r="textAreaRight" b="textAreaBottom"/>
              <a:pathLst>
                <a:path w="21600" h="22405">
                  <a:moveTo>
                    <a:pt x="0" y="0"/>
                  </a:moveTo>
                  <a:lnTo>
                    <a:pt x="21600" y="0"/>
                  </a:lnTo>
                  <a:lnTo>
                    <a:pt x="21600" y="22405"/>
                  </a:lnTo>
                  <a:lnTo>
                    <a:pt x="0" y="22405"/>
                  </a:lnTo>
                  <a:close/>
                </a:path>
                <a:path fill="lightenLess" w="21600" h="22405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405">
                  <a:moveTo>
                    <a:pt x="21600" y="0"/>
                  </a:moveTo>
                  <a:lnTo>
                    <a:pt x="21600" y="22405"/>
                  </a:lnTo>
                  <a:lnTo>
                    <a:pt x="20200" y="21005"/>
                  </a:lnTo>
                  <a:lnTo>
                    <a:pt x="20200" y="1400"/>
                  </a:lnTo>
                  <a:close/>
                </a:path>
                <a:path fill="darkenLess" w="21600" h="22405">
                  <a:moveTo>
                    <a:pt x="21600" y="22405"/>
                  </a:moveTo>
                  <a:lnTo>
                    <a:pt x="0" y="22405"/>
                  </a:lnTo>
                  <a:lnTo>
                    <a:pt x="1400" y="21005"/>
                  </a:lnTo>
                  <a:lnTo>
                    <a:pt x="20200" y="21005"/>
                  </a:lnTo>
                  <a:close/>
                </a:path>
                <a:path fill="lighten" w="21600" h="22405">
                  <a:moveTo>
                    <a:pt x="0" y="22405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1005"/>
                  </a:lnTo>
                  <a:close/>
                </a:path>
                <a:path fill="darken" w="21600" h="22405">
                  <a:moveTo>
                    <a:pt x="3794" y="4196"/>
                  </a:moveTo>
                  <a:lnTo>
                    <a:pt x="17806" y="11202"/>
                  </a:lnTo>
                  <a:lnTo>
                    <a:pt x="3794" y="18209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>
              <a:hlinkClick r:id="" action="ppaction://hlinkshowjump?jump=previousslide"/>
            </p:cNvPr>
            <p:cNvSpPr/>
            <p:nvPr/>
          </p:nvSpPr>
          <p:spPr>
            <a:xfrm>
              <a:off x="8604360" y="6597720"/>
              <a:ext cx="288720" cy="260280"/>
            </a:xfrm>
            <a:custGeom>
              <a:avLst/>
              <a:gdLst>
                <a:gd name="textAreaLeft" fmla="*/ 16560 w 288720"/>
                <a:gd name="textAreaRight" fmla="*/ 272160 w 28872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3957" h="21600">
                  <a:moveTo>
                    <a:pt x="0" y="0"/>
                  </a:moveTo>
                  <a:lnTo>
                    <a:pt x="23957" y="0"/>
                  </a:lnTo>
                  <a:lnTo>
                    <a:pt x="23957" y="21600"/>
                  </a:lnTo>
                  <a:lnTo>
                    <a:pt x="0" y="21600"/>
                  </a:lnTo>
                  <a:close/>
                </a:path>
                <a:path fill="lightenLess" w="23957" h="21600">
                  <a:moveTo>
                    <a:pt x="0" y="0"/>
                  </a:moveTo>
                  <a:lnTo>
                    <a:pt x="23957" y="0"/>
                  </a:lnTo>
                  <a:lnTo>
                    <a:pt x="22557" y="1400"/>
                  </a:lnTo>
                  <a:lnTo>
                    <a:pt x="1400" y="1400"/>
                  </a:lnTo>
                  <a:close/>
                </a:path>
                <a:path fill="darken" w="23957" h="21600">
                  <a:moveTo>
                    <a:pt x="23957" y="0"/>
                  </a:moveTo>
                  <a:lnTo>
                    <a:pt x="23957" y="21600"/>
                  </a:lnTo>
                  <a:lnTo>
                    <a:pt x="22557" y="20200"/>
                  </a:lnTo>
                  <a:lnTo>
                    <a:pt x="22557" y="1400"/>
                  </a:lnTo>
                  <a:close/>
                </a:path>
                <a:path fill="darkenLess" w="23957" h="21600">
                  <a:moveTo>
                    <a:pt x="2395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2557" y="20200"/>
                  </a:lnTo>
                  <a:close/>
                </a:path>
                <a:path fill="lighten" w="2395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3957" h="21600">
                  <a:moveTo>
                    <a:pt x="4972" y="10800"/>
                  </a:moveTo>
                  <a:lnTo>
                    <a:pt x="18985" y="3794"/>
                  </a:lnTo>
                  <a:lnTo>
                    <a:pt x="18985" y="1780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8317080" y="6597720"/>
            <a:ext cx="287280" cy="260280"/>
          </a:xfrm>
          <a:custGeom>
            <a:avLst/>
            <a:gdLst>
              <a:gd name="textAreaLeft" fmla="*/ 16560 w 287280"/>
              <a:gd name="textAreaRight" fmla="*/ 270720 w 287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3838" h="21600">
                <a:moveTo>
                  <a:pt x="0" y="0"/>
                </a:moveTo>
                <a:lnTo>
                  <a:pt x="23838" y="0"/>
                </a:lnTo>
                <a:lnTo>
                  <a:pt x="23838" y="21600"/>
                </a:lnTo>
                <a:lnTo>
                  <a:pt x="0" y="21600"/>
                </a:lnTo>
                <a:close/>
              </a:path>
              <a:path fill="lightenLess" w="23838" h="21600">
                <a:moveTo>
                  <a:pt x="0" y="0"/>
                </a:moveTo>
                <a:lnTo>
                  <a:pt x="23838" y="0"/>
                </a:lnTo>
                <a:lnTo>
                  <a:pt x="22438" y="1400"/>
                </a:lnTo>
                <a:lnTo>
                  <a:pt x="1400" y="1400"/>
                </a:lnTo>
                <a:close/>
              </a:path>
              <a:path fill="darken" w="23838" h="21600">
                <a:moveTo>
                  <a:pt x="23838" y="0"/>
                </a:moveTo>
                <a:lnTo>
                  <a:pt x="23838" y="21600"/>
                </a:lnTo>
                <a:lnTo>
                  <a:pt x="22438" y="20200"/>
                </a:lnTo>
                <a:lnTo>
                  <a:pt x="22438" y="1400"/>
                </a:lnTo>
                <a:close/>
              </a:path>
              <a:path fill="darkenLess" w="23838" h="21600">
                <a:moveTo>
                  <a:pt x="23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38" y="20200"/>
                </a:lnTo>
                <a:close/>
              </a:path>
              <a:path fill="lighten" w="23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Как осуществить дистанционное консультирование с помощью ИНТЕРНЕТ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03280" y="0"/>
            <a:ext cx="64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Материал в помощь юному исследователю на с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8604360" y="6597720"/>
            <a:ext cx="539640" cy="260280"/>
            <a:chOff x="8604360" y="6597720"/>
            <a:chExt cx="539640" cy="260280"/>
          </a:xfrm>
        </p:grpSpPr>
        <p:sp>
          <p:nvSpPr>
            <p:cNvPr id="129" name="">
              <a:hlinkClick r:id="" action="ppaction://hlinkshowjump?jump=nextslide"/>
            </p:cNvPr>
            <p:cNvSpPr/>
            <p:nvPr/>
          </p:nvSpPr>
          <p:spPr>
            <a:xfrm>
              <a:off x="8893080" y="6597720"/>
              <a:ext cx="250920" cy="260280"/>
            </a:xfrm>
            <a:custGeom>
              <a:avLst/>
              <a:gdLst>
                <a:gd name="textAreaLeft" fmla="*/ 16200 w 250920"/>
                <a:gd name="textAreaRight" fmla="*/ 234720 w 250920"/>
                <a:gd name="textAreaTop" fmla="*/ 16200 h 260280"/>
                <a:gd name="textAreaBottom" fmla="*/ 244080 h 260280"/>
              </a:gdLst>
              <a:ahLst/>
              <a:rect l="textAreaLeft" t="textAreaTop" r="textAreaRight" b="textAreaBottom"/>
              <a:pathLst>
                <a:path w="21600" h="22405">
                  <a:moveTo>
                    <a:pt x="0" y="0"/>
                  </a:moveTo>
                  <a:lnTo>
                    <a:pt x="21600" y="0"/>
                  </a:lnTo>
                  <a:lnTo>
                    <a:pt x="21600" y="22405"/>
                  </a:lnTo>
                  <a:lnTo>
                    <a:pt x="0" y="22405"/>
                  </a:lnTo>
                  <a:close/>
                </a:path>
                <a:path fill="lightenLess" w="21600" h="22405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405">
                  <a:moveTo>
                    <a:pt x="21600" y="0"/>
                  </a:moveTo>
                  <a:lnTo>
                    <a:pt x="21600" y="22405"/>
                  </a:lnTo>
                  <a:lnTo>
                    <a:pt x="20200" y="21005"/>
                  </a:lnTo>
                  <a:lnTo>
                    <a:pt x="20200" y="1400"/>
                  </a:lnTo>
                  <a:close/>
                </a:path>
                <a:path fill="darkenLess" w="21600" h="22405">
                  <a:moveTo>
                    <a:pt x="21600" y="22405"/>
                  </a:moveTo>
                  <a:lnTo>
                    <a:pt x="0" y="22405"/>
                  </a:lnTo>
                  <a:lnTo>
                    <a:pt x="1400" y="21005"/>
                  </a:lnTo>
                  <a:lnTo>
                    <a:pt x="20200" y="21005"/>
                  </a:lnTo>
                  <a:close/>
                </a:path>
                <a:path fill="lighten" w="21600" h="22405">
                  <a:moveTo>
                    <a:pt x="0" y="22405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1005"/>
                  </a:lnTo>
                  <a:close/>
                </a:path>
                <a:path fill="darken" w="21600" h="22405">
                  <a:moveTo>
                    <a:pt x="3794" y="4196"/>
                  </a:moveTo>
                  <a:lnTo>
                    <a:pt x="17806" y="11202"/>
                  </a:lnTo>
                  <a:lnTo>
                    <a:pt x="3794" y="18209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>
              <a:hlinkClick r:id="" action="ppaction://hlinkshowjump?jump=previousslide"/>
            </p:cNvPr>
            <p:cNvSpPr/>
            <p:nvPr/>
          </p:nvSpPr>
          <p:spPr>
            <a:xfrm>
              <a:off x="8604360" y="6597720"/>
              <a:ext cx="288720" cy="260280"/>
            </a:xfrm>
            <a:custGeom>
              <a:avLst/>
              <a:gdLst>
                <a:gd name="textAreaLeft" fmla="*/ 16560 w 288720"/>
                <a:gd name="textAreaRight" fmla="*/ 272160 w 28872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3957" h="21600">
                  <a:moveTo>
                    <a:pt x="0" y="0"/>
                  </a:moveTo>
                  <a:lnTo>
                    <a:pt x="23957" y="0"/>
                  </a:lnTo>
                  <a:lnTo>
                    <a:pt x="23957" y="21600"/>
                  </a:lnTo>
                  <a:lnTo>
                    <a:pt x="0" y="21600"/>
                  </a:lnTo>
                  <a:close/>
                </a:path>
                <a:path fill="lightenLess" w="23957" h="21600">
                  <a:moveTo>
                    <a:pt x="0" y="0"/>
                  </a:moveTo>
                  <a:lnTo>
                    <a:pt x="23957" y="0"/>
                  </a:lnTo>
                  <a:lnTo>
                    <a:pt x="22557" y="1400"/>
                  </a:lnTo>
                  <a:lnTo>
                    <a:pt x="1400" y="1400"/>
                  </a:lnTo>
                  <a:close/>
                </a:path>
                <a:path fill="darken" w="23957" h="21600">
                  <a:moveTo>
                    <a:pt x="23957" y="0"/>
                  </a:moveTo>
                  <a:lnTo>
                    <a:pt x="23957" y="21600"/>
                  </a:lnTo>
                  <a:lnTo>
                    <a:pt x="22557" y="20200"/>
                  </a:lnTo>
                  <a:lnTo>
                    <a:pt x="22557" y="1400"/>
                  </a:lnTo>
                  <a:close/>
                </a:path>
                <a:path fill="darkenLess" w="23957" h="21600">
                  <a:moveTo>
                    <a:pt x="2395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2557" y="20200"/>
                  </a:lnTo>
                  <a:close/>
                </a:path>
                <a:path fill="lighten" w="2395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3957" h="21600">
                  <a:moveTo>
                    <a:pt x="4972" y="10800"/>
                  </a:moveTo>
                  <a:lnTo>
                    <a:pt x="18985" y="3794"/>
                  </a:lnTo>
                  <a:lnTo>
                    <a:pt x="18985" y="1780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8317080" y="6597720"/>
            <a:ext cx="287280" cy="260280"/>
          </a:xfrm>
          <a:custGeom>
            <a:avLst/>
            <a:gdLst>
              <a:gd name="textAreaLeft" fmla="*/ 16560 w 287280"/>
              <a:gd name="textAreaRight" fmla="*/ 270720 w 287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3838" h="21600">
                <a:moveTo>
                  <a:pt x="0" y="0"/>
                </a:moveTo>
                <a:lnTo>
                  <a:pt x="23838" y="0"/>
                </a:lnTo>
                <a:lnTo>
                  <a:pt x="23838" y="21600"/>
                </a:lnTo>
                <a:lnTo>
                  <a:pt x="0" y="21600"/>
                </a:lnTo>
                <a:close/>
              </a:path>
              <a:path fill="lightenLess" w="23838" h="21600">
                <a:moveTo>
                  <a:pt x="0" y="0"/>
                </a:moveTo>
                <a:lnTo>
                  <a:pt x="23838" y="0"/>
                </a:lnTo>
                <a:lnTo>
                  <a:pt x="22438" y="1400"/>
                </a:lnTo>
                <a:lnTo>
                  <a:pt x="1400" y="1400"/>
                </a:lnTo>
                <a:close/>
              </a:path>
              <a:path fill="darken" w="23838" h="21600">
                <a:moveTo>
                  <a:pt x="23838" y="0"/>
                </a:moveTo>
                <a:lnTo>
                  <a:pt x="23838" y="21600"/>
                </a:lnTo>
                <a:lnTo>
                  <a:pt x="22438" y="20200"/>
                </a:lnTo>
                <a:lnTo>
                  <a:pt x="22438" y="1400"/>
                </a:lnTo>
                <a:close/>
              </a:path>
              <a:path fill="darkenLess" w="23838" h="21600">
                <a:moveTo>
                  <a:pt x="23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38" y="20200"/>
                </a:lnTo>
                <a:close/>
              </a:path>
              <a:path fill="lighten" w="23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1484280"/>
            <a:ext cx="3240000" cy="1513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db1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Алгорит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выпол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рабо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27280" y="2924280"/>
            <a:ext cx="3816360" cy="1655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db1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Arial"/>
              </a:rPr>
              <a:t>Шабло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Arial"/>
              </a:rPr>
              <a:t>оформ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Arial"/>
              </a:rPr>
              <a:t>раб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341360"/>
            <a:ext cx="3097080" cy="151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db1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Памят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по работе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информа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2720" y="4508640"/>
            <a:ext cx="3672000" cy="1584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db1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Arial"/>
              </a:rPr>
              <a:t>Прав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Arial"/>
              </a:rPr>
              <a:t>исполь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Arial"/>
              </a:rPr>
              <a:t>телекомму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Arial"/>
              </a:rPr>
              <a:t>никацио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Arial"/>
              </a:rPr>
              <a:t>сре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003640" y="4653000"/>
            <a:ext cx="3456000" cy="1655640"/>
            <a:chOff x="5003640" y="4653000"/>
            <a:chExt cx="3456000" cy="1655640"/>
          </a:xfrm>
        </p:grpSpPr>
        <p:sp>
          <p:nvSpPr>
            <p:cNvPr id="137" name=""/>
            <p:cNvSpPr/>
            <p:nvPr/>
          </p:nvSpPr>
          <p:spPr>
            <a:xfrm>
              <a:off x="5003640" y="4653000"/>
              <a:ext cx="3456000" cy="165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db1d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38800" y="5013360"/>
              <a:ext cx="2166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660066"/>
                  </a:solidFill>
                  <a:latin typeface="Arial"/>
                </a:rPr>
                <a:t>Ссылки на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660066"/>
                  </a:solidFill>
                  <a:latin typeface="Arial"/>
                </a:rPr>
                <a:t>сай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640"/>
                            </p:stCondLst>
                            <p:childTnLst>
                              <p:par>
                                <p:cTn id="61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140"/>
                            </p:stCondLst>
                            <p:childTnLst>
                              <p:par>
                                <p:cTn id="65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64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140"/>
                            </p:stCondLst>
                            <p:childTnLst>
                              <p:par>
                                <p:cTn id="73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7640"/>
                            </p:stCondLst>
                            <p:childTnLst>
                              <p:par>
                                <p:cTn id="77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7480" y="-1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Ссылки на сай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21360" y="41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23200" y="573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23840" y="1647720"/>
            <a:ext cx="6716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andex.ru, www. rambler.r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исковые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 gramota.ru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равоч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ционный пор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 krugosvet.ru-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нлайн Энциклопе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rubricon.co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УБРИК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упнейший энциклопедический ресур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 portfolio.1sentember.r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естива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следовательских рабо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ащих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Портфолио» и т.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08:38:26Z</dcterms:created>
  <dc:creator> </dc:creator>
  <dc:description/>
  <dc:language>en-US</dc:language>
  <cp:lastModifiedBy>XP GAME 2008</cp:lastModifiedBy>
  <dcterms:modified xsi:type="dcterms:W3CDTF">2010-01-27T19:25:40Z</dcterms:modified>
  <cp:revision>23</cp:revision>
  <dc:subject/>
  <dc:title>Технология дистанционного обучения детей </dc:title>
</cp:coreProperties>
</file>