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EDF8-32DF-4C14-961E-1889AFB5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19B8-3CCB-41B0-BA06-61C7A32F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5B53-A53B-4B7C-BFB0-168F5457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A41D-2D5D-443A-B5CC-85FC988D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1D91-0180-4F62-BD3B-9BF860F9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309C-A340-4C19-AACC-2AAF4972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E43F-2DC6-4F75-AB49-4FE47D52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E77-0164-41E1-8F15-713FBF3D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BB14-AB08-47AF-BCDD-686ECD10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D518-4EB8-4DA5-9BED-645CA45F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DB7B-2CDE-49AB-BCD9-0FEDD269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CCAC-C875-4A73-BF68-C3BD82D1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FCC6-E8AF-4F7F-A9AD-6CAC67ADD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23648"/>
                </a:solidFill>
                <a:latin typeface="Times New Roman"/>
              </a:rPr>
              <a:t>Узнай свой город</a:t>
            </a:r>
            <a:br>
              <a:rPr sz="9600"/>
            </a:br>
            <a:r>
              <a:rPr b="1" lang="en-US" sz="5400" spc="-1" strike="noStrike">
                <a:solidFill>
                  <a:srgbClr val="f23648"/>
                </a:solidFill>
                <a:latin typeface="Times New Roman"/>
              </a:rPr>
              <a:t>часть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оябрь 2010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0"/>
          <a:ext cx="182520" cy="4572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1800" y="4571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0c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00560" cy="5734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580000" y="981000"/>
            <a:ext cx="287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то какого х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 видите на экра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гда он был построе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64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82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0" y="0"/>
          <a:ext cx="182520" cy="4572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1800" y="4571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692280"/>
            <a:ext cx="4248000" cy="433080"/>
          </a:xfrm>
          <a:prstGeom prst="rect">
            <a:avLst/>
          </a:prstGeom>
          <a:solidFill>
            <a:srgbClr val="c0c0c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44500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акая площадь изображена на этом слай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0c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00000" y="1557360"/>
            <a:ext cx="741708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Спасибо  за  участие.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21680" cy="1312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0" y="0"/>
          <a:ext cx="182520" cy="101505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01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1800" y="101502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24360" y="549360"/>
            <a:ext cx="4248000" cy="28728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113520"/>
            <a:ext cx="88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находилось в этом здании в дореволюционный перио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5120" y="393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840" y="12600"/>
            <a:ext cx="9128160" cy="6845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5950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ем и когда построено здание, которое Вы видите на слай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891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0" y="0"/>
          <a:ext cx="182520" cy="46180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61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0" y="4679640"/>
            <a:ext cx="155736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0" rIns="779040" tIns="91404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620640"/>
            <a:ext cx="3959280" cy="3603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308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Вы видите на этом фото (какой район города)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1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0" y="0"/>
          <a:ext cx="182520" cy="46972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69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-360" y="4743720"/>
            <a:ext cx="1427760" cy="22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2560" rIns="744480" tIns="91404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79640" y="549360"/>
            <a:ext cx="295272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329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ой храм Вы видите на этом слай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лександров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бор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ождества Христов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ото начала 20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201840"/>
            <a:ext cx="5651640" cy="3656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3195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013080" y="5084640"/>
            <a:ext cx="27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Фото 2009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42840" y="-7300800"/>
            <a:ext cx="9186840" cy="132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0" y="0"/>
          <a:ext cx="182520" cy="101505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01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1800" y="101502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316080"/>
            <a:ext cx="9144000" cy="93672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805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находится в этом здании в настоящее время и что находилось до революции 1917 г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зовите памятник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архитектуры, который Вы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видите на этом слай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6896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5877000"/>
            <a:ext cx="4356000" cy="981000"/>
          </a:xfrm>
          <a:prstGeom prst="rect">
            <a:avLst/>
          </a:prstGeom>
          <a:solidFill>
            <a:srgbClr val="dddc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481640" y="0"/>
            <a:ext cx="466236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22680" cy="7101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6858000"/>
            <a:ext cx="4500720" cy="243000"/>
          </a:xfrm>
          <a:prstGeom prst="rect">
            <a:avLst/>
          </a:prstGeom>
          <a:solidFill>
            <a:srgbClr val="e7dab7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942160"/>
            <a:ext cx="4500720" cy="916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СПЯТСКАЯ КОЛОКОЛЬ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СПЕНСКОГО МОНАСТЫРЯ В АЛЕКСАНДР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7:05:24Z</dcterms:created>
  <dc:creator>1</dc:creator>
  <dc:description/>
  <dc:language>en-US</dc:language>
  <cp:lastModifiedBy>Людмила</cp:lastModifiedBy>
  <dcterms:modified xsi:type="dcterms:W3CDTF">2012-03-02T16:29:31Z</dcterms:modified>
  <cp:revision>25</cp:revision>
  <dc:subject/>
  <dc:title>Слайд 1</dc:title>
</cp:coreProperties>
</file>