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737-B0E4-4730-9A8C-AE4F8A51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2CA-6F8C-4A71-BC33-A498EADE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0E6-BAD3-4B29-9666-ED2E7C6B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262-A74A-4BCF-9CF4-06005939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D70B-D282-4F98-817F-80C3BE83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97E7-85C5-436F-A0EA-9A9BECC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680E-0B08-4D48-9FAB-419CBEA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D1D6-6669-4316-8B3C-B3600AA2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A4FD-ABC4-48AB-BA69-F087607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78C7-6E52-4951-90BB-A7C8A750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2737-8F35-49B0-908F-EA82495F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E84-1AE7-4360-879F-75F9DE0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73E3-0F9F-4805-97ED-599F3B9A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5435-56A0-4AA9-98FC-11C5B38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76DD-FB4A-4E1A-9B5C-8721999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4ED3-B38C-45F8-9586-F14D9603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4659-D5A9-49DF-A8D1-FB583D6A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B18-5FB8-45EE-AE0A-82D51AEB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79D-FF4B-45B2-B938-0BE7054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5D7-14A0-48BF-AEF8-85957FE3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73B-D6DB-4EF8-AD36-D569D9FE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E77-3CEF-453D-97B0-8BCF37A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FE8-B9B2-42D6-866B-A6A8CA4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B6B-F077-4DC5-AC1B-1CAF781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8EC2-DFB0-4764-A1D0-736AD58DF6A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1E79-AE85-43FD-9A85-2E617A70F79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Times New Roman"/>
              </a:rPr>
              <a:t>Игольница «Ягодка»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840360" cy="3745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81480" y="5445000"/>
            <a:ext cx="49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Составила: Муштуренкова Татьяна Геннадьевна </a:t>
            </a:r>
            <a:br>
              <a:rPr sz="1800"/>
            </a:b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учитель начальных классов МБОУ ООШ №59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г. Прокопьевска Кемеровской области</a:t>
            </a: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Отрезаем 10 см тесьмы или толстой нитки и делаем петельку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55760" y="1700280"/>
            <a:ext cx="7537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Приклеем петельку с левой стороны листочка, на края петельки наклеить прямоугольник из бумаги или картон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1960560"/>
            <a:ext cx="774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На правую сторону зелёного листика приклееваем  ягодку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6676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Оформляем ягодку лаком с блестками или фломастерам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740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Times New Roman"/>
              </a:rPr>
              <a:t>Шаблоны</a:t>
            </a:r>
            <a:endParaRPr b="0" lang="en-US" sz="8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-4543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99"/>
                </a:solidFill>
                <a:latin typeface="Arial"/>
              </a:rPr>
              <a:t>Желаю</a:t>
            </a:r>
            <a:endParaRPr b="1" lang="en-US" sz="117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1700" spc="-1" strike="noStrike">
                <a:solidFill>
                  <a:srgbClr val="ff3399"/>
                </a:solidFill>
                <a:latin typeface="Arial"/>
              </a:rPr>
              <a:t>успехов!</a:t>
            </a:r>
            <a:endParaRPr b="1" lang="en-US" sz="11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400"/>
                            </p:stCondLst>
                            <p:childTnLst>
                              <p:par>
                                <p:cTn id="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Материалы для работ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оролоновая губка (красного цвета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Ножницы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Зелёный картон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Клей ПВ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Толстая нит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Лак с блестками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Фломастер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Шаблоны листика и ягод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Берем кухонную губку и аккуратно отрываем абразивную  фибру (шероховатую поверхность).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740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6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С помощью гелевой ручки или тонкого фломастера переводим детали на поролон.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82560" y="2133720"/>
            <a:ext cx="75614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Аккуратно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 вырезаем ягодку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812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Ножницами выравниваем ягодку, заглаживая ее бок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77407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8120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На левой стороне зеленого картона выполняем разметку листочка по шаблону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5610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Аккуратно </a:t>
            </a:r>
            <a:br>
              <a:rPr sz="4800"/>
            </a:b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вырезаем листочек.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Получится вот такой замечательный листик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74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4:12:31Z</dcterms:created>
  <dc:creator>Admin</dc:creator>
  <dc:description/>
  <dc:language>en-US</dc:language>
  <cp:lastModifiedBy>Admin</cp:lastModifiedBy>
  <dcterms:modified xsi:type="dcterms:W3CDTF">2012-03-02T19:26:10Z</dcterms:modified>
  <cp:revision>6</cp:revision>
  <dc:subject/>
  <dc:title>Слайд 1</dc:title>
</cp:coreProperties>
</file>