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7510-045A-4E79-BBC3-11174AA779C6}" type="slidenum">
              <a:rPr b="0" lang="ru-RU" sz="1200" spc="-1" strike="noStrike">
                <a:solidFill>
                  <a:srgbClr val="000000"/>
                </a:solidFill>
                <a:latin typeface="Centur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6A14-2664-4FA7-94F7-570CF328DCB8}" type="slidenum">
              <a:rPr b="0" lang="ru-RU" sz="1200" spc="-1" strike="noStrike">
                <a:solidFill>
                  <a:srgbClr val="000000"/>
                </a:solidFill>
                <a:latin typeface="Centur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CEA5-A57B-45CD-AFAC-B68D2FBFFDA9}" type="slidenum">
              <a:rPr b="0" lang="ru-RU" sz="1200" spc="-1" strike="noStrike">
                <a:solidFill>
                  <a:srgbClr val="000000"/>
                </a:solidFill>
                <a:latin typeface="Centur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EBA0-AECD-4B0A-BCE8-E4D3B5832F48}" type="slidenum">
              <a:rPr b="0" lang="ru-RU" sz="1200" spc="-1" strike="noStrike">
                <a:solidFill>
                  <a:srgbClr val="000000"/>
                </a:solidFill>
                <a:latin typeface="Centur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95C6-A814-4437-AABC-51D0A8E0DEB6}" type="slidenum">
              <a:rPr b="0" lang="ru-RU" sz="1200" spc="-1" strike="noStrike">
                <a:solidFill>
                  <a:srgbClr val="000000"/>
                </a:solidFill>
                <a:latin typeface="Centur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1CDF-CF78-448A-A0A9-463F7525DD46}" type="slidenum">
              <a:rPr b="0" lang="ru-RU" sz="1200" spc="-1" strike="noStrike">
                <a:solidFill>
                  <a:srgbClr val="000000"/>
                </a:solidFill>
                <a:latin typeface="Centur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9C21-2CD2-488A-874D-225AFFE61FB3}" type="slidenum">
              <a:rPr b="0" lang="ru-RU" sz="1200" spc="-1" strike="noStrike">
                <a:solidFill>
                  <a:srgbClr val="000000"/>
                </a:solidFill>
                <a:latin typeface="Centur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06D8-D929-45EC-B47A-C929DC4715A7}" type="slidenum">
              <a:rPr b="0" lang="ru-RU" sz="1200" spc="-1" strike="noStrike">
                <a:solidFill>
                  <a:srgbClr val="000000"/>
                </a:solidFill>
                <a:latin typeface="Centur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817B-B80E-4F9A-886B-F8FEB05B4FD3}" type="slidenum">
              <a:rPr b="0" lang="ru-RU" sz="1200" spc="-1" strike="noStrike">
                <a:solidFill>
                  <a:srgbClr val="000000"/>
                </a:solidFill>
                <a:latin typeface="Centur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10C1-98FF-4016-BC3D-1DBA922C111A}" type="slidenum">
              <a:rPr b="0" lang="ru-RU" sz="1200" spc="-1" strike="noStrike">
                <a:solidFill>
                  <a:srgbClr val="000000"/>
                </a:solidFill>
                <a:latin typeface="Centur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C149-C49E-4D82-A5CF-0ED8E4A0CB1C}" type="slidenum">
              <a:rPr b="0" lang="ru-RU" sz="1200" spc="-1" strike="noStrike">
                <a:solidFill>
                  <a:srgbClr val="000000"/>
                </a:solidFill>
                <a:latin typeface="Centur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8A84-061F-4C72-8F55-D9C8B0042BB2}" type="slidenum">
              <a:rPr b="0" lang="ru-RU" sz="1200" spc="-1" strike="noStrike">
                <a:solidFill>
                  <a:srgbClr val="000000"/>
                </a:solidFill>
                <a:latin typeface="Centur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FB8E-BCE8-4A93-9CDF-715E9621F54A}" type="slidenum">
              <a:rPr b="0" lang="ru-RU" sz="1200" spc="-1" strike="noStrike">
                <a:solidFill>
                  <a:srgbClr val="000000"/>
                </a:solidFill>
                <a:latin typeface="Centur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A0FC-4226-48F0-B5A0-F1E26CEFB530}" type="slidenum">
              <a:rPr b="0" lang="ru-RU" sz="1200" spc="-1" strike="noStrike">
                <a:solidFill>
                  <a:srgbClr val="000000"/>
                </a:solidFill>
                <a:latin typeface="Centur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7B8-7980-4FAB-9D1E-DD488EAD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9888-F9A9-4579-A7FA-CE6AE380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2AC-8A14-4BC2-B9C2-C8F17203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CCD4-18B5-42DF-B9F7-7C906787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0154-E561-4F84-A7F4-D3A51BBA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7250-3AA4-4311-B8FA-08D5178D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022A-B658-4502-88B7-821E4B7C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C881-DA93-4B8D-868F-77C9F30D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EB70-B383-4C17-BF34-E5763E3B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2D2D-A864-4BFA-8A62-53804597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5B14-88CC-4FB7-9BBC-7598B415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B21A-D08A-4327-B634-FD6E56DC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D0DA-B423-4FD1-B312-FD418134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6B09-C5B3-41EC-8A97-E4EA7901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9664-9964-44D7-8B41-F607197B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08EB-9B57-4554-9E67-3372AA00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45F6-57E1-4D1B-929F-45B7DF37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7FAA-64FC-4766-AC0B-E63A075A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89AD-E237-4900-B9B8-B4822050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058A-D091-484A-98CE-A8B4BEBD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D3BA-D00E-439C-B196-FC703248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A9B6-8A28-4A89-B6A1-AE17A798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357D-53D4-4951-8973-047B3F71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3353-CD4C-48A6-AD02-A49BD73C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4876-9651-4C98-A450-F0E20D6A1E69}" type="slidenum">
              <a:rPr b="0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21EA-68E3-4B11-9B1B-5961AEC774BC}" type="slidenum">
              <a:rPr b="0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essapro.ru/gifts/index.php?categoryID=93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mobd.ru/commerce/products_new.php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rw6ase.narod.ru/s/sonata/sonata_rp.html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нципы радиосвязи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92" name="Picture 3" descr="is?69HyEFSbx0tM1vlnFiL9pm4265lBV-Bv9dH1jjts8L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2781360"/>
            <a:ext cx="2554200" cy="191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s?buWvzPa_arPmNlYWD4sBuAhlaE-v9a6JgD_RKN78GK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2997360"/>
            <a:ext cx="2332080" cy="2665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is?3nwJVhuFNCf-ZYlfNE7V9sJm7VHlYJyc0MyrA0-xgd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7720" y="4071960"/>
            <a:ext cx="2265120" cy="1681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is?hhn55a_CFqc8y5SoL2q-Q2RRnoZMpt4pg02h-yFJCEY"/>
          <p:cNvPicPr/>
          <p:nvPr/>
        </p:nvPicPr>
        <p:blipFill>
          <a:blip r:embed="rId7"/>
          <a:stretch/>
        </p:blipFill>
        <p:spPr>
          <a:xfrm>
            <a:off x="3286080" y="1285920"/>
            <a:ext cx="2249640" cy="2592360"/>
          </a:xfrm>
          <a:prstGeom prst="rect">
            <a:avLst/>
          </a:prstGeom>
          <a:ln w="0">
            <a:noFill/>
          </a:ln>
        </p:spPr>
      </p:pic>
      <p:sp>
        <p:nvSpPr>
          <p:cNvPr id="96" name="TextBox 8"/>
          <p:cNvSpPr/>
          <p:nvPr/>
        </p:nvSpPr>
        <p:spPr>
          <a:xfrm>
            <a:off x="1143000" y="6357960"/>
            <a:ext cx="778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"/>
              </a:rPr>
              <a:t>Автор презентации: Некрасова Е.А., МОУ СОШ №3</a:t>
            </a:r>
            <a:endParaRPr b="0" lang="en-US" sz="9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 spd="med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7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7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7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7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32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Детектировани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процесс выделения из амплитудно-модулированных колебаний низкочастотных колебаний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547640" y="1628640"/>
            <a:ext cx="6048720" cy="482940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4"/>
          <p:cNvSpPr/>
          <p:nvPr/>
        </p:nvSpPr>
        <p:spPr>
          <a:xfrm>
            <a:off x="8604360" y="6524640"/>
            <a:ext cx="539640" cy="333360"/>
          </a:xfrm>
          <a:custGeom>
            <a:avLst/>
            <a:gdLst>
              <a:gd name="textAreaLeft" fmla="*/ 21600 w 539640"/>
              <a:gd name="textAreaRight" fmla="*/ 518040 w 53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51" h="21600">
                <a:moveTo>
                  <a:pt x="0" y="0"/>
                </a:moveTo>
                <a:lnTo>
                  <a:pt x="34951" y="0"/>
                </a:lnTo>
                <a:lnTo>
                  <a:pt x="34951" y="21600"/>
                </a:lnTo>
                <a:lnTo>
                  <a:pt x="0" y="21600"/>
                </a:lnTo>
                <a:close/>
              </a:path>
              <a:path fill="lightenLess" w="34951" h="21600">
                <a:moveTo>
                  <a:pt x="0" y="0"/>
                </a:moveTo>
                <a:lnTo>
                  <a:pt x="34951" y="0"/>
                </a:lnTo>
                <a:lnTo>
                  <a:pt x="33551" y="1400"/>
                </a:lnTo>
                <a:lnTo>
                  <a:pt x="1400" y="1400"/>
                </a:lnTo>
                <a:close/>
              </a:path>
              <a:path fill="darken" w="34951" h="21600">
                <a:moveTo>
                  <a:pt x="34951" y="0"/>
                </a:moveTo>
                <a:lnTo>
                  <a:pt x="34951" y="21600"/>
                </a:lnTo>
                <a:lnTo>
                  <a:pt x="33551" y="20200"/>
                </a:lnTo>
                <a:lnTo>
                  <a:pt x="33551" y="1400"/>
                </a:lnTo>
                <a:close/>
              </a:path>
              <a:path fill="darkenLess" w="34951" h="21600">
                <a:moveTo>
                  <a:pt x="34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51" y="20200"/>
                </a:lnTo>
                <a:close/>
              </a:path>
              <a:path fill="lighten" w="34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51" h="21600">
                <a:moveTo>
                  <a:pt x="10469" y="10800"/>
                </a:moveTo>
                <a:lnTo>
                  <a:pt x="24482" y="3794"/>
                </a:lnTo>
                <a:lnTo>
                  <a:pt x="24482" y="17806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 spd="med">
    <p:wheel spokes="1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79328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00"/>
                </a:solidFill>
                <a:uFillTx/>
                <a:latin typeface="Arial"/>
              </a:rPr>
              <a:t>Блок-схема «Принципы радиосвязи»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1" name="Picture 3" descr="{BE4E1BD3-8A2C-461B-BDC7-4D11BEF01DBD}"/>
          <p:cNvPicPr/>
          <p:nvPr/>
        </p:nvPicPr>
        <p:blipFill>
          <a:blip r:embed="rId1"/>
          <a:stretch/>
        </p:blipFill>
        <p:spPr>
          <a:xfrm>
            <a:off x="250920" y="1197000"/>
            <a:ext cx="8713800" cy="566100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4"/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8162" y="10800"/>
                </a:moveTo>
                <a:lnTo>
                  <a:pt x="22175" y="3794"/>
                </a:lnTo>
                <a:lnTo>
                  <a:pt x="22175" y="17806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 spd="med">
    <p:wheel spokes="1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6633"/>
                </a:solidFill>
                <a:uFillTx/>
                <a:latin typeface="Arial"/>
              </a:rPr>
              <a:t>Простейший радиоприёмник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3390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just">
              <a:spcBef>
                <a:spcPts val="400"/>
              </a:spcBef>
              <a:buClr>
                <a:srgbClr val="2d59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ёмная антенна – для улавливания ЭМВ.</a:t>
            </a: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  <a:p>
            <a:pPr marL="522720" indent="-522720" algn="just">
              <a:spcBef>
                <a:spcPts val="400"/>
              </a:spcBef>
              <a:buClr>
                <a:srgbClr val="2d59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земление  - для увеличения дальности приёма.</a:t>
            </a: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  <a:p>
            <a:pPr marL="522720" indent="-522720" algn="just">
              <a:spcBef>
                <a:spcPts val="400"/>
              </a:spcBef>
              <a:buClr>
                <a:srgbClr val="2d59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ебательный контур – для настройки на частоту определённой радиостанции.</a:t>
            </a: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  <a:p>
            <a:pPr marL="522720" indent="-522720" algn="just">
              <a:spcBef>
                <a:spcPts val="400"/>
              </a:spcBef>
              <a:buClr>
                <a:srgbClr val="2d59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омкоговоритель – превращает колебания тока низкой частоты в колебания воздуха той же частоты.</a:t>
            </a: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  <a:p>
            <a:pPr marL="522720" indent="-522720" algn="just">
              <a:spcBef>
                <a:spcPts val="400"/>
              </a:spcBef>
              <a:buClr>
                <a:srgbClr val="2d59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денсатор – фильтр, для сглаживания пульсации тока. </a:t>
            </a: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067280" y="2133720"/>
            <a:ext cx="4514760" cy="4319640"/>
          </a:xfrm>
          <a:prstGeom prst="rect">
            <a:avLst/>
          </a:prstGeom>
          <a:ln w="0">
            <a:noFill/>
          </a:ln>
        </p:spPr>
      </p:pic>
      <p:sp>
        <p:nvSpPr>
          <p:cNvPr id="126" name="WordArt 5"/>
          <p:cNvSpPr txBox="1"/>
          <p:nvPr/>
        </p:nvSpPr>
        <p:spPr>
          <a:xfrm>
            <a:off x="4859280" y="1989000"/>
            <a:ext cx="2271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WordArt 6"/>
          <p:cNvSpPr txBox="1"/>
          <p:nvPr/>
        </p:nvSpPr>
        <p:spPr>
          <a:xfrm>
            <a:off x="4932360" y="5950080"/>
            <a:ext cx="2271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5148360" y="4076640"/>
            <a:ext cx="2268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WordArt 8"/>
          <p:cNvSpPr txBox="1"/>
          <p:nvPr/>
        </p:nvSpPr>
        <p:spPr>
          <a:xfrm>
            <a:off x="6732720" y="2349360"/>
            <a:ext cx="2268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WordArt 9"/>
          <p:cNvSpPr txBox="1"/>
          <p:nvPr/>
        </p:nvSpPr>
        <p:spPr>
          <a:xfrm>
            <a:off x="8532720" y="3716280"/>
            <a:ext cx="2271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WordArt 10"/>
          <p:cNvSpPr txBox="1"/>
          <p:nvPr/>
        </p:nvSpPr>
        <p:spPr>
          <a:xfrm>
            <a:off x="7093080" y="4076640"/>
            <a:ext cx="2268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wheel spokes="1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3300"/>
                </a:solidFill>
                <a:latin typeface="Arial"/>
              </a:rPr>
              <a:t>Спасибо </a:t>
            </a:r>
            <a:br>
              <a:rPr sz="5400"/>
            </a:br>
            <a:r>
              <a:rPr b="0" lang="ru-RU" sz="5400" spc="-1" strike="noStrike">
                <a:solidFill>
                  <a:srgbClr val="993300"/>
                </a:solidFill>
                <a:latin typeface="Arial"/>
              </a:rPr>
              <a:t>за внимание!</a:t>
            </a:r>
            <a:endParaRPr b="0" lang="en-US" sz="5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1143000" y="6357960"/>
            <a:ext cx="778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"/>
              </a:rPr>
              <a:t>Автор презентации: Некрасова Е.А., МОУ СОШ №3</a:t>
            </a:r>
            <a:endParaRPr b="0" lang="en-US" sz="9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Ознакомиться с практическим применением электромагнитных волн;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Изучить физический принцип радиотелефонной связи.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Изобретение радио А.С. Поповым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Радиотелефонная вязь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Модуляция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Детектирование 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Блок-схема «Принципы радиосвязи»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Простейший детекторный приёмник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Радио А. С. Попова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35002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400"/>
              </a:spcBef>
              <a:buClr>
                <a:srgbClr val="2d59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</a:rPr>
              <a:t>Когерер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– стеклянная трубка с двумя электродами, в ней помещены металлические опилки. Когерер (от лат. - “когеренция” - “сцепление”). </a:t>
            </a: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00"/>
              </a:spcBef>
              <a:buClr>
                <a:srgbClr val="2d59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</a:rPr>
              <a:t>Звонок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– для регистрации волн и для встряхивания когерера. </a:t>
            </a: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00"/>
              </a:spcBef>
              <a:buClr>
                <a:srgbClr val="2d59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Чтобы повысить чувствительность аппарата, А.С. Попов один из выводов когерера заземлил. </a:t>
            </a: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</a:rPr>
              <a:t>Заземление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превращает проводящую поверхность земли в часть открытого колебательного контура , что увеличивает дальность приема .  </a:t>
            </a: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00"/>
              </a:spcBef>
              <a:buClr>
                <a:srgbClr val="2d59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ругой вывод присоединил к высоко поднятому куску проволоки, создав первую приемную </a:t>
            </a: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</a:rPr>
              <a:t>антенну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для беспроволочной связи. </a:t>
            </a: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103" name="Picture 4" descr="{20B2A9EB-B706-4E8F-B941-30B417D77C31}"/>
          <p:cNvPicPr/>
          <p:nvPr/>
        </p:nvPicPr>
        <p:blipFill>
          <a:blip r:embed="rId1"/>
          <a:stretch/>
        </p:blipFill>
        <p:spPr>
          <a:xfrm>
            <a:off x="3635280" y="981000"/>
            <a:ext cx="5508720" cy="5877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Приемник А"/>
          <p:cNvPicPr/>
          <p:nvPr/>
        </p:nvPicPr>
        <p:blipFill>
          <a:blip r:embed="rId1"/>
          <a:stretch/>
        </p:blipFill>
        <p:spPr>
          <a:xfrm>
            <a:off x="1547640" y="1557360"/>
            <a:ext cx="5905800" cy="5122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000" y="259920"/>
            <a:ext cx="8459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7 мая 1895 г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 заседании Русского физико-химического общества в Петербурге А. С. Попов продемонстрировал действие своего прибора – первого в мире радиоприёмника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817236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09" h="21600">
                <a:moveTo>
                  <a:pt x="9898" y="10800"/>
                </a:moveTo>
                <a:lnTo>
                  <a:pt x="23911" y="3794"/>
                </a:lnTo>
                <a:lnTo>
                  <a:pt x="23911" y="17806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 spd="med">
    <p:wheel spokes="1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900"/>
                </a:solidFill>
                <a:latin typeface="Arial"/>
              </a:rPr>
              <a:t>Радиосвязь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48664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иосвязь – передача и приём информации с помощью радиоволн, распространяющихся в пространстве без проводов.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 – переменный ток частоты от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ahoma"/>
              </a:rPr>
              <a:t>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  <a:ea typeface="Tahoma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ahoma"/>
              </a:rPr>
              <a:t> Гц до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  <a:ea typeface="Tahoma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ahoma"/>
              </a:rPr>
              <a:t> Гц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Tahoma"/>
              </a:rPr>
              <a:t>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ahoma"/>
              </a:rPr>
              <a:t>=0,3 м – 1,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ahoma"/>
              </a:rPr>
              <a:t>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  <a:ea typeface="Tahoma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ahoma"/>
              </a:rPr>
              <a:t> м).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93300"/>
                </a:solidFill>
                <a:uFillTx/>
                <a:latin typeface="Arial"/>
              </a:rPr>
              <a:t>Виды радиосвязи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839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d59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900"/>
                </a:solidFill>
                <a:latin typeface="Arial"/>
              </a:rPr>
              <a:t>Радиотелеграфная связь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d59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900"/>
                </a:solidFill>
                <a:latin typeface="Arial"/>
              </a:rPr>
              <a:t>Радиотелефонная связь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d59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900"/>
                </a:solidFill>
                <a:latin typeface="Arial"/>
              </a:rPr>
              <a:t>Радиовещание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d59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900"/>
                </a:solidFill>
                <a:latin typeface="Arial"/>
              </a:rPr>
              <a:t>Телевидение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d59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900"/>
                </a:solidFill>
                <a:latin typeface="Arial"/>
              </a:rPr>
              <a:t>Радиолокация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тличаются типом кодирования передаваемого сигнала.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00"/>
                </a:solidFill>
                <a:uFillTx/>
                <a:latin typeface="Arial"/>
              </a:rPr>
              <a:t>Радиотелефонная связь – передача речи или музыки  с помощью ЭМВ.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адиотелефонной связи колебания давления воздуха в звуковой волне превращаются с помощью микрофона в электрические колебания той же формы. Но колебания звуковой частоты представляют собой сравнительно медленные колебания, а ЭМВ низкой (звуковой) частоты почти не излучаются. Чтобы осуществить радиотелефонную связь необходимо использовать высокочастотные колебания, интенсивно излучаемые антенной (используют генератор).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ередачи звука эти высокочастотные колебания изменяют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модулиру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с помощью электрических колебаний низкой (звуковой) частоты.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риёма из модулированных колебаний высокой частоты выделяют низкочастотные колебания –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етектиру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8162" y="10800"/>
                </a:moveTo>
                <a:lnTo>
                  <a:pt x="22175" y="3794"/>
                </a:lnTo>
                <a:lnTo>
                  <a:pt x="22175" y="17806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 spd="med">
    <p:wheel spokes="1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{003CEB8F-4708-493F-A106-671C1056BA7E}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5732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Модуляция передаваемого сигнал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кодированное изменение одного из параметров (амплитуды, частоты)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8604360" y="6237360"/>
            <a:ext cx="539640" cy="620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620640"/>
              <a:gd name="textAreaBottom" fmla="*/ 585720 h 620640"/>
            </a:gdLst>
            <a:ahLst/>
            <a:rect l="textAreaLeft" t="textAreaTop" r="textAreaRight" b="textAreaBottom"/>
            <a:pathLst>
              <a:path w="21600" h="24840">
                <a:moveTo>
                  <a:pt x="0" y="0"/>
                </a:moveTo>
                <a:lnTo>
                  <a:pt x="21600" y="0"/>
                </a:lnTo>
                <a:lnTo>
                  <a:pt x="21600" y="24840"/>
                </a:lnTo>
                <a:lnTo>
                  <a:pt x="0" y="24840"/>
                </a:lnTo>
                <a:close/>
              </a:path>
              <a:path fill="lightenLess" w="21600" h="248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40">
                <a:moveTo>
                  <a:pt x="21600" y="0"/>
                </a:moveTo>
                <a:lnTo>
                  <a:pt x="21600" y="24840"/>
                </a:lnTo>
                <a:lnTo>
                  <a:pt x="20200" y="23440"/>
                </a:lnTo>
                <a:lnTo>
                  <a:pt x="20200" y="1400"/>
                </a:lnTo>
                <a:close/>
              </a:path>
              <a:path fill="darkenLess" w="21600" h="24840">
                <a:moveTo>
                  <a:pt x="21600" y="24840"/>
                </a:moveTo>
                <a:lnTo>
                  <a:pt x="0" y="24840"/>
                </a:lnTo>
                <a:lnTo>
                  <a:pt x="1400" y="23440"/>
                </a:lnTo>
                <a:lnTo>
                  <a:pt x="20200" y="23440"/>
                </a:lnTo>
                <a:close/>
              </a:path>
              <a:path fill="lighten" w="21600" h="24840">
                <a:moveTo>
                  <a:pt x="0" y="248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40"/>
                </a:lnTo>
                <a:close/>
              </a:path>
              <a:path fill="darken" w="21600" h="24840">
                <a:moveTo>
                  <a:pt x="3794" y="12420"/>
                </a:moveTo>
                <a:lnTo>
                  <a:pt x="17806" y="5414"/>
                </a:lnTo>
                <a:lnTo>
                  <a:pt x="17806" y="19426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 spd="med">
    <p:wheel spokes="1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16:13:04Z</dcterms:created>
  <dc:creator>user</dc:creator>
  <dc:description/>
  <dc:language>en-US</dc:language>
  <cp:lastModifiedBy>user</cp:lastModifiedBy>
  <dcterms:modified xsi:type="dcterms:W3CDTF">2012-03-02T06:09:37Z</dcterms:modified>
  <cp:revision>1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499511049</vt:lpwstr>
  </property>
</Properties>
</file>