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7788-6F86-48FF-B934-2845C449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883D-DCD4-4E3C-A95B-FFF7A3A9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EF5-7E80-4905-A4E8-41E4F5A0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25C7-4274-4E01-BB5A-E3F1CFA7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77F0-E313-4587-BE5E-C061469D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28B2-43E3-4220-8A76-03C10714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0BFE-8C4F-47DA-8F5F-93009484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B432-2CD4-404A-92C5-66C21B92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01B6-A482-42C3-B132-E8E89802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BA0C-7AF0-4526-A993-2495CE44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2886-7FA7-497D-A1F1-055A98BA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9F1-04C7-4482-921C-EF95C725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0F2B-931F-40F3-A498-0DB4787A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414A-F03F-48B7-AEDA-6480DF5C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34D6-C0C5-4577-AAF4-0D087B79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3BDF-4A1A-44E2-9250-C59A0C43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3951-4E07-4E85-A459-8F591021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E95-0932-40F9-AFA0-0C15DF78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204-3F1A-4F03-987A-F1E04D48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114-B8E2-49EC-B368-B363F998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F9A-2659-4CE4-84D1-AB130128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94D-DE1A-48E9-9040-E043D7DC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546-BA8D-4897-9009-BE5905C2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7D1-E2FB-41E1-B7D5-1E900B37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B0D1-7F65-4F8C-BCEB-2A3A01BD97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50AC-E933-4B6B-A550-51AB1A88AC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азминка к уроку русского языка. 3 класс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Подготовила Михайлова Надежда Юрьев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Разберите по составу имена существительные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</a:rPr>
              <a:t>Берез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</a:rPr>
              <a:t>Листочка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Что вы знаете о словообразовании имен существительных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00720" y="1268280"/>
            <a:ext cx="3743280" cy="288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Выполните морфологический разбор имен существительных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</a:rPr>
              <a:t>В лесу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</a:rPr>
              <a:t>Листь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4033800" cy="4895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Разберите по членам предложения 2 предлжение.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о частям речи разберите 3 предложение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843280" y="4365720"/>
            <a:ext cx="3313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Устно составьте рассказ о любой части речи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8064720" cy="432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Verdana"/>
              </a:rPr>
              <a:t>Спасибо за работу!</a:t>
            </a:r>
            <a:br>
              <a:rPr sz="3600"/>
            </a:br>
            <a:r>
              <a:rPr b="1" i="1" lang="en-US" sz="3600" spc="-1" strike="noStrike">
                <a:solidFill>
                  <a:srgbClr val="cc0000"/>
                </a:solidFill>
                <a:latin typeface="Verdana"/>
              </a:rPr>
              <a:t>Продолжаем урок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7993080" cy="4392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26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Цели: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повторить разбор имен существительных по составу;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повторить морфологический разбор существительных;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повторить разборы предлож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371592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Технологии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использование ИКТ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игровая;оцениван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Спишите текст. Вставьте пропущенные буквы. Объясните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Х_р_шо (в)л_су в полдень. Кр_сноватые сосны развесили свои иглистые в_рши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00360" y="4365720"/>
            <a:ext cx="3887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333360"/>
            <a:ext cx="80010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З_леные елоч_ки (вы)гибают к_лючие ветв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3166920" cy="352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699920"/>
            <a:ext cx="8001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Красуется белая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б_ре_ка с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душ_стым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лист_ям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543640" y="0"/>
            <a:ext cx="360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Др_ж_т  серая  _син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573360"/>
            <a:ext cx="5219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Коренастый ду_ раскинул свои вырезанные лист_я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6769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42920" y="333360"/>
            <a:ext cx="734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дания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7201080" cy="41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Выполните фонетический разбор слов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</a:rPr>
              <a:t>Елоч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</a:rPr>
              <a:t>Колюч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5589720"/>
            <a:ext cx="79200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9:10:57Z</dcterms:created>
  <dc:creator>Школа</dc:creator>
  <dc:description/>
  <dc:language>en-US</dc:language>
  <cp:lastModifiedBy>Школа</cp:lastModifiedBy>
  <dcterms:modified xsi:type="dcterms:W3CDTF">2012-03-02T14:46:55Z</dcterms:modified>
  <cp:revision>3</cp:revision>
  <dc:subject/>
  <dc:title>Разминка к уроку русского языка. 3 класс.</dc:title>
</cp:coreProperties>
</file>