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C0E-53B4-45FD-80F4-5E684299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756-B192-4B6C-86A8-AAC53A02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434-CD1A-4128-876E-EFEA38B1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2E9-5219-4127-BC43-BE2F6FB7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3CBD-C395-44E2-A105-A0C5C4C4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A0BA-6145-463C-B532-0AF8151E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30FC-EC58-4C16-9ED7-51B4A40B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F86B-1F48-4F5C-B9E3-EC1F2F78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E769-0F5A-428E-9AD8-CCB81ABF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3629-CAF3-44FB-B592-2C72EA68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49D6-988A-4A41-97AC-DC6C34F3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3F1-6209-4FE6-BB68-3BF00620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E82-EF7C-4D4D-B34A-50D3EB3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B25D-790F-4EE8-A627-BB3C8F68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30A0-622F-4737-BF57-9939C849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1494-07FE-43D1-9299-03252D3C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7935-0B25-4010-85CC-7E1D47A1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92A-495B-4AB0-8827-983CBB57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C00-EEB0-4414-8E96-42315A4D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84F-C44F-487C-AEDB-894AABDF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6D6-8681-4868-BF4C-0DE38690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472-CAAA-4C74-8B66-168F16B1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59E-9F4C-4A23-9629-3EA9CE08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A0C-1E46-4C52-B54B-8A4EC748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77FD-3572-4203-9726-96E2A93647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F03F-CABF-4DB1-8ABB-451207893D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11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69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Мальчик съел 3 пирожных, а его мама – на 4 пирожных больше. Сколько пирожных съели мама с сыном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987640" cy="393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69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)  3+4=7(п.) съела мам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)  7+3=10(п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4535640" cy="3933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169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В холодный день посетители кафе выпили 7 упаковок минеральной воды, а в жаркий день – в 5 раз больше. На сколько больше упаковок воды было продано в жаркий ден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35280" y="4437000"/>
            <a:ext cx="5508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69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*5=35 (уп.) выпили посетители в жаркий ден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5-7=28 (уп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60036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i="1" lang="en-US" sz="6000" spc="-1" strike="noStrike">
                <a:solidFill>
                  <a:srgbClr val="ff3399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</a:rPr>
              <a:t>Продолжае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8000" spc="-1" strike="noStrike">
                <a:solidFill>
                  <a:srgbClr val="3333cc"/>
                </a:solidFill>
                <a:latin typeface="Times New Roman"/>
              </a:rPr>
              <a:t>урок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164360" y="2852640"/>
            <a:ext cx="1979640" cy="400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ение примеров и задач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устная работа)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одготовила Михай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Надежда Юрьевн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24000" y="3429000"/>
            <a:ext cx="4535640" cy="32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Цель: совершенствовать математические навыки учащихся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Технологи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использование ИКТ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игров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проблемного диалог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здоровьесберегающие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оценива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Times New Roman"/>
              </a:rPr>
              <a:t>Вычислит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0:15=                           20*5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6:11=                           90:6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20+280=                      510-30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0:50=                         52:4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2:12=                           34:17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40:60=                         100:5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0:14=                           450: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43280" y="3573360"/>
            <a:ext cx="237636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Решите уравне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1844640"/>
          <a:ext cx="8280360" cy="4287960"/>
        </p:xfrm>
        <a:graphic>
          <a:graphicData uri="http://schemas.openxmlformats.org/drawingml/2006/table">
            <a:tbl>
              <a:tblPr/>
              <a:tblGrid>
                <a:gridCol w="2760480"/>
                <a:gridCol w="2759040"/>
                <a:gridCol w="276084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-а=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:в=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-х=5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*с=6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:у=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:12=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Найдите значения выражений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5:19+10*5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4+64:8: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00-450:90*19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Решите задачи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Вася считал рыбок в аквариуме. Меченосцев он насчитал 8, а гурами – в 3 раза больше, чем меченосцев. Сколько рыб насчитал Вас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40360" y="3402000"/>
            <a:ext cx="3203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75280" y="4933800"/>
            <a:ext cx="496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*3=24(р.) было гу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4+8=32(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8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Один мальчик на свои деньги мог купить или 8 рогаликов, или 6 пирожков. Что стоило дороже - рогалик или пирожок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3745080" cy="3166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34:16Z</dcterms:created>
  <dc:creator>Школа</dc:creator>
  <dc:description/>
  <dc:language>en-US</dc:language>
  <cp:lastModifiedBy>Школа</cp:lastModifiedBy>
  <dcterms:modified xsi:type="dcterms:W3CDTF">2012-02-18T14:43:38Z</dcterms:modified>
  <cp:revision>2</cp:revision>
  <dc:subject/>
  <dc:title>Слайд 1</dc:title>
</cp:coreProperties>
</file>