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gif" ContentType="image/gif"/>
  <Override PartName="/ppt/media/image10.png" ContentType="image/png"/>
  <Override PartName="/ppt/media/image5.wmf" ContentType="image/x-wmf"/>
  <Override PartName="/ppt/media/image8.wmf" ContentType="image/x-wmf"/>
  <Override PartName="/ppt/media/image12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DA8-FD4A-4DB9-92EC-B94998F9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6C7-9FD4-4CEA-9459-F093CFF7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024-270B-4ADD-8D71-CE6E21F6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1C4-1D1B-4D26-B12E-A2AA1EA2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BC76-808F-445A-AF6C-F2CE12F5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5A33-66A5-46B9-9571-95841CD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D3D0-228E-419D-A4C9-43EDEF69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F6D4-B67B-4BE1-9382-6991EC68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460A-F311-44C7-B9FF-93666031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C7F-9038-49D3-8447-565D13A3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3A92-947E-4EDB-9CB7-261BDA88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D56-3C6D-4BCD-87AD-BA0B0F14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83DB-FDE9-4010-916C-F1AC510A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1EBE-C5B5-424A-BE34-E09CBBF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5C63-F092-4AAC-B49F-07469E4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19A-4BC9-4B88-A79D-DD9D5BAD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E0AB-8800-4E5A-AE63-6429DD1B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DBD-7B58-47EE-98CF-E2E3662D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AB9-C03F-41EB-9DE5-5D81C5A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934-E651-4339-9BE2-5E3C700F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C62-143F-4A02-A464-DEF516C7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DD4-BE33-4081-9554-A043EDD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8EE-431F-45DB-BC7F-B3A966A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C5E-DCFF-4286-9C2A-098578F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158A-B706-4492-8DD1-4C9FA3066DB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762B-5F86-47E0-8031-DE48864CC91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r>
              <a:rPr b="1" i="1" lang="en-US" sz="4000" spc="-1" strike="noStrike">
                <a:solidFill>
                  <a:srgbClr val="ed6641"/>
                </a:solidFill>
                <a:latin typeface="Arial"/>
              </a:rPr>
              <a:t>Роль имен прилагательных в ре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6181"/>
                </a:solidFill>
                <a:latin typeface="Arial"/>
              </a:rPr>
              <a:t>Подготовила Михай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618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196181"/>
                </a:solidFill>
                <a:latin typeface="Arial"/>
              </a:rPr>
              <a:t>Надежда Юрьевна, учитель ГОУ СОШ № 282 города Санкт-Петербур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№ </a:t>
            </a: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317, стр.73 (устно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Запишем лучшие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48360" y="3629160"/>
            <a:ext cx="3671640" cy="3228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318, стр. 73.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№ 319, стр.73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27640" y="3141720"/>
            <a:ext cx="457200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Итог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ую роль играют прилагательные в нашей ре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определить род и число имени прилагатель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ие словари помогут обогатить вашу речь именами прилагатель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9de50"/>
                </a:solidFill>
                <a:latin typeface="Arial"/>
              </a:rPr>
              <a:t>Запишите домашнее задани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40200" y="1994040"/>
            <a:ext cx="462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66"/>
                </a:solidFill>
                <a:latin typeface="Arial"/>
              </a:rPr>
              <a:t>№ </a:t>
            </a:r>
            <a:r>
              <a:rPr b="1" lang="en-US" sz="6000" spc="-1" strike="noStrike">
                <a:solidFill>
                  <a:srgbClr val="336666"/>
                </a:solidFill>
                <a:latin typeface="Arial"/>
              </a:rPr>
              <a:t>3, стр.88.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2881440" cy="266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16000" y="476280"/>
            <a:ext cx="7201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боту на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роке!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2916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2592360" cy="38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35280" cy="345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259920"/>
            <a:ext cx="7010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4436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de50"/>
                </a:solidFill>
                <a:latin typeface="Arial"/>
              </a:rPr>
              <a:t>раскрыть перед учащимися роль имен прилагательных в реч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de50"/>
                </a:solidFill>
                <a:latin typeface="Arial"/>
              </a:rPr>
              <a:t>показать связь существительных и прилагательных (согласование в числе и роде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Технологи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de50"/>
                </a:solidFill>
                <a:latin typeface="Arial"/>
              </a:rPr>
              <a:t>использование ИК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de50"/>
                </a:solidFill>
                <a:latin typeface="Arial"/>
              </a:rPr>
              <a:t>взаимного диалог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de50"/>
                </a:solidFill>
                <a:latin typeface="Arial"/>
              </a:rPr>
              <a:t>исследова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de50"/>
                </a:solidFill>
                <a:latin typeface="Arial"/>
              </a:rPr>
              <a:t>оцени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слова в столбик, вставьте пропущенную букву, 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ъ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21333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бл_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_се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у_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_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у_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ку_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96000" y="2717640"/>
            <a:ext cx="4248000" cy="41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Проверьте, как вы написали эти слова по учебнику, № 315, стр.72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2590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190440"/>
            <a:ext cx="69152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задание к этому упражнению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мотрите образец выполнения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924280"/>
            <a:ext cx="8283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блоко ароматное(ср.р.,ед.ч.)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3860640"/>
            <a:ext cx="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51280" y="3284640"/>
            <a:ext cx="0" cy="574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7080" y="2060640"/>
            <a:ext cx="1871640" cy="216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16, стр. 7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тихотв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ую картину вы представили, прочитав эти строчки из стихотворения А.С.Пушкина «Зимняя дорога»? Какое настроение почувствовали? Какие слова помогли увидеть то, что хотел сказать поэ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ва роль прилагательных в ре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cccc"/>
                </a:solidFill>
                <a:latin typeface="Arial"/>
              </a:rPr>
              <a:t>Чтение вслух, запоминание, запись по памяти, обозначение орфограмм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3357360"/>
            <a:ext cx="70106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920000" cy="309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84436"/>
                </a:solidFill>
                <a:latin typeface="Arial"/>
              </a:rPr>
              <a:t>Взаимопроверка в парах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пишите словосочет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я существительное + имя прилагатель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51640" y="4653000"/>
            <a:ext cx="169236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1511280" cy="2276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1:33:33Z</dcterms:created>
  <dc:creator>Школа</dc:creator>
  <dc:description/>
  <dc:language>en-US</dc:language>
  <cp:lastModifiedBy>Школа</cp:lastModifiedBy>
  <dcterms:modified xsi:type="dcterms:W3CDTF">2012-02-18T13:25:04Z</dcterms:modified>
  <cp:revision>2</cp:revision>
  <dc:subject/>
  <dc:title>Слайд 1</dc:title>
</cp:coreProperties>
</file>