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73D-C69D-4A1C-9956-07B08939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4C9-B42D-4329-8B71-B643FB04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80B-142D-404E-A4F7-43282365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FC1-DCF4-46DC-8FE0-A772DAF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A99-EB2D-4B88-822D-738198D6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C58-B6E6-47BD-94DF-410155A4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469-B33E-4F26-81E5-D00630A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087-D682-495B-BAA0-AB1F5E52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0102-7183-4BA9-AEF8-9F1608F8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47BA-FFBB-4761-8B51-391697B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8D4-2AD9-4BE2-A592-35C5880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62F-CD26-4539-8363-55C73D1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70BB-E83A-40D4-99D3-FA9FA288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3BA0-3AC0-411C-BC42-E4701B42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7E5E-E146-4D8D-A7C7-76AB015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DCD-EA88-4D89-A229-CB942B4B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B58-2735-4B5C-8370-C8C944C5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690-F58A-4D7E-9480-BCF96DA6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CA5-CDEE-4633-A4BF-26081F7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F65-CC00-43E9-B114-7DDDF9A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0BC-29B6-4294-A755-C8EF6982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3D-F9FA-4B1E-BE88-7322F7F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B1B-CF66-4C8A-8637-2FD18AE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D6C-756D-4F16-8A45-9FE7E4B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AC64-D5A7-41D9-9974-9979AD1A27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F11-2FAC-4590-908A-B838ED0311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усский язык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3 класс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 января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готовила Михайлова Надежда Юрьев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972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771640" cy="270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кая работа.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читайте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орж – полярный житель. Этот морж не боится даже белого медвед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 моржа острые и могучие клыки. Морж совсем безобидный. Клыками морж выкапывает из ила раковины и съедает их содержим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821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слово повторяется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равдан ли этот повтор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м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ва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ожно заменить этот пов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н, великан, у него,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редактируйте и запишите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45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3000" y="4500720"/>
            <a:ext cx="902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ерите по составу сл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обид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Выполните морфологический раз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ествительных клыки, медвед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Расскажите по памяти порядок разбора имени существительного как части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58920" y="189000"/>
            <a:ext cx="633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тог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, стр. 3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58920" y="260280"/>
            <a:ext cx="633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58920" y="26028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боту!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6264360" cy="3355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: совершенствование орфографической зорк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репление знаний об имени существительн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комство с морфологическим разбором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60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бор имени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ществительного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части речи.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ни-исслед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ИК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грова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ценивания учебных успех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8000" y="260280"/>
            <a:ext cx="525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хнологии: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280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«Угадайте словарные с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словарные слова по начальной и конечной буквам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-н, в-л, с-т, в-т, к-ь, м-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3492360" cy="220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вери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такан, вокзал, салат, винегрет, кровать, молоко или метр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кажите род имен существительных.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имя существитель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кие вопросы отве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бозна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остоянные признаки име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непостоянные при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им порядок морфологического разбора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Начальная форма (в форме ед.числа, отвечает на вопрос кто? или ч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Постоянные при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Непостоянные при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333360"/>
            <a:ext cx="835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разбора имени существитель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части реч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д окном-(под чем?), н.ф. (что?) окно-сущ.,неодуш., нариц., ср. р., ед. 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18320" y="320040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Найдите в отрывке имена существительные. Выполните их морфологический разбор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горшок (пуст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 - предмет прос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 никуда не дене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потому горшок (пустой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аздо выше цен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ыты все стр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разочар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разу наступает хорошая пог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Б.Заходе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2:35:18Z</dcterms:created>
  <dc:creator>Школа</dc:creator>
  <dc:description/>
  <dc:language>en-US</dc:language>
  <cp:lastModifiedBy>Школа</cp:lastModifiedBy>
  <dcterms:modified xsi:type="dcterms:W3CDTF">2012-01-21T14:27:14Z</dcterms:modified>
  <cp:revision>2</cp:revision>
  <dc:subject/>
  <dc:title>Русский язык.  3 класс.  23 января.  </dc:title>
</cp:coreProperties>
</file>