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04B-85F4-4107-A44E-68E6A1D2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717-F1D0-4FEA-8577-B1379F6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216-9F53-49B3-A743-0293116A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B91-6165-49B5-BD77-77CFB3CF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F3A8-CD06-4997-8D4F-ED229BB7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E2B-9568-4C88-A72F-7A86FCB7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1428-E8BE-4146-98EC-37E61A4A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CCD8-4E0A-4300-A35A-B6697738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1FC1-93E0-421B-AB78-8C8D193E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D2A7-CF9E-48D3-96EF-DEBD59A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155E-0931-46EE-A578-5FA694E8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D42-3D4D-48E9-BE45-3A6BE258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F519-D575-4E41-8B7B-D3374DD4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7C03-84CE-41AA-8097-61162B8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F214-135E-4871-92BE-B788E7CE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E87A-6685-43FE-B757-81A1E7AC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4422-02DE-4FB1-B999-B427FDB0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400-0EE3-4434-BCEE-D0A13400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99F-60C0-4337-AE3D-78240AB7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35A-3841-4AAE-BA9A-16D3A01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71E-3BA9-4EF4-B8F9-8755495F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5F8-184E-4707-8200-A956127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592-0A75-41E4-A74D-CB522B8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9F6-BEDB-4F22-934C-35CD3304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D05-B0C2-44AE-8BCA-3CC35C22AD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43DA-8EB7-4ED3-AD94-0452BE3C19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Русский язык. 3 класс.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4 января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дготовила Михай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дежда Юрьев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6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помощью каких частей слова образуются новые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ие значения в слова могут вносить суффикс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5950080"/>
            <a:ext cx="777240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35280" y="404640"/>
            <a:ext cx="5689440" cy="53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егодня 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наблюдае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 помощью ка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уффик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образуются им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существи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с уменьшитель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ласкательн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значение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Упр. № 264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Упр. № 26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6772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ывод на стр. 3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3888000" cy="352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Упр. № 266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Упр. № 26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0360" y="3645000"/>
            <a:ext cx="3203640" cy="321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Игра «Ласковые слова»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основ существительных образуйте ласковые слова с помощью уменьшительно-ласкательных суффикс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уб-       яблоня-    ель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са-    заяц-         коз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стра-   брат-     мам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лнце-  дорога- зер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Яблоко-  ягода- шапк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Итог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 чего и с помощью каких суффиксов образуются имена существительные с уменьшительно-ласкательным знач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, № 2, стр. 5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032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1557360"/>
            <a:ext cx="7201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разование им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уществи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 уменьшитель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ласкательны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суффикса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 rot="5400000">
            <a:off x="1799280" y="1088640"/>
            <a:ext cx="5472360" cy="453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боту!</a:t>
            </a:r>
            <a:endParaRPr b="0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230364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Цели: познакомить со словообразованием имен существительных;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овторить разборы слов, предложени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3860640"/>
            <a:ext cx="77724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хнологии: пробл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иалог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гров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цени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рочитайте текст. Спишите, вставив 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ропущенные буквы. Объясните орфограммы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_лзет (по)дер_ву огромная гусеница. Один л_сток с_ест, второй, третий. А рядом другие гусеницы ползают. И все грызут лист_я. Гусеницы очен_  вредные  -  настоя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_сные вр_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Разберите 1 предложение по членам предложения и частям реч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420640"/>
            <a:ext cx="77724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ъ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42920" y="189000"/>
            <a:ext cx="698508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полните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онетический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збор слова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211640" y="2852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айдите в 1 предложении имена существительные. Выполните их морфологический  разбор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полните разбор слов по составу.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32126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Л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ре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91120" y="3441600"/>
            <a:ext cx="4052880" cy="341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5:23:00Z</dcterms:created>
  <dc:creator>Школа</dc:creator>
  <dc:description/>
  <dc:language>en-US</dc:language>
  <cp:lastModifiedBy>Школа</cp:lastModifiedBy>
  <dcterms:modified xsi:type="dcterms:W3CDTF">2012-01-21T16:40:17Z</dcterms:modified>
  <cp:revision>2</cp:revision>
  <dc:subject/>
  <dc:title>Русский язык. 3 класс. 24 января.</dc:title>
</cp:coreProperties>
</file>