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6.wmf" ContentType="image/x-wmf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E7AD5-0C88-464B-A9FB-31901F800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03425-655D-4FED-AB1C-48A205A99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BFC9C-9B7F-468C-B71A-C2992763D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78566-2E38-4213-BD2F-DA60E1470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6E5E6-BA7D-4798-B3D6-451802CB8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79614-68F0-457C-8F4F-B3ABA675C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5E97C-21BB-4570-BAE7-6BA0C5B17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CBEA2-B209-48DB-A97E-5D7C4CB58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70B88-B012-4409-91A8-ADAEE20C4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7AF15-7235-44A3-8358-C9C7C9076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815EA-203A-48C7-8480-50B37B33F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4530D-606C-4C51-902A-990FCBE0D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D26FB-5336-4FB8-A8C5-A0C4FEBDB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76639-FFE2-4028-AEB4-BD10D0AA9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2B80D-F586-47F6-AFC8-9327BD9AB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A6A9B-B285-4672-8EFB-2EBAFB3A8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BCC4D-17F1-4779-B1F5-91895AAEF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E688D-BFF6-4E7B-9DA8-625559A2C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62406-E741-4037-963F-691A659A9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B959C-3A10-46C9-A375-D27B00F2E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A54DF-9AB4-4621-89F3-842F09CA4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D713F-66E8-4142-88A6-A9D8D7C64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B3232-1690-445C-8386-8C5E3CC79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9A979-FC65-4132-9F8F-1127B9F24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40035-1A4A-439E-ABDF-A0A2A1297E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6" name="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62120" y="1709640"/>
              <a:ext cx="7696080" cy="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1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i="1" lang="en-US" sz="41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857640" y="639144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ABECF-153E-41B7-A228-77B9AFBFDD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6666"/>
                </a:solidFill>
                <a:latin typeface="Arial Black"/>
              </a:rPr>
              <a:t>Русский язык. 3 класс.</a:t>
            </a:r>
            <a:br>
              <a:rPr sz="4000"/>
            </a:br>
            <a:r>
              <a:rPr b="1" lang="en-US" sz="4000" spc="-1" strike="noStrike">
                <a:solidFill>
                  <a:srgbClr val="336666"/>
                </a:solidFill>
                <a:latin typeface="Arial Black"/>
              </a:rPr>
              <a:t>Орфографическая разминка(разборы слов и предложений).</a:t>
            </a:r>
            <a:endParaRPr b="0" i="1" lang="en-US" sz="40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752120" y="3566880"/>
            <a:ext cx="54104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Подготовила Михайлова Надежда Юрьевна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Рогам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4643280" y="2133720"/>
            <a:ext cx="4176720" cy="417492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33 E">
                                      <p:cBhvr>
                                        <p:cTn id="194" dur="20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Собак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95280" y="3284640"/>
            <a:ext cx="3902040" cy="26002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5486400" y="1844640"/>
            <a:ext cx="3657600" cy="24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00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0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6080" cy="32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99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900000" y="1268280"/>
            <a:ext cx="7632720" cy="432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Продолжаем</a:t>
            </a:r>
            <a:endParaRPr b="0" lang="en-US" sz="4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наш   урок!</a:t>
            </a:r>
            <a:endParaRPr b="0" lang="en-US" sz="4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ransition>
    <p:comb dir="horz"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12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755640" y="549360"/>
            <a:ext cx="7704000" cy="54007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62120" y="620640"/>
            <a:ext cx="769608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 Black"/>
              </a:rPr>
              <a:t>Цели: развивать орфографическую зоркость; повторить разборы слов и предложений.</a:t>
            </a:r>
            <a:endParaRPr b="0" lang="en-US" sz="32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62120" y="2781360"/>
            <a:ext cx="7696080" cy="31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99"/>
                </a:solidFill>
                <a:latin typeface="Arial"/>
              </a:rPr>
              <a:t>Технологи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99"/>
                </a:solidFill>
                <a:latin typeface="Arial"/>
              </a:rPr>
              <a:t>использование ИК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99"/>
                </a:solidFill>
                <a:latin typeface="Arial"/>
              </a:rPr>
              <a:t>проблемного диалог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99"/>
                </a:solidFill>
                <a:latin typeface="Arial"/>
              </a:rPr>
              <a:t>оценива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6156360" y="1773360"/>
            <a:ext cx="2987640" cy="431964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cc33"/>
                </a:solidFill>
                <a:latin typeface="Arial Black"/>
              </a:rPr>
              <a:t>Спишите текст. Разделите его на предложения. Вставьте пропущенные буквы. Объясните эти орфограммы.</a:t>
            </a:r>
            <a:endParaRPr b="0" lang="en-US" sz="2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62120" y="1773000"/>
            <a:ext cx="769608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2124000" y="2060640"/>
            <a:ext cx="5977080" cy="417672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1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62120" y="549360"/>
            <a:ext cx="769608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Лос_ не сп_ша шел (по)селу вдруг с_баки подняли лай лос_ бросился (во)двор он (про)бил р_гами ст_кло дома (в)комн_те р_ботал телевизор л_сной гост_ с интересом стал см_треть передач_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cc"/>
                </a:solidFill>
                <a:latin typeface="Arial Black"/>
              </a:rPr>
              <a:t>Сколько в этом тексте предложений? Что вы знаете о предложении</a:t>
            </a:r>
            <a:r>
              <a:rPr b="1" lang="en-US" sz="3600" spc="-1" strike="noStrike">
                <a:solidFill>
                  <a:srgbClr val="00ffcc"/>
                </a:solidFill>
                <a:latin typeface="Arial Black"/>
              </a:rPr>
              <a:t>?</a:t>
            </a:r>
            <a:endParaRPr b="0" lang="en-US" sz="36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Разберите 1 предложение по членам предложения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6600ff"/>
                </a:solidFill>
                <a:latin typeface="Arial Black"/>
              </a:rPr>
              <a:t>Последнее предложение разберите по членам предложения и частям речи.</a:t>
            </a:r>
            <a:endParaRPr b="0" lang="en-US" sz="29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Вспомните, что вы знаете об имени существительном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768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7" dur="768" fill="hold"/>
                                        <p:tgtEl>
                                          <p:spTgt spid="10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9" dur="768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1" dur="768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Arial Black"/>
              </a:rPr>
              <a:t>Выполните фонетический разбор слов.</a:t>
            </a:r>
            <a:endParaRPr b="0" lang="en-US" sz="32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Телевизо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Смотре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5580000" y="2349360"/>
            <a:ext cx="3240000" cy="29512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35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Arial Black"/>
              </a:rPr>
              <a:t>Разберите слово по составу.</a:t>
            </a:r>
            <a:endParaRPr b="0" lang="en-US" sz="40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Передач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2124000" y="3213000"/>
            <a:ext cx="3888000" cy="2808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5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-0.33333 E">
                                      <p:cBhvr>
                                        <p:cTn id="156" dur="2000" fill="hold"/>
                                        <p:tgtEl>
                                          <p:spTgt spid="1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 Black"/>
              </a:rPr>
              <a:t>Выполните морфологический разбор имен существительных.</a:t>
            </a:r>
            <a:endParaRPr b="0" lang="en-US" sz="32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Лос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859280" y="2133720"/>
            <a:ext cx="2952720" cy="41036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768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4" dur="768" fill="hold"/>
                                        <p:tgtEl>
                                          <p:spTgt spid="10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6" dur="768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6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68" dur="768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6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1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8T17:39:24Z</dcterms:created>
  <dc:creator>Школа</dc:creator>
  <dc:description/>
  <dc:language>en-US</dc:language>
  <cp:lastModifiedBy>Школа</cp:lastModifiedBy>
  <dcterms:modified xsi:type="dcterms:W3CDTF">2012-03-02T14:37:29Z</dcterms:modified>
  <cp:revision>5</cp:revision>
  <dc:subject/>
  <dc:title>Слайд 1</dc:title>
</cp:coreProperties>
</file>