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DF4-365E-4E3A-8CBD-25BDEF86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2FD-0559-4A34-8575-328A7EF6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4B3-9133-420D-9EA2-9E5D14F1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93E-FF40-4ED1-84C4-4A64A9CC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910-5090-42BD-B91E-6570F12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B7C-341A-4154-B6FA-B69FA79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B03-4D31-4C26-A045-DCC08E57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100-B106-4CBB-B5E4-20722C8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70A-A140-4A33-AEC1-1319BE9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00C-24B0-4C97-9FFB-0987BFF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00B-46E7-471D-9707-DA7EA6C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2DB-4A9E-4195-910A-5BDBD21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973-CC1B-41B3-97C9-91B5D3DC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кола аквапарк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йкова Иван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зы Блиновой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шей школе захотели бы учиться все дети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1371600"/>
            <a:ext cx="9753840" cy="80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десь не бывает зимы, только солнце, море и фр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й урок водные танц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87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торой урок водные г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ретьем уроке мы идем в водный ресторан и заказываем что хо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вертый урок у мальчиков водные мотоци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67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евочек водная аэробик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ашей школе очень весело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11-11-22T19:06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