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40.wmf" ContentType="image/x-wmf"/>
  <Override PartName="/ppt/media/image37.png" ContentType="image/png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12.jpeg" ContentType="image/jpe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32DE-83B6-4475-A40C-5E4F3B068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FDB-8AD6-4631-B6BD-9F55AF298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B81-F431-4C82-9203-70411F9A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651-FF44-4C3B-87D6-B9B036C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FD2-2FCD-4FDB-B362-B0EA8804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52F-01A9-4048-B3AB-A325CBC6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717-3BCA-4560-AD29-0F291E2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CDF-B1C0-4A35-8127-D0742E02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E91-3345-4921-8C3E-3220238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3AB-1B47-4E9D-8B08-5DC98290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0AE-555F-4485-9C8D-81FE268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340-E430-494A-995B-4C27463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9B6-ADC6-4D61-B6A7-BCDCB57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B1A-0D78-4005-A86A-DDCEF11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A4CB-DA05-4186-8D9A-240709EFB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hyperlink" Target="http://www.narkotiki.ru/gnk_5556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WB02218_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кажи наркотикам н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lack_top_mid"/>
          <p:cNvPicPr/>
          <p:nvPr/>
        </p:nvPicPr>
        <p:blipFill>
          <a:blip r:embed="rId2"/>
          <a:stretch/>
        </p:blipFill>
        <p:spPr>
          <a:xfrm>
            <a:off x="684360" y="1773360"/>
            <a:ext cx="7993080" cy="42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acesofmeth001(1)_480x272"/>
          <p:cNvPicPr/>
          <p:nvPr/>
        </p:nvPicPr>
        <p:blipFill>
          <a:blip r:embed="rId2"/>
          <a:stretch/>
        </p:blipFill>
        <p:spPr>
          <a:xfrm>
            <a:off x="179280" y="404640"/>
            <a:ext cx="882036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acesofmeth002_220x176"/>
          <p:cNvPicPr/>
          <p:nvPr/>
        </p:nvPicPr>
        <p:blipFill>
          <a:blip r:embed="rId2"/>
          <a:stretch/>
        </p:blipFill>
        <p:spPr>
          <a:xfrm>
            <a:off x="684360" y="0"/>
            <a:ext cx="7704000" cy="6165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843280" y="6237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1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facesofmeth004_176x132"/>
          <p:cNvPicPr/>
          <p:nvPr/>
        </p:nvPicPr>
        <p:blipFill>
          <a:blip r:embed="rId2"/>
          <a:stretch/>
        </p:blipFill>
        <p:spPr>
          <a:xfrm>
            <a:off x="900000" y="18900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348000" y="609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 год 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WB02218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facesofmeth010_176x132"/>
          <p:cNvPicPr/>
          <p:nvPr/>
        </p:nvPicPr>
        <p:blipFill>
          <a:blip r:embed="rId2"/>
          <a:stretch/>
        </p:blipFill>
        <p:spPr>
          <a:xfrm>
            <a:off x="1116000" y="260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276720" y="5877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88640" y="979560"/>
            <a:ext cx="883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сход из наркоманского "рая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полне предсказуем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бо безум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бо гниение заживо.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WB02218_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ark2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n_9"/>
          <p:cNvPicPr/>
          <p:nvPr/>
        </p:nvPicPr>
        <p:blipFill>
          <a:blip r:embed="rId3"/>
          <a:stretch/>
        </p:blipFill>
        <p:spPr>
          <a:xfrm>
            <a:off x="2484360" y="0"/>
            <a:ext cx="44611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nark11"/>
          <p:cNvPicPr/>
          <p:nvPr/>
        </p:nvPicPr>
        <p:blipFill>
          <a:blip r:embed="rId4"/>
          <a:stretch/>
        </p:blipFill>
        <p:spPr>
          <a:xfrm rot="20670600">
            <a:off x="684360" y="475920"/>
            <a:ext cx="3887640" cy="583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002"/>
          <p:cNvPicPr/>
          <p:nvPr/>
        </p:nvPicPr>
        <p:blipFill>
          <a:blip r:embed="rId5"/>
          <a:stretch/>
        </p:blipFill>
        <p:spPr>
          <a:xfrm rot="1341000">
            <a:off x="4211280" y="549000"/>
            <a:ext cx="3782880" cy="573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005"/>
          <p:cNvPicPr/>
          <p:nvPr/>
        </p:nvPicPr>
        <p:blipFill>
          <a:blip r:embed="rId6"/>
          <a:stretch/>
        </p:blipFill>
        <p:spPr>
          <a:xfrm>
            <a:off x="2484360" y="0"/>
            <a:ext cx="4067280" cy="666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фото_нарк"/>
          <p:cNvPicPr/>
          <p:nvPr/>
        </p:nvPicPr>
        <p:blipFill>
          <a:blip r:embed="rId7"/>
          <a:stretch/>
        </p:blipFill>
        <p:spPr>
          <a:xfrm>
            <a:off x="2411280" y="1916280"/>
            <a:ext cx="453564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rags_ua_07"/>
          <p:cNvPicPr/>
          <p:nvPr/>
        </p:nvPicPr>
        <p:blipFill>
          <a:blip r:embed="rId2"/>
          <a:stretch/>
        </p:blipFill>
        <p:spPr>
          <a:xfrm>
            <a:off x="293760" y="476280"/>
            <a:ext cx="4341600" cy="590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001"/>
          <p:cNvPicPr/>
          <p:nvPr/>
        </p:nvPicPr>
        <p:blipFill>
          <a:blip r:embed="rId3"/>
          <a:stretch/>
        </p:blipFill>
        <p:spPr>
          <a:xfrm>
            <a:off x="3708360" y="907920"/>
            <a:ext cx="5111640" cy="460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rags_ua_03"/>
          <p:cNvPicPr/>
          <p:nvPr/>
        </p:nvPicPr>
        <p:blipFill>
          <a:blip r:embed="rId4"/>
          <a:stretch/>
        </p:blipFill>
        <p:spPr>
          <a:xfrm>
            <a:off x="250920" y="620640"/>
            <a:ext cx="8474040" cy="564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rags_ua_02"/>
          <p:cNvPicPr/>
          <p:nvPr/>
        </p:nvPicPr>
        <p:blipFill>
          <a:blip r:embed="rId5"/>
          <a:stretch/>
        </p:blipFill>
        <p:spPr>
          <a:xfrm>
            <a:off x="179280" y="549360"/>
            <a:ext cx="8425080" cy="56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nark4"/>
          <p:cNvPicPr/>
          <p:nvPr/>
        </p:nvPicPr>
        <p:blipFill>
          <a:blip r:embed="rId6"/>
          <a:stretch/>
        </p:blipFill>
        <p:spPr>
          <a:xfrm>
            <a:off x="1835280" y="189000"/>
            <a:ext cx="5681520" cy="666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drags_ua_45"/>
          <p:cNvPicPr/>
          <p:nvPr/>
        </p:nvPicPr>
        <p:blipFill>
          <a:blip r:embed="rId7"/>
          <a:stretch/>
        </p:blipFill>
        <p:spPr>
          <a:xfrm>
            <a:off x="324000" y="620640"/>
            <a:ext cx="8113680" cy="54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817560" y="187920"/>
            <a:ext cx="729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да за недолгий и сомнительный «кайф»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лачиваются де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deti019"/>
          <p:cNvPicPr/>
          <p:nvPr/>
        </p:nvPicPr>
        <p:blipFill>
          <a:blip r:embed="rId2"/>
          <a:stretch/>
        </p:blipFill>
        <p:spPr>
          <a:xfrm>
            <a:off x="357120" y="1341360"/>
            <a:ext cx="369432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drags_ua_58"/>
          <p:cNvPicPr/>
          <p:nvPr/>
        </p:nvPicPr>
        <p:blipFill>
          <a:blip r:embed="rId3"/>
          <a:stretch/>
        </p:blipFill>
        <p:spPr>
          <a:xfrm>
            <a:off x="1332000" y="1268280"/>
            <a:ext cx="6265800" cy="531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eti013"/>
          <p:cNvPicPr/>
          <p:nvPr/>
        </p:nvPicPr>
        <p:blipFill>
          <a:blip r:embed="rId4"/>
          <a:stretch/>
        </p:blipFill>
        <p:spPr>
          <a:xfrm>
            <a:off x="2916360" y="1197000"/>
            <a:ext cx="3736800" cy="544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deti014"/>
          <p:cNvPicPr/>
          <p:nvPr/>
        </p:nvPicPr>
        <p:blipFill>
          <a:blip r:embed="rId5"/>
          <a:stretch/>
        </p:blipFill>
        <p:spPr>
          <a:xfrm>
            <a:off x="2700360" y="1341360"/>
            <a:ext cx="356076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eti006"/>
          <p:cNvPicPr/>
          <p:nvPr/>
        </p:nvPicPr>
        <p:blipFill>
          <a:blip r:embed="rId2"/>
          <a:stretch/>
        </p:blipFill>
        <p:spPr>
          <a:xfrm>
            <a:off x="684360" y="404640"/>
            <a:ext cx="8064360" cy="5376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eti009"/>
          <p:cNvPicPr/>
          <p:nvPr/>
        </p:nvPicPr>
        <p:blipFill>
          <a:blip r:embed="rId3"/>
          <a:stretch/>
        </p:blipFill>
        <p:spPr>
          <a:xfrm>
            <a:off x="1042920" y="404640"/>
            <a:ext cx="7418520" cy="555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deti005"/>
          <p:cNvPicPr/>
          <p:nvPr/>
        </p:nvPicPr>
        <p:blipFill>
          <a:blip r:embed="rId4"/>
          <a:stretch/>
        </p:blipFill>
        <p:spPr>
          <a:xfrm>
            <a:off x="468360" y="333360"/>
            <a:ext cx="8281800" cy="554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eti012"/>
          <p:cNvPicPr/>
          <p:nvPr/>
        </p:nvPicPr>
        <p:blipFill>
          <a:blip r:embed="rId5"/>
          <a:stretch/>
        </p:blipFill>
        <p:spPr>
          <a:xfrm>
            <a:off x="2627280" y="333360"/>
            <a:ext cx="4324320" cy="626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deti017"/>
          <p:cNvPicPr/>
          <p:nvPr/>
        </p:nvPicPr>
        <p:blipFill>
          <a:blip r:embed="rId6"/>
          <a:stretch/>
        </p:blipFill>
        <p:spPr>
          <a:xfrm>
            <a:off x="684360" y="333360"/>
            <a:ext cx="7850160" cy="587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deti015"/>
          <p:cNvPicPr/>
          <p:nvPr/>
        </p:nvPicPr>
        <p:blipFill>
          <a:blip r:embed="rId7"/>
          <a:stretch/>
        </p:blipFill>
        <p:spPr>
          <a:xfrm>
            <a:off x="2340000" y="260280"/>
            <a:ext cx="435132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369720" y="3979800"/>
            <a:ext cx="4492800" cy="222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йне высоки темпы роста ВИЧ-инфицированных и опасно больных сре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ком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чиная с 1996 г., число таких случаев ежегодно удваивается, и уже достиг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0 тысяч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о же время наркоторговцы зарабатывают около 8—10 миллиардов долла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4740120" y="4359240"/>
            <a:ext cx="4084920" cy="192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проблемами девиантного характера, вызывающи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пряжение во взаимоотношениях в семье, сталкиваются 15,5 % подростков и молодежи: это алкоголизм родителей, других родных, потребление ими наркотических средств, су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9600" y="795240"/>
            <a:ext cx="3203640" cy="3390120"/>
          </a:xfrm>
          <a:custGeom>
            <a:avLst/>
            <a:gdLst>
              <a:gd name="textAreaLeft" fmla="*/ 156240 w 3203640"/>
              <a:gd name="textAreaRight" fmla="*/ 3047400 w 3203640"/>
              <a:gd name="textAreaTop" fmla="*/ 156240 h 3390120"/>
              <a:gd name="textAreaBottom" fmla="*/ 3233880 h 3390120"/>
            </a:gdLst>
            <a:ahLst/>
            <a:rect l="textAreaLeft" t="textAreaTop" r="textAreaRight" b="textAreaBottom"/>
            <a:pathLst>
              <a:path w="21600" h="22857">
                <a:moveTo>
                  <a:pt x="3600" y="0"/>
                </a:moveTo>
                <a:arcTo wR="3600" hR="3600" stAng="16200000" swAng="-5400000"/>
                <a:lnTo>
                  <a:pt x="0" y="19257"/>
                </a:lnTo>
                <a:arcTo wR="3600" hR="3600" stAng="10800000" swAng="-5400000"/>
                <a:lnTo>
                  <a:pt x="18000" y="22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тя в случае жизненных затруднений помощи от родителей ждут 65 % подростков и молодежи, многие надеются на других родных и на друзей. Только на себя надеются всего 6 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сутствие уверенности в личных возможностях, чрезмерная зависим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окружающих создают условия для некритического восприятия подростками и молодежью межличностной ср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797200" y="1577880"/>
            <a:ext cx="2732040" cy="222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личество потребителей наркотиков возросло в 3,5 раза и превышает сейча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 миллиона человек, из них только около 500 тысяч стоят на учет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ециализированных наркологических учрежде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091120" y="203040"/>
            <a:ext cx="3182760" cy="2937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годня наркорынок России активно расширяется за счет «жестких» наркот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рубежного происхождения: при снижении удельного веса марихуаны и солом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ка на 5 процентов, завоз гашиша и опия возрос в 2,5 раза, кокаина — в 10 р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имуляторов амфетаминового ряда — в 20 раз, а героина — в 23 р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7" descr=""/>
          <p:cNvPicPr/>
          <p:nvPr/>
        </p:nvPicPr>
        <p:blipFill>
          <a:blip r:embed="rId2"/>
          <a:stretch/>
        </p:blipFill>
        <p:spPr>
          <a:xfrm>
            <a:off x="7010280" y="1844640"/>
            <a:ext cx="213372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324000" y="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1 августа 200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8763120" y="6477120"/>
            <a:ext cx="38088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>
            <a:hlinkClick r:id="" action="ppaction://hlinkshowjump?jump=nextslide"/>
          </p:cNvPr>
          <p:cNvSpPr/>
          <p:nvPr/>
        </p:nvSpPr>
        <p:spPr>
          <a:xfrm>
            <a:off x="8001000" y="654696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>
            <a:hlinkClick r:id="" action="ppaction://hlinkshowjump?jump=previousslide"/>
          </p:cNvPr>
          <p:cNvSpPr/>
          <p:nvPr/>
        </p:nvSpPr>
        <p:spPr>
          <a:xfrm>
            <a:off x="7620120" y="654696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-29880" y="64008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narkotiki.ru/gnk_555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7596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ы: призрачное «счастье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 - человек ущерб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время он пров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тоянном страхе ожидания предстоящей л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постоянном поиске новой до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все время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олько мгновения - в кайф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у рядом с собой надо им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х же ущербных, как он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, сестра, жена, друг.. ему все рав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о присадить на иг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ишить нормальной человеческой жиз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мотрите на фотографии этих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чале употребления наркот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они стали через какое-то вре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300720" y="4005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"/>
          <p:cNvSpPr/>
          <p:nvPr/>
        </p:nvSpPr>
        <p:spPr>
          <a:xfrm>
            <a:off x="179280" y="4724280"/>
            <a:ext cx="4446720" cy="175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ота наркотической ситуации свидетельствует, прежде всего, о слаб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филактической рабо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т продуманной инфраструктуры профилактических учреждений,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деятельности, координирующего центра, механизма финанс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4211640" y="5084640"/>
            <a:ext cx="4038480" cy="145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лазн возможности (В.А.Петровский) оказывается сильнее, чем инстин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сох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десь сама возможность становится достаточным основанием действ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-11160" y="754200"/>
            <a:ext cx="3186000" cy="29379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тремлении найти средства на очередную дозу, люди идут на преступления имущественного характера и на более тяжкие, такие как убийства: за 5 месяце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03 года зарегистрировано 105,5 тысяч преступлений, связанных с наркотик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 них более 40 тысяч — тяжкие и особо тяжки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843280" y="1341360"/>
            <a:ext cx="3238560" cy="3546360"/>
          </a:xfrm>
          <a:custGeom>
            <a:avLst/>
            <a:gdLst>
              <a:gd name="textAreaLeft" fmla="*/ 158040 w 3238560"/>
              <a:gd name="textAreaRight" fmla="*/ 3080520 w 3238560"/>
              <a:gd name="textAreaTop" fmla="*/ 158040 h 3546360"/>
              <a:gd name="textAreaBottom" fmla="*/ 3388320 h 3546360"/>
            </a:gdLst>
            <a:ahLst/>
            <a:rect l="textAreaLeft" t="textAreaTop" r="textAreaRight" b="textAreaBottom"/>
            <a:pathLst>
              <a:path w="21600" h="23653">
                <a:moveTo>
                  <a:pt x="3600" y="0"/>
                </a:moveTo>
                <a:arcTo wR="3600" hR="3600" stAng="16200000" swAng="-5400000"/>
                <a:lnTo>
                  <a:pt x="0" y="20053"/>
                </a:lnTo>
                <a:arcTo wR="3600" hR="3600" stAng="10800000" swAng="-5400000"/>
                <a:lnTo>
                  <a:pt x="18000" y="23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сутствуют официально утверждённые и рекомендуемые, а тем более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ифференцируемые по демографическим признакам программы профилакт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лоупотребления наркотиками. Даже самая банальная литература о наркотика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оль необходимая как для специалистов по социальной работе, так и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их наркозависимых, остродефицит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724360" y="0"/>
            <a:ext cx="3200400" cy="381636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816360"/>
              <a:gd name="textAreaBottom" fmla="*/ 3660120 h 3816360"/>
            </a:gdLst>
            <a:ahLst/>
            <a:rect l="textAreaLeft" t="textAreaTop" r="textAreaRight" b="textAreaBottom"/>
            <a:pathLst>
              <a:path w="21600" h="25757">
                <a:moveTo>
                  <a:pt x="3600" y="0"/>
                </a:moveTo>
                <a:arcTo wR="3600" hR="3600" stAng="16200000" swAng="-5400000"/>
                <a:lnTo>
                  <a:pt x="0" y="22157"/>
                </a:lnTo>
                <a:arcTo wR="3600" hR="3600" stAng="10800000" swAng="-5400000"/>
                <a:lnTo>
                  <a:pt x="18000" y="257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дение жизненного уровня большой части населения, ухудш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миногенной ситуации – основные причины кризисных явлений во мног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ссийских семьях, утративших свой социализирующий потенциа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итательную роль, не способных воспрепятствовать приобщению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потреблению психоактивных веществ и «выталкивающих» их на у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7" descr=""/>
          <p:cNvPicPr/>
          <p:nvPr/>
        </p:nvPicPr>
        <p:blipFill>
          <a:blip r:embed="rId2"/>
          <a:stretch/>
        </p:blipFill>
        <p:spPr>
          <a:xfrm>
            <a:off x="7093080" y="3141720"/>
            <a:ext cx="1819080" cy="2079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8763120" y="6477120"/>
            <a:ext cx="38088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8001000" y="654696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previousslide"/>
          </p:cNvPr>
          <p:cNvSpPr/>
          <p:nvPr/>
        </p:nvSpPr>
        <p:spPr>
          <a:xfrm>
            <a:off x="7620120" y="654696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-3960" y="640080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ttp://www.narkotiki.ru/gnk_555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25080" y="18900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1 августа 200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"/>
          <p:cNvSpPr/>
          <p:nvPr/>
        </p:nvSpPr>
        <p:spPr>
          <a:xfrm>
            <a:off x="179280" y="4797360"/>
            <a:ext cx="4424400" cy="1521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еще три года назад дети впервые пробовали наркотики или психотроп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щества в 14—15 лет, сейчас отмечаются случаи приема наркотиков в 11—12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0 тысяч молодых людей ежегодно умирают от их передозиров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824360" y="4905360"/>
            <a:ext cx="4044960" cy="1521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лазн возможности (В.А.Петровский) оказывается сильнее, чем инстин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сох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десь сама возможность становится достаточным основанием де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4000" y="620640"/>
            <a:ext cx="3192480" cy="2701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пробовавших или потребляющих наркотические средств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активные вещества доля подростков и молодежи из бедных семе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ивущих на грани нищеты составляет 71 %, а из семей со средним и высо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статком – 29 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763120" y="6477120"/>
            <a:ext cx="38088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001000" y="654696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" action="ppaction://hlinkshowjump?jump=previousslide"/>
          </p:cNvPr>
          <p:cNvSpPr/>
          <p:nvPr/>
        </p:nvSpPr>
        <p:spPr>
          <a:xfrm>
            <a:off x="7620120" y="654696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-3960" y="640080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ttp://www.narkotiki.ru/gnk_555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80720" y="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1 августа 200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0" descr=""/>
          <p:cNvPicPr/>
          <p:nvPr/>
        </p:nvPicPr>
        <p:blipFill>
          <a:blip r:embed="rId4"/>
          <a:stretch/>
        </p:blipFill>
        <p:spPr>
          <a:xfrm>
            <a:off x="6588000" y="2276640"/>
            <a:ext cx="2133720" cy="24382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"/>
          <p:cNvSpPr/>
          <p:nvPr/>
        </p:nvSpPr>
        <p:spPr>
          <a:xfrm>
            <a:off x="5435640" y="189000"/>
            <a:ext cx="3279600" cy="1993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 проблемы во взаимоотношениях членов семьи,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торыми в целом сталкиваются 11,5% подростков и молодеж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ражаются в скандалах, оскорблениях и физическом насилии со стороны старш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3059280" y="1916280"/>
            <a:ext cx="3179520" cy="2871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 что взамен?". Что можно предложить наркоману взамен доступных ем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рошо им освоенных и прост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собов достижения состояния нормального функционирова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лько более эффектив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собы достиж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овлетворенности от и равновесия с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3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"/>
          <p:cNvSpPr/>
          <p:nvPr/>
        </p:nvSpPr>
        <p:spPr>
          <a:xfrm>
            <a:off x="0" y="4869000"/>
            <a:ext cx="4378320" cy="1048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ссийским подросткам и молодежи присуща тяга к общинным отношения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 в целом чужд индивидуализ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4500720" y="4581360"/>
            <a:ext cx="4135320" cy="1690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 общественных связей Государственного комитета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дерации по контролю за оборотом наркотических средств и психотроп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 августа 200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79280" y="765000"/>
            <a:ext cx="2702160" cy="3706920"/>
          </a:xfrm>
          <a:custGeom>
            <a:avLst/>
            <a:gdLst>
              <a:gd name="textAreaLeft" fmla="*/ 131760 w 2702160"/>
              <a:gd name="textAreaRight" fmla="*/ 2570400 w 2702160"/>
              <a:gd name="textAreaTop" fmla="*/ 131760 h 3706920"/>
              <a:gd name="textAreaBottom" fmla="*/ 3575160 h 3706920"/>
            </a:gdLst>
            <a:ahLst/>
            <a:rect l="textAreaLeft" t="textAreaTop" r="textAreaRight" b="textAreaBottom"/>
            <a:pathLst>
              <a:path w="21600" h="29631">
                <a:moveTo>
                  <a:pt x="3600" y="0"/>
                </a:moveTo>
                <a:arcTo wR="3600" hR="3600" stAng="16200000" swAng="-5400000"/>
                <a:lnTo>
                  <a:pt x="0" y="26031"/>
                </a:lnTo>
                <a:arcTo wR="3600" hR="3600" stAng="10800000" swAng="-5400000"/>
                <a:lnTo>
                  <a:pt x="18000" y="29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здорового образа жизни большинством населения пока еще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ринимается как социально и лично значимая зада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: необходима разработка комплексной и адекватной современны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алиям методологии пропаганды ЗОЖ и позитивных социальных стандар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2771640" y="2924280"/>
            <a:ext cx="3448080" cy="1284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ибольшими возможностями, с точки зрения организации первичной профилактики наркомании, располагает система образ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716360" y="404640"/>
            <a:ext cx="3302280" cy="2229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оссии воспитательная роль социальных групп и институ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семьи, школы, друзей, коллег по учебе и работе) традиционно весьма высо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 служит благоприятной предпосылкой для работы с молодеж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2133720" cy="2438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8763120" y="6477120"/>
            <a:ext cx="38088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>
            <a:hlinkClick r:id="" action="ppaction://hlinkshowjump?jump=nextslide"/>
          </p:cNvPr>
          <p:cNvSpPr/>
          <p:nvPr/>
        </p:nvSpPr>
        <p:spPr>
          <a:xfrm>
            <a:off x="8001000" y="654696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>
            <a:hlinkClick r:id="" action="ppaction://hlinkshowjump?jump=previousslide"/>
          </p:cNvPr>
          <p:cNvSpPr/>
          <p:nvPr/>
        </p:nvSpPr>
        <p:spPr>
          <a:xfrm>
            <a:off x="7620120" y="654696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-3960" y="640080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ttp://www.narkotiki.ru/gnk_555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7928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1586160" y="84240"/>
            <a:ext cx="6084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/для родителей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Это написано для вас, папы и мамы, дедушки и бабушк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всех, кто находится рядом с детьми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343520" y="1414080"/>
            <a:ext cx="698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вы успели сделать все возможное для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не страдали и не гибли ваши де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вы не испытали того горя, что достается матери нарком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угим матерям, уже потерявших своих детей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21520" y="2781720"/>
            <a:ext cx="66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наркомани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гречески «narke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 "оцепенение, онемение", "mania" - "страс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ироком смысле наркомания - это болезненное 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ристрастие к наркотическим веществ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емым различными спос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лотание, вдыхание, курение, внутривенные инъекц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лью добиться одурманивающего со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ледствие этого, как результат происходят физ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сихические изменения в организм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0" descr="WB02218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007_05_21_04"/>
          <p:cNvPicPr/>
          <p:nvPr/>
        </p:nvPicPr>
        <p:blipFill>
          <a:blip r:embed="rId2"/>
          <a:stretch/>
        </p:blipFill>
        <p:spPr>
          <a:xfrm>
            <a:off x="2556000" y="2781360"/>
            <a:ext cx="4086000" cy="3286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019880" y="404640"/>
            <a:ext cx="775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чале своего "наркотического пут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думает, что он-то никогда не станет рабом наркот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 не допустит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 думали все: те, кого сейчас уже нет в жив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, кто сейчас мучается в ло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готов пойти на все ради очередной д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 думали и те, кто сегодня только первый раз попробовал наркотик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WB02218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24000" y="1484280"/>
            <a:ext cx="6840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йти от решения какой-то проблемы и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о же самое, уйти от реальности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любопы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правило, это маленькие де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 наркотикам сейчас привлекают и семилетни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не отставать от других, быть "как вс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не смог отказ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я казаться взрослее, из-за брава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обенно когда наркотик предлагает кто-то из те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ем подросток находится в близких отношения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я получить новые, необычные ощущения (галлюцин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просто поднять настро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я вести себя раскова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пример, с девушкой или просто танцуя на дискоте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ем насильственного вовлечения (шантаж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332000" y="333360"/>
            <a:ext cx="684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начинают прини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котики по разным причина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79280" y="-108000"/>
            <a:ext cx="8785440" cy="67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Вы обнаружили у Вашего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5 из нижеперечисленных призна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ы можете всерьез опасаться самого страшного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кие и частые изменения настроения вне зависимости от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торможенность (до сонливого состояния) или излишняя бодр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игатель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лив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шение ритма сна и бодрствования (позднее засыпание - позднее пробужд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возрастающая скры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ерестает интересоваться внутрисемейными проблем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тное падение интереса к учебе и прежним увлеч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емление к уеди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астающая потребность в деньг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основанная явно надуманными причинами,- возможно исчезновение денег или вещей из 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ление новых, подозрительных друзей, общение с которыми происходит в основном наедине или непонятными,"закодирован­ными" фр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нение размера зрачков (от суженных в точку до расширенных с исчезновением" радужки), которое не зависит от освещ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шение координации, когда движения становятся неуклюжими и порывист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ная агрес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692360" y="40464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ной критерий лиц, употребляющих 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4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8 до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 до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40 до 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627280" y="69228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985680" y="1830240"/>
          <a:ext cx="7500960" cy="455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830240"/>
                    <a:ext cx="750096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WB02218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24000" y="907920"/>
            <a:ext cx="86421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ым надо осознать действие и принять как акси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РКОМАНИЯ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ВИСИМОСТЬ + ПРЕСТУПЛЕНИЯ (тюрьма) +СТРАДАНИЯ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чего другого не буде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не должны допустить, чтобы погибали наши дети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АВАЙТЕ ОБЪЕДИНИМСЯИ ВМЕСТЕ ЗАЩИТИМ НАШИХ ДЕТЕЙ ОТ НАРКО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нас с вами этого сейчас не сделает никто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6"/>
          <p:cNvGraphicFramePr/>
          <p:nvPr/>
        </p:nvGraphicFramePr>
        <p:xfrm>
          <a:off x="8285040" y="1557360"/>
          <a:ext cx="85896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85040" y="1557360"/>
                    <a:ext cx="85896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acesofmeth012_220x176"/>
          <p:cNvPicPr/>
          <p:nvPr/>
        </p:nvPicPr>
        <p:blipFill>
          <a:blip r:embed="rId2"/>
          <a:stretch/>
        </p:blipFill>
        <p:spPr>
          <a:xfrm>
            <a:off x="1258920" y="115920"/>
            <a:ext cx="6624720" cy="529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2340000" y="580536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года 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539640" y="476280"/>
            <a:ext cx="456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здании компьютерного  слайд-фильма были использованы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правления общественных связей Государственного комитета Российской Федерации по контролю за оборотом наркотических средств и психотроп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1 августа 200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narkotiki.ru/gnk_555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4005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Материалы сети ресурсо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84000" y="465228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nordimperia.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11280" y="1268280"/>
            <a:ext cx="7675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2 МО «Барышский рай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ья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и информатики  Ротан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_resizeBlogImage"/>
          <p:cNvPicPr/>
          <p:nvPr/>
        </p:nvPicPr>
        <p:blipFill>
          <a:blip r:embed="rId2"/>
          <a:stretch/>
        </p:blipFill>
        <p:spPr>
          <a:xfrm>
            <a:off x="468360" y="228600"/>
            <a:ext cx="835164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203640" y="5877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 года 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_resizeBlogImage2"/>
          <p:cNvPicPr/>
          <p:nvPr/>
        </p:nvPicPr>
        <p:blipFill>
          <a:blip r:embed="rId2"/>
          <a:stretch/>
        </p:blipFill>
        <p:spPr>
          <a:xfrm>
            <a:off x="755640" y="189000"/>
            <a:ext cx="7848720" cy="536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340000" y="59500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 года 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_resizeBlogImage3"/>
          <p:cNvPicPr/>
          <p:nvPr/>
        </p:nvPicPr>
        <p:blipFill>
          <a:blip r:embed="rId2"/>
          <a:stretch/>
        </p:blipFill>
        <p:spPr>
          <a:xfrm>
            <a:off x="324000" y="189000"/>
            <a:ext cx="8424720" cy="5721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195640" y="609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_resizeBlogImage4"/>
          <p:cNvPicPr/>
          <p:nvPr/>
        </p:nvPicPr>
        <p:blipFill>
          <a:blip r:embed="rId2"/>
          <a:stretch/>
        </p:blipFill>
        <p:spPr>
          <a:xfrm>
            <a:off x="684360" y="333360"/>
            <a:ext cx="7993080" cy="544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059280" y="6021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_resizeBlogImage6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5624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76720" y="6308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_resizeBlogImage7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523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916360" y="609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6:40:13Z</dcterms:created>
  <dc:creator>учитель</dc:creator>
  <dc:description/>
  <dc:language>en-US</dc:language>
  <cp:lastModifiedBy>учитель</cp:lastModifiedBy>
  <dcterms:modified xsi:type="dcterms:W3CDTF">2012-03-02T08:20:13Z</dcterms:modified>
  <cp:revision>9</cp:revision>
  <dc:subject/>
  <dc:title>Слайд 1</dc:title>
</cp:coreProperties>
</file>