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8F6C-AFCA-4DBA-A9F7-3A3C4FB48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рг.момен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ко прозвенел зво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наш урок пройдет в необычной форме. С какими матем.действиями мы уже знакомы? Давайте назовем компоненты эти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счет: (2 ученика у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исло, которое в 2 раза больше 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 меньше 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, которое в 2 раза меньше, чем 2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, в котором 4 дес. , а количество ед. на 2 бо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, которое в 2 раза больше, чем 41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та, как одним словом назвать все эти получившиеся чис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2 группы их можно разб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и ответы в порядке возрастания. (1 ученик на доске работает с карточк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слово получилось? (СПОР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чего люди занимаются спорт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 зимнего спорт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740D-82BC-4A2D-84B5-DE04D89CDB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в со зрительным диктантом, в доказали, что такие же внимательны как и спортсм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82E9-8C3F-4BC5-83F6-9731250A24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страна готовится к олимпиаде в городе Сочи. Это будет зимняя олимпиада в 2014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составит из цифр год 2014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исла можно составить из этих цифр так, чтобы они делились на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 «все четные числа делятся на 2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имеров: …* 2=2, …*2 =4, …*2 =10, …* 2=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, как м умеем с вами умножать, с помощью какого действ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удобно ли быстро сосчитать с помощью сложения приер:2*9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лго, золотую медаль мы не получим. Чтоб считать быстро в математике существует таблица умн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атлонисты предлагают выполнить задание на ка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арточки такие же как на следующем слайде, но на числовом ряду нет еще стрелоч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 умножение с помощью числового ря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 равенства, закрасив соответствующее число на числовом ря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4F28-AA05-402C-8AD3-C04848B182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исла получились при умножении на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вывод можн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» при умножении на 2 получается четное число, любое четное число : на 2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имней олимпиаде будут принимать участие и фигури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8C28-DFA5-45C5-A305-0E30D7BF05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гуристы –одиночники получили на соревнованиях такие баллы. Какие из этих чисел будут делиться на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на соревнованиях  участвуют фигуристы, которые выступают парами – парное катание.  Они предлагают выполнить задание па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карточ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*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∆=◊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*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*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*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                 16                  12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849D-1668-470A-8E07-711B7F1ABC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предыдущ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атлонисты задание нам давали, фигуристы тоже. О каких спортсменах еще не говорили? (о лыжник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F76F-AC5E-4CD5-9C7E-945FDF742A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ыжники предлагают составить задачу по схеме( наши лыжники прыгали с трампл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и решение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ккеисты интересуются, какая площадь их катка, если длина 8м, ширина 2 метра ? (решение задач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-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т №2 с.38 №1 (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лимпийских играх – это достижение для спортсменов. Наши достижения – это успешная учеба в школе, получение знаний. Мы на уроке это доказ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B34E-BD47-495D-A82A-B0ADECADB8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акой из перечисленных видов спорта в не знает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то это за вид спор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908C-7DB8-46BA-8785-B4F97AFE15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слов учителя о этом виде 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F33C-5436-41AD-8BBD-483B335243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егодня будем говорить о спор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акими качествами должен обладать спортсм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проверим насколько в вниматель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зрительный диктант( показ каждого слайда зрительного диктанта – 2 сек.) После выполнения задания – обмен тетрадями и взаимо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B455-2700-42A2-8103-7B706A0320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5101-BB05-461C-82A9-B4E63E1022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28A7-514F-4385-AC7A-7891707A0E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рисунок был вторым? Что это за символ? (олимпиа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символ обозначает, что на олимпиаде объединяются спортсмены с разных материков,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узнаем значение каждого из олимпийских коле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20D6-DA39-4E9B-8B4F-CBD761311D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9C4A-150F-4077-81E4-35C2FD0F3F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5A37-150A-4C9E-BF2F-4D36331BF6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D41-7B97-4492-8F08-25733BA8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FAC-6857-457B-A452-649AA934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DA4-D5F5-4FA9-95DD-F896D30D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8FD-D12E-44F2-8E39-05026EEF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172-15F0-4034-B5FF-5BA6C2BD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A41-1990-4568-90B4-8FD05186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C28-B5F3-4514-AB15-C328C652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F3D-F150-45C2-9919-C09042BF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60D-3A95-44DE-8FF0-DBE8246F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EB3-CC9A-4EB7-ACB6-D401256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5BB-5384-4A95-BE74-0377392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8DD-FA4D-463F-8A3E-642E341E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0397-357F-4727-8B2F-B785951EFB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764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Урок математики</a:t>
            </a:r>
            <a:br>
              <a:rPr sz="4400"/>
            </a:b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во 2-м класс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2781000"/>
            <a:ext cx="7956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крытый урок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 Умножение и деление на 2 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24000" y="5300640"/>
            <a:ext cx="5327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МОУ СОШ № 36:г.Владим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ромакова М.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95280" y="119700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ёрный - Афри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имвол  олимпиад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5" descr="Кольцо 3"/>
          <p:cNvPicPr/>
          <p:nvPr/>
        </p:nvPicPr>
        <p:blipFill>
          <a:blip r:embed="rId1"/>
          <a:stretch/>
        </p:blipFill>
        <p:spPr>
          <a:xfrm>
            <a:off x="1079640" y="2517840"/>
            <a:ext cx="7197480" cy="359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Кольцо 5"/>
          <p:cNvPicPr/>
          <p:nvPr/>
        </p:nvPicPr>
        <p:blipFill>
          <a:blip r:embed="rId2"/>
          <a:stretch/>
        </p:blipFill>
        <p:spPr>
          <a:xfrm>
            <a:off x="7556400" y="1438200"/>
            <a:ext cx="144000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24000" y="1125360"/>
            <a:ext cx="7429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зелёный - Австрал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имвол  олимпиад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" name="Picture 5" descr="Кольцо 4"/>
          <p:cNvPicPr/>
          <p:nvPr/>
        </p:nvPicPr>
        <p:blipFill>
          <a:blip r:embed="rId1"/>
          <a:stretch/>
        </p:blipFill>
        <p:spPr>
          <a:xfrm>
            <a:off x="1079640" y="2517840"/>
            <a:ext cx="7197480" cy="359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ольцо 5"/>
          <p:cNvPicPr/>
          <p:nvPr/>
        </p:nvPicPr>
        <p:blipFill>
          <a:blip r:embed="rId2"/>
          <a:stretch/>
        </p:blipFill>
        <p:spPr>
          <a:xfrm>
            <a:off x="7556400" y="1438200"/>
            <a:ext cx="144000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11280" y="1197000"/>
            <a:ext cx="71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красный - Амери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имвол  олимпиад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5" descr="Кольцо 5"/>
          <p:cNvPicPr/>
          <p:nvPr/>
        </p:nvPicPr>
        <p:blipFill>
          <a:blip r:embed="rId1"/>
          <a:stretch/>
        </p:blipFill>
        <p:spPr>
          <a:xfrm>
            <a:off x="1079640" y="2517840"/>
            <a:ext cx="7197480" cy="359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ольцо 5"/>
          <p:cNvPicPr/>
          <p:nvPr/>
        </p:nvPicPr>
        <p:blipFill>
          <a:blip r:embed="rId2"/>
          <a:stretch/>
        </p:blipFill>
        <p:spPr>
          <a:xfrm>
            <a:off x="7556400" y="1438200"/>
            <a:ext cx="144000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лимпиада в Соч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Picture 5" descr="sochi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Задание 1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алл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4194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л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4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л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19640" y="1628640"/>
            <a:ext cx="338472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6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3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л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3132000" y="4941720"/>
            <a:ext cx="419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9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л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·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9 + 9 = 27      2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·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8 - 8 = 8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6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·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6 + 6 = 18      2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·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7 + 7 = 21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 rot="16200000">
            <a:off x="682560" y="1341000"/>
            <a:ext cx="576360" cy="1150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 rot="16200000">
            <a:off x="5292720" y="1341000"/>
            <a:ext cx="576360" cy="1150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 rot="16200000">
            <a:off x="5290920" y="4149360"/>
            <a:ext cx="576360" cy="1150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4"/>
          <p:cNvSpPr/>
          <p:nvPr/>
        </p:nvSpPr>
        <p:spPr>
          <a:xfrm rot="16200000">
            <a:off x="682560" y="4149360"/>
            <a:ext cx="576360" cy="1150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3280" y="1413000"/>
            <a:ext cx="5616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_______</a:t>
            </a:r>
            <a:br>
              <a:rPr sz="4000"/>
            </a:br>
            <a:br>
              <a:rPr sz="4000"/>
            </a:br>
            <a:br>
              <a:rPr sz="24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 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Picture 7" descr="Лыжник 1"/>
          <p:cNvPicPr/>
          <p:nvPr/>
        </p:nvPicPr>
        <p:blipFill>
          <a:blip r:embed="rId1"/>
          <a:stretch/>
        </p:blipFill>
        <p:spPr>
          <a:xfrm>
            <a:off x="250920" y="4032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Лыжник 2"/>
          <p:cNvPicPr/>
          <p:nvPr/>
        </p:nvPicPr>
        <p:blipFill>
          <a:blip r:embed="rId2"/>
          <a:stretch/>
        </p:blipFill>
        <p:spPr>
          <a:xfrm>
            <a:off x="250920" y="3860640"/>
            <a:ext cx="2879640" cy="2880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6200000">
            <a:off x="5632200" y="999360"/>
            <a:ext cx="685800" cy="1943280"/>
          </a:xfrm>
          <a:custGeom>
            <a:avLst/>
            <a:gdLst>
              <a:gd name="textAreaLeft" fmla="*/ 438120 w 685800"/>
              <a:gd name="textAreaRight" fmla="*/ 686160 w 68580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419640" y="4653000"/>
            <a:ext cx="561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______________</a:t>
            </a:r>
            <a:br>
              <a:rPr sz="4000"/>
            </a:br>
            <a:br>
              <a:rPr sz="4000"/>
            </a:br>
            <a:br>
              <a:rPr sz="24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? в 2 раза больш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 rot="16200000">
            <a:off x="5885640" y="3229560"/>
            <a:ext cx="685800" cy="3887640"/>
          </a:xfrm>
          <a:custGeom>
            <a:avLst/>
            <a:gdLst>
              <a:gd name="textAreaLeft" fmla="*/ 438120 w 685800"/>
              <a:gd name="textAreaRight" fmla="*/ 686160 w 68580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имние виды спорта: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хокке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биатло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фигурное кат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лыжные гонк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iatlok-24-1-9-REUTERS-Alessandro-Bianchi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535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иатл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iatlon"/>
          <p:cNvPicPr/>
          <p:nvPr/>
        </p:nvPicPr>
        <p:blipFill>
          <a:blip r:embed="rId1"/>
          <a:stretch/>
        </p:blipFill>
        <p:spPr>
          <a:xfrm>
            <a:off x="395280" y="115920"/>
            <a:ext cx="3755880" cy="626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raph_26"/>
          <p:cNvPicPr/>
          <p:nvPr/>
        </p:nvPicPr>
        <p:blipFill>
          <a:blip r:embed="rId2"/>
          <a:stretch/>
        </p:blipFill>
        <p:spPr>
          <a:xfrm>
            <a:off x="4643280" y="1916280"/>
            <a:ext cx="4249800" cy="290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0720" y="228600"/>
            <a:ext cx="43113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иатл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рительный диктан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Зрительный диктант 1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рительный диктан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1" name="Picture 4" descr="Зрительный диктант 2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рительный диктан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4" descr="Зрительный диктант 3"/>
          <p:cNvPicPr/>
          <p:nvPr/>
        </p:nvPicPr>
        <p:blipFill>
          <a:blip r:embed="rId1"/>
          <a:stretch/>
        </p:blipFill>
        <p:spPr>
          <a:xfrm>
            <a:off x="395280" y="1484280"/>
            <a:ext cx="84978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Кольцо 1"/>
          <p:cNvPicPr/>
          <p:nvPr/>
        </p:nvPicPr>
        <p:blipFill>
          <a:blip r:embed="rId1"/>
          <a:stretch/>
        </p:blipFill>
        <p:spPr>
          <a:xfrm>
            <a:off x="1079640" y="2517840"/>
            <a:ext cx="7197480" cy="3598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395280" y="119700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ff"/>
                </a:solidFill>
                <a:latin typeface="Arial"/>
              </a:rPr>
              <a:t>синий - Европ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имвол  олимпиад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13" descr="Кольцо 5"/>
          <p:cNvPicPr/>
          <p:nvPr/>
        </p:nvPicPr>
        <p:blipFill>
          <a:blip r:embed="rId2"/>
          <a:stretch/>
        </p:blipFill>
        <p:spPr>
          <a:xfrm>
            <a:off x="7556400" y="1438200"/>
            <a:ext cx="143676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95280" y="119700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желтый - Аз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имвол  олимпиад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0" name="Picture 5" descr="Кольцо 2"/>
          <p:cNvPicPr/>
          <p:nvPr/>
        </p:nvPicPr>
        <p:blipFill>
          <a:blip r:embed="rId1"/>
          <a:stretch/>
        </p:blipFill>
        <p:spPr>
          <a:xfrm>
            <a:off x="1079640" y="2517840"/>
            <a:ext cx="7197480" cy="359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Кольцо 5"/>
          <p:cNvPicPr/>
          <p:nvPr/>
        </p:nvPicPr>
        <p:blipFill>
          <a:blip r:embed="rId2"/>
          <a:stretch/>
        </p:blipFill>
        <p:spPr>
          <a:xfrm>
            <a:off x="7556400" y="1438200"/>
            <a:ext cx="144000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35:59Z</dcterms:created>
  <dc:creator>Customer</dc:creator>
  <dc:description/>
  <dc:language>en-US</dc:language>
  <cp:lastModifiedBy>Пользователь</cp:lastModifiedBy>
  <dcterms:modified xsi:type="dcterms:W3CDTF">2012-03-02T06:55:59Z</dcterms:modified>
  <cp:revision>47</cp:revision>
  <dc:subject/>
  <dc:title>Урок математики во 2-м классе</dc:title>
</cp:coreProperties>
</file>