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A197-5485-47A4-B30A-7DAE8A0E34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3963-CA97-44B1-9CBB-9684D8AECB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940-A54E-4398-BA24-5899ECEC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5FE-377C-487A-A97E-74F74346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3BA-5107-4405-B997-405FA9F6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FCD-A9CB-4A7D-82E9-E1A0CA4D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AE5B-D1C8-436F-B94A-3D15240E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5A41-BE05-4E70-8FCC-90F7E646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CE15-0CF0-4104-80D0-C9884EC7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A2DF-4654-4140-821A-51938064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D2CB-41B6-43DF-ADFC-3194F7B0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238D-17BF-4D54-BE59-62D61D75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3357-CE13-47FE-9B16-CC4758F8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86C-0E1C-4EA1-AD7A-F833D94A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0D6F-8B1E-49AE-B184-D4D12ADE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A835-C7C3-4210-80A8-E27B1347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6A40-ADFA-4426-9EE2-623AD7C3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69E2-62A2-4F4D-A0F0-9A1BC402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471D-3D83-4833-BFD7-3D217F7C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F5B-04EE-4C15-AA12-348E848D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230-5C59-4DB4-859C-04CBF1F4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CDB-757A-4C4F-9948-1BC51DFE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40A-963F-43CA-8160-D0024DF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CE8-5FA7-4D15-9CAB-05847644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67A-9100-41C1-BE33-3B31FA92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33F-9102-4E0D-8214-0BE64F16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19D7-C43C-418B-9207-C1CD99EAF7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6635-8208-421F-8279-C01A75B7C5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6200" y="15228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Владимир Ильич Ленин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4" descr="LENIN"/>
          <p:cNvPicPr/>
          <p:nvPr/>
        </p:nvPicPr>
        <p:blipFill>
          <a:blip r:embed="rId1"/>
          <a:stretch/>
        </p:blipFill>
        <p:spPr>
          <a:xfrm>
            <a:off x="0" y="0"/>
            <a:ext cx="380196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4800600" y="4267080"/>
            <a:ext cx="3200400" cy="2286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ВТОР:  КАЙГОРОДЦЕВ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ИМОФЕ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ЕНИК 11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КОУ «СЛОБОДО – ТУРИНСКАЯ СОШ№2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ИТЕЛЬ: ЗАРОВНЯТНЫ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АТЬЯНА МИХАЙЛО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ть деятельность Владимира Ильича Ульянова (Ленина), как политического лид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419720" y="19080"/>
            <a:ext cx="4724280" cy="3867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нин родился в 1870 году в городе Симбирске в России. Его отец был верным правительству чиновником, но старший брат Александр стал революционером, и его казнили за участие в заговоре с целью убийства царя. К двадцати трем годам Ленин сам стал пылким марксист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260964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7045200" y="3886200"/>
            <a:ext cx="2098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3124080" cy="2889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1055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нин как  политический лидер оказал значительное воздействие на историю 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учи теоретиком марксизма, он многое делает для создания рабочей партии, которая становится ядром борьбы с самодержавием. РСДРП образовалась в 1902году. Ленину приходилось нелегально руководить борьбой российских рабочих за свою своб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-152280" y="2825640"/>
            <a:ext cx="495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387440"/>
            <a:ext cx="5105520" cy="3862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05520" y="-360"/>
            <a:ext cx="40384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ая социал-демократическая партия, в которой состоял Ленин, раскололась на две фракции, он стал лидером более многочисленной части — большеви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ризвал большевиков готовить переворот с целью низложить Временное правительство и заменить его коммунистически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ктябре 1917 года попытка увенчалась успехом, и Ленин стал новым главой правитель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22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4114800" y="3211560"/>
            <a:ext cx="50292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нин взялся за бескомпромиссный и быстрый переход к полностью социалистической экономике. Когда это не сработало, он вновь проявил дальновидность, сделал шаг назад и установил смешанную капиталистическо-социалистическую экономику, которая просуществовала в Советском Союзе несколько 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4496040" cy="32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5943600" cy="4097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3505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жде всего Ленин важен как человек действия, который привел большевиков к власти в России и тем самым установил первое в мире советское правительство. Он был первым, кто применил на политической практике идеи Карла Маркс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гура Ленина как лидера возникла на крутом  повороте истории России. Он наделялся  своими современниками исключительными способностя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C</dc:creator>
  <dc:description/>
  <dc:language>en-US</dc:language>
  <cp:lastModifiedBy>NC</cp:lastModifiedBy>
  <dcterms:modified xsi:type="dcterms:W3CDTF">2012-03-02T17:37:5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