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6.png" ContentType="image/png"/>
  <Override PartName="/ppt/media/image6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64D-BE9C-4BA8-8AA4-66E5C923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885-72B9-4744-A1C5-87D96E1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2C7-A0A2-46F4-84C6-B7893F2D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8E8-1EB9-4699-921C-11EF628D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FADE-D718-4515-9AB5-4ABE9D21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830-3C01-4658-A63B-2B9AF2F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C05-2B61-4229-8379-CCDE02D9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4D7D-4882-4085-9181-9F5192F4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ADB-32AE-4043-8758-465A477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A6A8-9DDA-4A4E-94C1-349E601C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D5C-2621-410B-9A4A-6EC0043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5AC-325E-4351-B148-CB8AB8B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456-D973-49AF-8F65-BBB5E75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6D6-0AA7-4565-9625-1F19014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EED9-B164-47EE-9D51-A60F2FD5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D27-FBC2-4D71-AB97-80942359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A35-8F47-4626-9947-4144FC10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690C-371D-48E4-A38E-6241873E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E9AE-4D00-40E6-9EE7-29F4392D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7069-6C6A-4E2B-8AD9-0EF37619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FC93-93F6-4F36-9A1D-85D3CAB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F8C8-1C6D-41EF-A4E3-C958D4D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F23-991B-41D3-ACA2-6F5ADDC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E478-E99D-434C-A09C-05A2910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912A-0754-4F0A-8D82-C421625B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D850-834D-4D1F-BB86-2A319B0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142E-AE53-456B-8F4A-5855512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B2F9-2C44-4837-8DF3-29DFFBA1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426A-81A6-47E5-B8D0-DA1F935B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0735-2BA8-423B-8A92-F137998D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DAF5-583F-4D96-B49F-B845AC83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C6ED6-64F9-48A6-8441-F4EC8120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37B2-1C69-43A4-9112-4D0E440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EFE-58B4-48D6-A679-448BA83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81C4-A985-4E5C-925E-B297BDB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35DE-5BDC-47CC-B14B-760A9AC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193A-3364-4550-95C4-F72284E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7031-C4C0-4C1B-A85A-60C39D8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F5AF-CDDD-4A43-BD60-780891C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8E38-AE16-4EE6-8EBF-C08CD0A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BD2D-CD71-4F3E-8F07-81281915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BE70-B823-463E-B0F7-89EE171B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13BF-F858-428A-89ED-B01BF0B7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008-BB4D-4E89-996C-EBF583BA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765-5C88-41FF-A5AE-F8AD563A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1E9-AE0A-473B-AF01-B2D7E97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73C-44A8-4EC4-A525-3C41644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AB9-D684-4EEC-96E6-14DB0CF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077-B40F-4F40-9CE1-0D76132D4E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CFD-1204-4ECB-82EC-C1CDFDCCB4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320-4BD6-4BFC-A554-76D726FB40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400-A39F-4AFC-BAC1-51ABF57D78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gi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DNS\Desktop\фоны\126 фоны для презентаций\pic_47e5ee17c657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0" y="3644640"/>
            <a:ext cx="507528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рагунский Виктор Юзефович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(1913—1972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оветский писатель-прозаик, автор популярных рассказов для дете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Содержимое 8" descr="http://www.adl22.ru/getres.php?table=ycp_res&amp;fld=img1&amp;id=297&amp;kind=jpg"/>
          <p:cNvPicPr/>
          <p:nvPr/>
        </p:nvPicPr>
        <p:blipFill>
          <a:blip r:embed="rId3"/>
          <a:stretch/>
        </p:blipFill>
        <p:spPr>
          <a:xfrm>
            <a:off x="5292720" y="1268280"/>
            <a:ext cx="3564000" cy="496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1044669431_tonnel"/>
          <p:cNvPicPr/>
          <p:nvPr/>
        </p:nvPicPr>
        <p:blipFill>
          <a:blip r:embed="rId4"/>
          <a:stretch/>
        </p:blipFill>
        <p:spPr>
          <a:xfrm>
            <a:off x="324000" y="476280"/>
            <a:ext cx="24476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чется с детством встречаться опя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нигу Драгунского взять и чит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де это слыхан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де это видано,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нигу читать и себя вспоминать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 rot="21300000">
            <a:off x="693360" y="2246400"/>
            <a:ext cx="4425840" cy="37447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550872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ников Вл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 написала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тцев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29750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 rot="420000">
            <a:off x="6116400" y="2654280"/>
            <a:ext cx="2790720" cy="4048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2617560" cy="3909960"/>
          </a:xfrm>
          <a:prstGeom prst="rect">
            <a:avLst/>
          </a:prstGeom>
          <a:ln w="0">
            <a:noFill/>
          </a:ln>
        </p:spPr>
      </p:pic>
      <p:pic>
        <p:nvPicPr>
          <p:cNvPr id="201" name="Заголовок 5" descr=""/>
          <p:cNvPicPr/>
          <p:nvPr/>
        </p:nvPicPr>
        <p:blipFill>
          <a:blip r:embed="rId3"/>
          <a:stretch/>
        </p:blipFill>
        <p:spPr>
          <a:xfrm>
            <a:off x="-6480" y="109440"/>
            <a:ext cx="7785360" cy="2889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42920" y="278100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C:\Documents and Settings\Admin\Рабочий стол\Драгунский\333dca1d12fbd1990e58c3874823db12.jpg"/>
          <p:cNvPicPr/>
          <p:nvPr/>
        </p:nvPicPr>
        <p:blipFill>
          <a:blip r:embed="rId4"/>
          <a:stretch/>
        </p:blipFill>
        <p:spPr>
          <a:xfrm rot="21060000">
            <a:off x="255600" y="2898720"/>
            <a:ext cx="27068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1412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Много историй веселых и грустных,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ро ребятишек Денис рассказал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Где это слыхано,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Где это видано,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ждый в Дениске себя узнавал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9909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http://www.nanya.ru/images/opit/10613/2.gif"/>
          <p:cNvPicPr/>
          <p:nvPr/>
        </p:nvPicPr>
        <p:blipFill>
          <a:blip r:embed="rId1"/>
          <a:stretch/>
        </p:blipFill>
        <p:spPr>
          <a:xfrm>
            <a:off x="179280" y="47628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f_47c94448bf86d.jpg"/>
          <p:cNvPicPr/>
          <p:nvPr/>
        </p:nvPicPr>
        <p:blipFill>
          <a:blip r:embed="rId2"/>
          <a:stretch/>
        </p:blipFill>
        <p:spPr>
          <a:xfrm>
            <a:off x="6143760" y="3571920"/>
            <a:ext cx="2749320" cy="3009960"/>
          </a:xfrm>
          <a:prstGeom prst="rect">
            <a:avLst/>
          </a:prstGeom>
          <a:ln w="0">
            <a:noFill/>
          </a:ln>
        </p:spPr>
      </p:pic>
      <p:pic>
        <p:nvPicPr>
          <p:cNvPr id="208" name="Заголовок 5" descr=""/>
          <p:cNvPicPr/>
          <p:nvPr/>
        </p:nvPicPr>
        <p:blipFill>
          <a:blip r:embed="rId3"/>
          <a:stretch/>
        </p:blipFill>
        <p:spPr>
          <a:xfrm>
            <a:off x="-401760" y="3859200"/>
            <a:ext cx="7783560" cy="2017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132000" y="9079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усть это чудо – светлячок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ам в жизни вашей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стретится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205080" cy="427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14400" y="4365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есь писатель рассказа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он в школе живой уголок создава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чтал, что будет лось, зубробезон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даже мышку в уголок не приобрел о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2" descr="http://omskhunter.ru/zveriomska/img/moose.jpg"/>
          <p:cNvPicPr/>
          <p:nvPr/>
        </p:nvPicPr>
        <p:blipFill>
          <a:blip r:embed="rId2"/>
          <a:stretch/>
        </p:blipFill>
        <p:spPr>
          <a:xfrm>
            <a:off x="4643280" y="549360"/>
            <a:ext cx="3543480" cy="24098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omskhunter.ru/zveriomska/img/6-7.jpg"/>
          <p:cNvPicPr/>
          <p:nvPr/>
        </p:nvPicPr>
        <p:blipFill>
          <a:blip r:embed="rId3"/>
          <a:stretch/>
        </p:blipFill>
        <p:spPr>
          <a:xfrm>
            <a:off x="6372360" y="3141720"/>
            <a:ext cx="17287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 rot="21060000">
            <a:off x="1012320" y="425160"/>
            <a:ext cx="2387880" cy="3468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 rot="540000">
            <a:off x="4815000" y="365040"/>
            <a:ext cx="2741400" cy="369108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5" descr=""/>
          <p:cNvPicPr/>
          <p:nvPr/>
        </p:nvPicPr>
        <p:blipFill>
          <a:blip r:embed="rId3"/>
          <a:stretch/>
        </p:blipFill>
        <p:spPr>
          <a:xfrm>
            <a:off x="530280" y="3986280"/>
            <a:ext cx="86202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rcRect l="3642" t="-1613" r="49039" b="1254"/>
          <a:stretch/>
        </p:blipFill>
        <p:spPr>
          <a:xfrm>
            <a:off x="250920" y="0"/>
            <a:ext cx="3816360" cy="6067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211640" y="1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Люблю читать, любл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играть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Строгать, пилить, скакать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мечт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Я многое чего люблю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Что составляет жизнь мою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C:\Сладости\Tasty Wallpapers  052.jpg"/>
          <p:cNvPicPr/>
          <p:nvPr/>
        </p:nvPicPr>
        <p:blipFill>
          <a:blip r:embed="rId2"/>
          <a:stretch/>
        </p:blipFill>
        <p:spPr>
          <a:xfrm>
            <a:off x="5148360" y="3933720"/>
            <a:ext cx="2784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ea9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5" descr=""/>
          <p:cNvPicPr/>
          <p:nvPr/>
        </p:nvPicPr>
        <p:blipFill>
          <a:blip r:embed="rId1"/>
          <a:stretch/>
        </p:blipFill>
        <p:spPr>
          <a:xfrm>
            <a:off x="158760" y="2084400"/>
            <a:ext cx="8620200" cy="321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rcRect l="0" t="0" r="51080" b="78559"/>
          <a:stretch/>
        </p:blipFill>
        <p:spPr>
          <a:xfrm>
            <a:off x="684360" y="4869000"/>
            <a:ext cx="255564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rcRect l="6073" t="51591" r="51956" b="11314"/>
          <a:stretch/>
        </p:blipFill>
        <p:spPr>
          <a:xfrm>
            <a:off x="5724360" y="33336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rcRect l="59790" t="58466" r="4374" b="7427"/>
          <a:stretch/>
        </p:blipFill>
        <p:spPr>
          <a:xfrm>
            <a:off x="6588000" y="414972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5"/>
          <a:srcRect l="55656" t="18405" r="240" b="54309"/>
          <a:stretch/>
        </p:blipFill>
        <p:spPr>
          <a:xfrm>
            <a:off x="755640" y="189000"/>
            <a:ext cx="2303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f3ca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C:\Documents and Settings\Admin\Рабочий стол\Драгунский\Udivitel'nye_priklyucheniya_Denisa_Korableva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878200" y="1268280"/>
            <a:ext cx="2922480" cy="5232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Documents and Settings\Admin\Рабочий стол\Драгунский\957a83d17279.jpg"/>
          <p:cNvPicPr/>
          <p:nvPr/>
        </p:nvPicPr>
        <p:blipFill>
          <a:blip r:embed="rId2"/>
          <a:stretch/>
        </p:blipFill>
        <p:spPr>
          <a:xfrm>
            <a:off x="2843280" y="1146240"/>
            <a:ext cx="2952720" cy="529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dmin\Рабочий стол\Драгунский\19e16b8c6424.jpg"/>
          <p:cNvPicPr/>
          <p:nvPr/>
        </p:nvPicPr>
        <p:blipFill>
          <a:blip r:embed="rId3"/>
          <a:stretch/>
        </p:blipFill>
        <p:spPr>
          <a:xfrm>
            <a:off x="2916360" y="1197000"/>
            <a:ext cx="2808000" cy="518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Admin\Рабочий стол\Драгунский\16022951.jpg"/>
          <p:cNvPicPr/>
          <p:nvPr/>
        </p:nvPicPr>
        <p:blipFill>
          <a:blip r:embed="rId4"/>
          <a:stretch/>
        </p:blipFill>
        <p:spPr>
          <a:xfrm>
            <a:off x="2700360" y="1052640"/>
            <a:ext cx="3257640" cy="547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5"/>
          <a:stretch/>
        </p:blipFill>
        <p:spPr>
          <a:xfrm>
            <a:off x="2700360" y="1052640"/>
            <a:ext cx="3305160" cy="541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6"/>
          <a:stretch/>
        </p:blipFill>
        <p:spPr>
          <a:xfrm>
            <a:off x="2567160" y="907920"/>
            <a:ext cx="3517560" cy="561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D:\АНИМАШКИ.RU (G)\animashky\3D\компьютеры, технологии, бытовая техника\камеры\5204.gif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6516720" y="3902040"/>
            <a:ext cx="2593800" cy="233532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0" descr=""/>
          <p:cNvPicPr/>
          <p:nvPr/>
        </p:nvPicPr>
        <p:blipFill>
          <a:blip r:embed="rId8"/>
          <a:stretch/>
        </p:blipFill>
        <p:spPr>
          <a:xfrm>
            <a:off x="390600" y="-122400"/>
            <a:ext cx="8435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7:13:04Z</dcterms:created>
  <dc:creator>DNS</dc:creator>
  <dc:description/>
  <dc:language>en-US</dc:language>
  <cp:lastModifiedBy>Ольга</cp:lastModifiedBy>
  <dcterms:modified xsi:type="dcterms:W3CDTF">2012-03-03T19:05:59Z</dcterms:modified>
  <cp:revision>20</cp:revision>
  <dc:subject/>
  <dc:title>Драгунский Виктор Юзефович  (1913—1972)  советский писатель-прозаик, автор популярных рассказов для детей.</dc:title>
</cp:coreProperties>
</file>