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5.gif" ContentType="image/gif"/>
  <Override PartName="/ppt/media/image17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0.gif" ContentType="image/gif"/>
  <Override PartName="/ppt/media/image13.png" ContentType="image/png"/>
  <Override PartName="/ppt/media/image6.gif" ContentType="image/gif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D9B-6F12-4CE4-A71B-1078C68A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78FC-D087-4BA5-A67F-90EA50B2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9A9-464F-4B13-A289-61EB9A09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6F7-10D1-4012-A77E-FBFBEE04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B5A-CA28-44E6-80FB-535E2302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7A9-967E-42F5-8BCC-D280BFAC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D1F-BE83-488A-95BE-B3A85FCB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CC4-7730-4C51-A365-85FF1498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E06-93FE-4A53-9810-5C206F47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BE0-1F00-494F-A852-E94A9DA5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659-A5F8-4E21-8FA8-EE7BCEC5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A63-12D2-4B4A-A436-BB94A07B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8EE2-7977-4E92-B005-59193F839E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3B61-E81B-42CE-88D2-5D0239ED9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png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85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55" descr=""/>
          <p:cNvPicPr/>
          <p:nvPr/>
        </p:nvPicPr>
        <p:blipFill>
          <a:blip r:embed="rId2"/>
          <a:stretch/>
        </p:blipFill>
        <p:spPr>
          <a:xfrm>
            <a:off x="506520" y="781200"/>
            <a:ext cx="7802280" cy="4492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3"/>
          <a:stretch/>
        </p:blipFill>
        <p:spPr>
          <a:xfrm>
            <a:off x="3357720" y="25002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4"/>
          <a:stretch/>
        </p:blipFill>
        <p:spPr>
          <a:xfrm>
            <a:off x="2714760" y="21430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5"/>
          <a:stretch/>
        </p:blipFill>
        <p:spPr>
          <a:xfrm>
            <a:off x="2071800" y="278604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6"/>
          <a:stretch/>
        </p:blipFill>
        <p:spPr>
          <a:xfrm>
            <a:off x="4143240" y="114300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:\Documents and Settings\Aida\Рабочий стол\НОвая ГРАФИКА сборник\КАРТИНКИ СБОРНИК_ школьные\6.gif"/>
          <p:cNvPicPr/>
          <p:nvPr/>
        </p:nvPicPr>
        <p:blipFill>
          <a:blip r:embed="rId7"/>
          <a:stretch/>
        </p:blipFill>
        <p:spPr>
          <a:xfrm>
            <a:off x="1357200" y="1928880"/>
            <a:ext cx="824040" cy="82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:\Documents and Settings\Aida\Рабочий стол\НОвая ГРАФИКА сборник\КАРТИНКИ СБОРНИК_ школьные\7.gif"/>
          <p:cNvPicPr/>
          <p:nvPr/>
        </p:nvPicPr>
        <p:blipFill>
          <a:blip r:embed="rId8"/>
          <a:stretch/>
        </p:blipFill>
        <p:spPr>
          <a:xfrm>
            <a:off x="3357720" y="857160"/>
            <a:ext cx="680760" cy="681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:\Documents and Settings\Aida\Рабочий стол\НОвая ГРАФИКА сборник\КАРТИНКИ СБОРНИК_ школьные\8.gif"/>
          <p:cNvPicPr/>
          <p:nvPr/>
        </p:nvPicPr>
        <p:blipFill>
          <a:blip r:embed="rId9"/>
          <a:stretch/>
        </p:blipFill>
        <p:spPr>
          <a:xfrm>
            <a:off x="2286000" y="1428840"/>
            <a:ext cx="824040" cy="82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:\Documents and Settings\Aida\Рабочий стол\НОвая ГРАФИКА сборник\КАРТИНКИ СБОРНИК_ школьные\9.gif"/>
          <p:cNvPicPr/>
          <p:nvPr/>
        </p:nvPicPr>
        <p:blipFill>
          <a:blip r:embed="rId10"/>
          <a:stretch/>
        </p:blipFill>
        <p:spPr>
          <a:xfrm>
            <a:off x="3286080" y="157176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:\Documents and Settings\Aida\Рабочий стол\НОвая ГРАФИКА сборник\КАРТИНКИ СБОРНИК_ школьные\0.gif"/>
          <p:cNvPicPr/>
          <p:nvPr/>
        </p:nvPicPr>
        <p:blipFill>
          <a:blip r:embed="rId11"/>
          <a:stretch/>
        </p:blipFill>
        <p:spPr>
          <a:xfrm>
            <a:off x="4000680" y="1928880"/>
            <a:ext cx="714240" cy="714240"/>
          </a:xfrm>
          <a:prstGeom prst="rect">
            <a:avLst/>
          </a:prstGeom>
          <a:ln w="0">
            <a:noFill/>
          </a:ln>
        </p:spPr>
      </p:pic>
      <p:grpSp>
        <p:nvGrpSpPr>
          <p:cNvPr id="52" name="Прямоугольник 76"/>
          <p:cNvGrpSpPr/>
          <p:nvPr/>
        </p:nvGrpSpPr>
        <p:grpSpPr>
          <a:xfrm>
            <a:off x="-252360" y="0"/>
            <a:ext cx="8955000" cy="6669000"/>
            <a:chOff x="-252360" y="0"/>
            <a:chExt cx="8955000" cy="6669000"/>
          </a:xfrm>
        </p:grpSpPr>
        <p:pic>
          <p:nvPicPr>
            <p:cNvPr id="53" name="Прямоугольник 76" descr=""/>
            <p:cNvPicPr/>
            <p:nvPr/>
          </p:nvPicPr>
          <p:blipFill>
            <a:blip r:embed="rId12"/>
            <a:stretch/>
          </p:blipFill>
          <p:spPr>
            <a:xfrm>
              <a:off x="-252360" y="0"/>
              <a:ext cx="8955000" cy="66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-206280" y="46080"/>
              <a:ext cx="8858160" cy="65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21" descr="H:\Documents and Settings\Aida\Рабочий стол\НОвая ГРАФИКА сборник\КАРТИНКИ СБОРНИК_ школьные\Копия boworms3.gif"/>
          <p:cNvPicPr/>
          <p:nvPr/>
        </p:nvPicPr>
        <p:blipFill>
          <a:blip r:embed="rId13"/>
          <a:stretch/>
        </p:blipFill>
        <p:spPr>
          <a:xfrm flipH="1">
            <a:off x="5072040" y="2000160"/>
            <a:ext cx="1643040" cy="17366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80"/>
          <p:cNvSpPr/>
          <p:nvPr/>
        </p:nvSpPr>
        <p:spPr>
          <a:xfrm>
            <a:off x="219240" y="642924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933c"/>
                </a:solidFill>
                <a:latin typeface="Arial"/>
                <a:ea typeface="Arial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 flipV="1" rot="10800000">
            <a:off x="823680" y="486864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ФОРМУЛА  ПУТ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4"/>
          <p:cNvSpPr/>
          <p:nvPr/>
        </p:nvSpPr>
        <p:spPr>
          <a:xfrm flipV="1">
            <a:off x="179280" y="2565000"/>
            <a:ext cx="8498160" cy="7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4427640" y="21337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20"/>
          <p:cNvSpPr/>
          <p:nvPr/>
        </p:nvSpPr>
        <p:spPr>
          <a:xfrm flipH="1">
            <a:off x="3924360" y="213372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32"/>
          <p:cNvSpPr/>
          <p:nvPr/>
        </p:nvSpPr>
        <p:spPr>
          <a:xfrm flipV="1">
            <a:off x="277164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32"/>
          <p:cNvSpPr/>
          <p:nvPr/>
        </p:nvSpPr>
        <p:spPr>
          <a:xfrm flipV="1">
            <a:off x="17928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32"/>
          <p:cNvSpPr/>
          <p:nvPr/>
        </p:nvSpPr>
        <p:spPr>
          <a:xfrm flipV="1">
            <a:off x="104292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32"/>
          <p:cNvSpPr/>
          <p:nvPr/>
        </p:nvSpPr>
        <p:spPr>
          <a:xfrm flipV="1">
            <a:off x="190800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32"/>
          <p:cNvSpPr/>
          <p:nvPr/>
        </p:nvSpPr>
        <p:spPr>
          <a:xfrm flipV="1">
            <a:off x="363528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32"/>
          <p:cNvSpPr/>
          <p:nvPr/>
        </p:nvSpPr>
        <p:spPr>
          <a:xfrm flipV="1">
            <a:off x="521964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32"/>
          <p:cNvSpPr/>
          <p:nvPr/>
        </p:nvSpPr>
        <p:spPr>
          <a:xfrm flipV="1">
            <a:off x="608472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32"/>
          <p:cNvSpPr/>
          <p:nvPr/>
        </p:nvSpPr>
        <p:spPr>
          <a:xfrm flipV="1">
            <a:off x="694836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32"/>
          <p:cNvSpPr/>
          <p:nvPr/>
        </p:nvSpPr>
        <p:spPr>
          <a:xfrm flipV="1">
            <a:off x="774072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32"/>
          <p:cNvSpPr/>
          <p:nvPr/>
        </p:nvSpPr>
        <p:spPr>
          <a:xfrm flipV="1">
            <a:off x="845964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08000" y="2565360"/>
            <a:ext cx="144360" cy="14436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2565360"/>
            <a:ext cx="144720" cy="1429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8388360" y="2492280"/>
            <a:ext cx="144360" cy="1447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 flipV="1" rot="10800000">
            <a:off x="-1440" y="1593000"/>
            <a:ext cx="91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Ромашково                                  Петушки                                          Го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78136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         15        30          45       60        75       90        105       120     135     1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№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1(в, г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3716280"/>
          <a:ext cx="4464000" cy="2033640"/>
        </p:xfrm>
        <a:graphic>
          <a:graphicData uri="http://schemas.openxmlformats.org/drawingml/2006/table">
            <a:tbl>
              <a:tblPr/>
              <a:tblGrid>
                <a:gridCol w="826920"/>
                <a:gridCol w="505080"/>
                <a:gridCol w="576000"/>
                <a:gridCol w="503280"/>
                <a:gridCol w="505080"/>
                <a:gridCol w="503280"/>
                <a:gridCol w="431640"/>
                <a:gridCol w="612720"/>
              </a:tblGrid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 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 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572000" y="3716280"/>
          <a:ext cx="4392720" cy="2023920"/>
        </p:xfrm>
        <a:graphic>
          <a:graphicData uri="http://schemas.openxmlformats.org/drawingml/2006/table">
            <a:tbl>
              <a:tblPr/>
              <a:tblGrid>
                <a:gridCol w="766800"/>
                <a:gridCol w="488880"/>
                <a:gridCol w="488880"/>
                <a:gridCol w="488880"/>
                <a:gridCol w="489240"/>
                <a:gridCol w="487080"/>
                <a:gridCol w="489240"/>
                <a:gridCol w="6937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 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 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№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856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1042920" y="2565000"/>
            <a:ext cx="7850160" cy="7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31"/>
          <p:cNvSpPr/>
          <p:nvPr/>
        </p:nvSpPr>
        <p:spPr>
          <a:xfrm>
            <a:off x="1042920" y="198900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20"/>
          <p:cNvSpPr/>
          <p:nvPr/>
        </p:nvSpPr>
        <p:spPr>
          <a:xfrm>
            <a:off x="1042920" y="1989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32"/>
          <p:cNvSpPr/>
          <p:nvPr/>
        </p:nvSpPr>
        <p:spPr>
          <a:xfrm flipV="1">
            <a:off x="341964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32"/>
          <p:cNvSpPr/>
          <p:nvPr/>
        </p:nvSpPr>
        <p:spPr>
          <a:xfrm flipV="1">
            <a:off x="802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32"/>
          <p:cNvSpPr/>
          <p:nvPr/>
        </p:nvSpPr>
        <p:spPr>
          <a:xfrm flipV="1">
            <a:off x="572436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32"/>
          <p:cNvSpPr/>
          <p:nvPr/>
        </p:nvSpPr>
        <p:spPr>
          <a:xfrm flipV="1">
            <a:off x="867564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2708280"/>
            <a:ext cx="813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70828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                                14                              28                            40      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8028000" y="21337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1700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Стан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7956720" y="162864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409920"/>
            <a:ext cx="24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№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4 (а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Ира прошла 15 км за 3 часа, а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етя – 16 км за 4 часа. У кого из ребят скорость больше и на скольк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3213000"/>
          <a:ext cx="8497800" cy="2273400"/>
        </p:xfrm>
        <a:graphic>
          <a:graphicData uri="http://schemas.openxmlformats.org/drawingml/2006/table">
            <a:tbl>
              <a:tblPr/>
              <a:tblGrid>
                <a:gridCol w="2279520"/>
                <a:gridCol w="2106720"/>
                <a:gridCol w="2038320"/>
                <a:gridCol w="2073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р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ет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 flipV="1" rot="10800000">
            <a:off x="250920" y="5582880"/>
            <a:ext cx="49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3213000"/>
          <a:ext cx="8229600" cy="2016000"/>
        </p:xfrm>
        <a:graphic>
          <a:graphicData uri="http://schemas.openxmlformats.org/drawingml/2006/table">
            <a:tbl>
              <a:tblPr/>
              <a:tblGrid>
                <a:gridCol w="2057400"/>
                <a:gridCol w="2090880"/>
                <a:gridCol w="2023920"/>
                <a:gridCol w="2057400"/>
              </a:tblGrid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258920" y="115920"/>
            <a:ext cx="763416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№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4 (б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Автомобиль за 6 ч проехал 480 км. Какое расстояние мог бы проехать автомобиль за это же время, если бы увеличил скорость на 12 км/ч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0716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№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4 (в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Первый лыжник за 3 ч пробежал 51 км, а второй- за это же время на 6 км больше. На сколько км/ч скорость второго лыжника больше скорости первог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0920" y="2997360"/>
          <a:ext cx="8435880" cy="2162160"/>
        </p:xfrm>
        <a:graphic>
          <a:graphicData uri="http://schemas.openxmlformats.org/drawingml/2006/table">
            <a:tbl>
              <a:tblPr/>
              <a:tblGrid>
                <a:gridCol w="2109600"/>
                <a:gridCol w="2143080"/>
                <a:gridCol w="2075040"/>
                <a:gridCol w="2108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179280" y="548640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блицТУРНИР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с. 11 № 5 </a:t>
            </a: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Arial"/>
              </a:rPr>
              <a:t>(работа в парах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Маша прошла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м. Какова её скорость, если она затратила на путь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час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Лена шла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часов со скоростью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b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м/ч. Какое расстояние она прошла за это врем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итя пробежал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м за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мин, а Саша – за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6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мин. У кого из них скорость больше и на скольк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с. 11  №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с. 11 № 6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. 12 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№8 (Дано:)!, 10,12;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1 в учебник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99040" y="2179080"/>
            <a:ext cx="2545920" cy="2383920"/>
          </a:xfrm>
          <a:prstGeom prst="rect">
            <a:avLst/>
          </a:prstGeom>
          <a:gradFill rotWithShape="0">
            <a:gsLst>
              <a:gs pos="0">
                <a:srgbClr val="c6c600">
                  <a:alpha val="77254"/>
                </a:srgbClr>
              </a:gs>
              <a:gs pos="100000">
                <a:srgbClr val="ffff00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Calibri"/>
              </a:rPr>
              <a:t>СПАСИБО ЗА УРОК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Полянцева Наталия Аркад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2011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10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213" dur="10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14" dur="10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16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ФОРМУЛА  ПУ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КОРОСТЬ  -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РЕМЯ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АССТОЯНИЕ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CC40-4CD8-4A37-8AFD-2ED32832CE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D3C3-5053-428C-929B-C984543C0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Составь и реши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Текст 2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105440" cy="4105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1700280"/>
            <a:ext cx="360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 = 560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к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 = 7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v=?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Км/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5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Calibri"/>
              </a:rPr>
              <a:t>80 км/ч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Calibri"/>
              </a:rPr>
              <a:t>Ты молодец</a:t>
            </a:r>
            <a:r>
              <a:rPr b="0" lang="en-US" sz="5400" spc="-1" strike="noStrike">
                <a:solidFill>
                  <a:srgbClr val="ff3300"/>
                </a:solidFill>
                <a:latin typeface="Calibri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59280" y="2349360"/>
            <a:ext cx="4105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5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00"/>
                            </p:stCondLst>
                            <p:childTnLst>
                              <p:par>
                                <p:cTn id="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Составь и реши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Текст 2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5545080" cy="2808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48360" y="1700280"/>
            <a:ext cx="3995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v = 900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м/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 =2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 = ?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к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Текст 2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345440" cy="360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V="1" rot="10800000">
            <a:off x="1833480" y="4145760"/>
            <a:ext cx="6338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1800 км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Ты молодец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0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Составь и реши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Текст 2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5256360" cy="4443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2697120"/>
            <a:ext cx="316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 = 720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v = 8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м/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 =?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Текст 2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6281640" cy="4083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 rot="10800000">
            <a:off x="1041120" y="4652280"/>
            <a:ext cx="7923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90 сек   или 1,5 мин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Ты молодец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70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№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1(а, б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4"/>
          <p:cNvSpPr/>
          <p:nvPr/>
        </p:nvSpPr>
        <p:spPr>
          <a:xfrm flipV="1">
            <a:off x="179280" y="2565000"/>
            <a:ext cx="8498160" cy="7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1"/>
          <p:cNvSpPr/>
          <p:nvPr/>
        </p:nvSpPr>
        <p:spPr>
          <a:xfrm>
            <a:off x="4427640" y="21337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0"/>
          <p:cNvSpPr/>
          <p:nvPr/>
        </p:nvSpPr>
        <p:spPr>
          <a:xfrm flipH="1">
            <a:off x="3924360" y="213372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32"/>
          <p:cNvSpPr/>
          <p:nvPr/>
        </p:nvSpPr>
        <p:spPr>
          <a:xfrm flipV="1">
            <a:off x="277164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32"/>
          <p:cNvSpPr/>
          <p:nvPr/>
        </p:nvSpPr>
        <p:spPr>
          <a:xfrm flipV="1">
            <a:off x="17928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32"/>
          <p:cNvSpPr/>
          <p:nvPr/>
        </p:nvSpPr>
        <p:spPr>
          <a:xfrm flipV="1">
            <a:off x="104292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32"/>
          <p:cNvSpPr/>
          <p:nvPr/>
        </p:nvSpPr>
        <p:spPr>
          <a:xfrm flipV="1">
            <a:off x="190800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32"/>
          <p:cNvSpPr/>
          <p:nvPr/>
        </p:nvSpPr>
        <p:spPr>
          <a:xfrm flipV="1">
            <a:off x="363528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32"/>
          <p:cNvSpPr/>
          <p:nvPr/>
        </p:nvSpPr>
        <p:spPr>
          <a:xfrm flipV="1">
            <a:off x="521964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32"/>
          <p:cNvSpPr/>
          <p:nvPr/>
        </p:nvSpPr>
        <p:spPr>
          <a:xfrm flipV="1">
            <a:off x="608472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32"/>
          <p:cNvSpPr/>
          <p:nvPr/>
        </p:nvSpPr>
        <p:spPr>
          <a:xfrm flipV="1">
            <a:off x="694836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32"/>
          <p:cNvSpPr/>
          <p:nvPr/>
        </p:nvSpPr>
        <p:spPr>
          <a:xfrm flipV="1">
            <a:off x="774072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32"/>
          <p:cNvSpPr/>
          <p:nvPr/>
        </p:nvSpPr>
        <p:spPr>
          <a:xfrm flipV="1">
            <a:off x="8459640" y="23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70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0         15          30          45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   60        75          90        105       120        135      150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2565360"/>
            <a:ext cx="144360" cy="14436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4356000" y="2565360"/>
            <a:ext cx="144720" cy="1429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8388360" y="2492280"/>
            <a:ext cx="144360" cy="1447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-181080" y="3068640"/>
            <a:ext cx="93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Ромашково                                     Петушки                                          Го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3933720"/>
          <a:ext cx="8568720" cy="2184480"/>
        </p:xfrm>
        <a:graphic>
          <a:graphicData uri="http://schemas.openxmlformats.org/drawingml/2006/table">
            <a:tbl>
              <a:tblPr/>
              <a:tblGrid>
                <a:gridCol w="1070640"/>
                <a:gridCol w="1072080"/>
                <a:gridCol w="1070640"/>
                <a:gridCol w="1070640"/>
                <a:gridCol w="1071000"/>
                <a:gridCol w="1072440"/>
                <a:gridCol w="1070640"/>
                <a:gridCol w="10706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 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 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6:06:07Z</dcterms:created>
  <dc:creator>333</dc:creator>
  <dc:description>http://aida.ucoz.ru</dc:description>
  <dc:language>en-US</dc:language>
  <cp:lastModifiedBy>333</cp:lastModifiedBy>
  <dcterms:modified xsi:type="dcterms:W3CDTF">2011-03-22T08:43:41Z</dcterms:modified>
  <cp:revision>3</cp:revision>
  <dc:subject/>
  <dc:title>Слайд 1</dc:title>
</cp:coreProperties>
</file>