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2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31C-0C39-4737-B2A9-B475D710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D51-02D1-4688-A338-16F6873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FC1-9B33-4006-BED2-F311F918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0C6-197C-4C6B-B170-8E095107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983-2797-45A0-82DF-6509214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409-1D94-401B-86AB-B087A088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810-575F-4EB0-93A0-4FE776E2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55D-B9C5-46F3-BF5E-720AD27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E4A-4D6A-463D-AF6C-A2A2488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766-1944-480D-8DFF-8EF15A67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7A7-CEDD-4EDD-9910-80C9BB10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EAE-5AB1-4930-8F1A-B5145F8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B524-E89A-40DA-8A5E-98A56F1983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22B0-AAF8-47DF-95A1-E0DE47040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png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5" descr=""/>
          <p:cNvPicPr/>
          <p:nvPr/>
        </p:nvPicPr>
        <p:blipFill>
          <a:blip r:embed="rId2"/>
          <a:stretch/>
        </p:blipFill>
        <p:spPr>
          <a:xfrm>
            <a:off x="506520" y="781200"/>
            <a:ext cx="7802280" cy="4492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3"/>
          <a:stretch/>
        </p:blipFill>
        <p:spPr>
          <a:xfrm>
            <a:off x="3357720" y="2500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4"/>
          <a:stretch/>
        </p:blipFill>
        <p:spPr>
          <a:xfrm>
            <a:off x="2714760" y="21430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5"/>
          <a:stretch/>
        </p:blipFill>
        <p:spPr>
          <a:xfrm>
            <a:off x="2071800" y="27860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6"/>
          <a:stretch/>
        </p:blipFill>
        <p:spPr>
          <a:xfrm>
            <a:off x="4143240" y="114300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7"/>
          <a:stretch/>
        </p:blipFill>
        <p:spPr>
          <a:xfrm>
            <a:off x="1357200" y="192888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8"/>
          <a:stretch/>
        </p:blipFill>
        <p:spPr>
          <a:xfrm>
            <a:off x="3357720" y="857160"/>
            <a:ext cx="680760" cy="68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9"/>
          <a:stretch/>
        </p:blipFill>
        <p:spPr>
          <a:xfrm>
            <a:off x="2286000" y="142884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10"/>
          <a:stretch/>
        </p:blipFill>
        <p:spPr>
          <a:xfrm>
            <a:off x="3286080" y="157176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11"/>
          <a:stretch/>
        </p:blipFill>
        <p:spPr>
          <a:xfrm>
            <a:off x="4000680" y="1928880"/>
            <a:ext cx="714240" cy="714240"/>
          </a:xfrm>
          <a:prstGeom prst="rect">
            <a:avLst/>
          </a:prstGeom>
          <a:ln w="0">
            <a:noFill/>
          </a:ln>
        </p:spPr>
      </p:pic>
      <p:grpSp>
        <p:nvGrpSpPr>
          <p:cNvPr id="52" name="Прямоугольник 76"/>
          <p:cNvGrpSpPr/>
          <p:nvPr/>
        </p:nvGrpSpPr>
        <p:grpSpPr>
          <a:xfrm>
            <a:off x="96840" y="96840"/>
            <a:ext cx="8955000" cy="6669000"/>
            <a:chOff x="96840" y="96840"/>
            <a:chExt cx="8955000" cy="6669000"/>
          </a:xfrm>
        </p:grpSpPr>
        <p:pic>
          <p:nvPicPr>
            <p:cNvPr id="53" name="Прямоугольник 76" descr=""/>
            <p:cNvPicPr/>
            <p:nvPr/>
          </p:nvPicPr>
          <p:blipFill>
            <a:blip r:embed="rId12"/>
            <a:stretch/>
          </p:blipFill>
          <p:spPr>
            <a:xfrm>
              <a:off x="96840" y="96840"/>
              <a:ext cx="895500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2920" y="142920"/>
              <a:ext cx="885816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21" descr="H:\Documents and Settings\Aida\Рабочий стол\НОвая ГРАФИКА сборник\КАРТИНКИ СБОРНИК_ школьные\Копия boworms3.gif"/>
          <p:cNvPicPr/>
          <p:nvPr/>
        </p:nvPicPr>
        <p:blipFill>
          <a:blip r:embed="rId13"/>
          <a:stretch/>
        </p:blipFill>
        <p:spPr>
          <a:xfrm flipH="1">
            <a:off x="5072040" y="2000160"/>
            <a:ext cx="1643040" cy="1736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0"/>
          <p:cNvSpPr/>
          <p:nvPr/>
        </p:nvSpPr>
        <p:spPr>
          <a:xfrm>
            <a:off x="219240" y="642924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V="1" rot="10740000">
            <a:off x="1563480" y="495252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ФОРМУЛА  ПУ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Какое расстояние прошёл автомобиль со скоростью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60 км/ч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за: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 =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3429000"/>
          <a:ext cx="9144000" cy="3024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2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Line 4"/>
          <p:cNvSpPr/>
          <p:nvPr/>
        </p:nvSpPr>
        <p:spPr>
          <a:xfrm flipV="1">
            <a:off x="1042920" y="2565000"/>
            <a:ext cx="756144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1042920" y="198900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1042920" y="1989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32"/>
          <p:cNvSpPr/>
          <p:nvPr/>
        </p:nvSpPr>
        <p:spPr>
          <a:xfrm flipV="1">
            <a:off x="219564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32"/>
          <p:cNvSpPr/>
          <p:nvPr/>
        </p:nvSpPr>
        <p:spPr>
          <a:xfrm flipV="1">
            <a:off x="341964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32"/>
          <p:cNvSpPr/>
          <p:nvPr/>
        </p:nvSpPr>
        <p:spPr>
          <a:xfrm flipV="1">
            <a:off x="802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32"/>
          <p:cNvSpPr/>
          <p:nvPr/>
        </p:nvSpPr>
        <p:spPr>
          <a:xfrm flipV="1">
            <a:off x="572436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687708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7" descr="4"/>
          <p:cNvPicPr/>
          <p:nvPr/>
        </p:nvPicPr>
        <p:blipFill>
          <a:blip r:embed="rId2"/>
          <a:stretch/>
        </p:blipFill>
        <p:spPr>
          <a:xfrm>
            <a:off x="0" y="2637000"/>
            <a:ext cx="10796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0347 L 0.20885 -0.00347 E">
                                      <p:cBhvr>
                                        <p:cTn id="8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300"/>
                            </p:stCondLst>
                            <p:childTnLst>
                              <p:par>
                                <p:cTn id="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347 L 0.37413 -0.00347 E">
                                      <p:cBhvr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3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413 -0.00347 L 0.56319 -0.00347 E">
                                      <p:cBhvr>
                                        <p:cTn id="86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3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19 -0.00347 L 0.75208 -0.00347 E">
                                      <p:cBhvr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 какой скоростью надо ехать автомобилю, чтобы пройти весь путь за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2 ч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? За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3 ч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4"/>
          <p:cNvSpPr/>
          <p:nvPr/>
        </p:nvSpPr>
        <p:spPr>
          <a:xfrm flipV="1">
            <a:off x="1042920" y="2565000"/>
            <a:ext cx="756144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1042920" y="198900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1042920" y="1989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2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32"/>
          <p:cNvSpPr/>
          <p:nvPr/>
        </p:nvSpPr>
        <p:spPr>
          <a:xfrm flipV="1">
            <a:off x="8244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4"/>
          <p:cNvSpPr/>
          <p:nvPr/>
        </p:nvSpPr>
        <p:spPr>
          <a:xfrm flipV="1">
            <a:off x="1042920" y="4941360"/>
            <a:ext cx="756144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104292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042920" y="4365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32"/>
          <p:cNvSpPr/>
          <p:nvPr/>
        </p:nvSpPr>
        <p:spPr>
          <a:xfrm flipV="1">
            <a:off x="3348000" y="45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32"/>
          <p:cNvSpPr/>
          <p:nvPr/>
        </p:nvSpPr>
        <p:spPr>
          <a:xfrm flipV="1">
            <a:off x="5651640" y="45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32"/>
          <p:cNvSpPr/>
          <p:nvPr/>
        </p:nvSpPr>
        <p:spPr>
          <a:xfrm flipV="1">
            <a:off x="8172360" y="45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2637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2781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5157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5229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7740720" y="5157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3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7" descr="4"/>
          <p:cNvPicPr/>
          <p:nvPr/>
        </p:nvPicPr>
        <p:blipFill>
          <a:blip r:embed="rId2"/>
          <a:stretch/>
        </p:blipFill>
        <p:spPr>
          <a:xfrm>
            <a:off x="1042920" y="3141720"/>
            <a:ext cx="1081080" cy="62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7" descr="4"/>
          <p:cNvPicPr/>
          <p:nvPr/>
        </p:nvPicPr>
        <p:blipFill>
          <a:blip r:embed="rId3"/>
          <a:stretch/>
        </p:blipFill>
        <p:spPr>
          <a:xfrm>
            <a:off x="1187280" y="5445000"/>
            <a:ext cx="10796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65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0347 L 0.20885 -0.00347 E">
                                      <p:cBhvr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65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347 L 0.37413 -0.00347 E">
                                      <p:cBhvr>
                                        <p:cTn id="10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65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413 -0.00347 L 0.56319 -0.00347 E">
                                      <p:cBhvr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5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19 -0.00347 L 0.75208 -0.00347 E">
                                      <p:cBhvr>
                                        <p:cTn id="11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65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0347 L 0.20885 -0.00347 E">
                                      <p:cBhvr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650"/>
                            </p:stCondLst>
                            <p:childTnLst>
                              <p:par>
                                <p:cTn id="1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347 L 0.37413 -0.00347 E">
                                      <p:cBhvr>
                                        <p:cTn id="11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65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413 -0.00347 L 0.56319 -0.00347 E">
                                      <p:cBhvr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65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19 -0.00347 L 0.75208 -0.00347 E">
                                      <p:cBhvr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v =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600200"/>
          <a:ext cx="8713800" cy="4525920"/>
        </p:xfrm>
        <a:graphic>
          <a:graphicData uri="http://schemas.openxmlformats.org/drawingml/2006/table">
            <a:tbl>
              <a:tblPr/>
              <a:tblGrid>
                <a:gridCol w="1111320"/>
                <a:gridCol w="1112760"/>
                <a:gridCol w="1111320"/>
                <a:gridCol w="1110960"/>
                <a:gridCol w="1111320"/>
                <a:gridCol w="1112760"/>
                <a:gridCol w="1111320"/>
                <a:gridCol w="9320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м/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бота в парах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240"/>
                <a:gridCol w="1371600"/>
                <a:gridCol w="1371240"/>
                <a:gridCol w="137196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 </a:t>
                      </a: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м/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 </a:t>
                      </a: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бота в парах №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240"/>
                <a:gridCol w="1371600"/>
                <a:gridCol w="1371240"/>
                <a:gridCol w="137196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 </a:t>
                      </a: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м/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(а)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По данным таблицы составь задачи и реши 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502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0 </a:t>
                      </a:r>
                      <a:r>
                        <a:rPr b="1" i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 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 м/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 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5 д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 д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0 </a:t>
                      </a:r>
                      <a:r>
                        <a:rPr b="1" i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 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 м/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 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5 д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 д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 с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(б)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По данным таблицы составь задачи и реши 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4502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8 м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м/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40 д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 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4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8 м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м/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 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40 д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 д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 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6 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4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амостоятельная рабо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. 8  №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. 8 № 9 (а, 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оедини формулы с их  назв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a =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b * c + r?  r&lt;b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лощадь прямоуголь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 = a * 2 + b * 2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еление с остат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 = a * b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иметр прямоуголь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 = (a + b) * 2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лощадь квад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V = a * b * c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ула пу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 = v * t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бъём прямоугольного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араллелепип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. 8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№7, 8, 9 (б, г),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53960" y="2306520"/>
            <a:ext cx="2546280" cy="2317320"/>
          </a:xfrm>
          <a:prstGeom prst="rect">
            <a:avLst/>
          </a:prstGeom>
          <a:gradFill rotWithShape="0">
            <a:gsLst>
              <a:gs pos="0">
                <a:srgbClr val="c6c600">
                  <a:alpha val="77254"/>
                </a:srgbClr>
              </a:gs>
              <a:gs pos="100000">
                <a:srgbClr val="ffff00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ПАСИБО ЗА УРОК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лянцева Наталия Аркад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06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7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ФОРМУЛА  ПУ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CBB5-7180-4181-9A9E-067E8C263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4E3-3573-4A0B-B5D3-AA1BF65BA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62864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42560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КОРОСТЬ 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РЕМЯ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СТОЯНИЕ -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alibri"/>
              </a:rPr>
              <a:t>Решение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Calibri"/>
              </a:rPr>
              <a:t>задач 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Calibri"/>
              </a:rPr>
              <a:t>на движ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v=800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м/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=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=?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к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680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v=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5км/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=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5 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=?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к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4726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2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к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=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9 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v=?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Км/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 =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0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к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v=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0 км/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=?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24360" y="1628640"/>
            <a:ext cx="4970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 =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0 к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v=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15 км/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=?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4897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6:13:06Z</dcterms:created>
  <dc:creator>333</dc:creator>
  <dc:description>http://aida.ucoz.ru</dc:description>
  <dc:language>en-US</dc:language>
  <cp:lastModifiedBy>333</cp:lastModifiedBy>
  <dcterms:modified xsi:type="dcterms:W3CDTF">2011-03-21T08:34:07Z</dcterms:modified>
  <cp:revision>4</cp:revision>
  <dc:subject/>
  <dc:title>Слайд 1</dc:title>
</cp:coreProperties>
</file>