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4FE-2BC8-46DE-9C04-87485DC6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8F3-EA95-44E7-ABA0-07036984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915-3564-481D-8053-0F3281B0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9A6-4EB9-40AB-9012-90FECFF4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29CD-58DD-4889-8D4C-FF9B7B2C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40DE7-362D-4CDD-9DB9-DCDC5EC9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295A8-76E7-40C5-B912-06FFBF11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DE065-8CAD-4C9D-BD3F-D247751A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E1DB0-E9EC-43A3-8012-DA0923DB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4D6B4-4B34-47D1-A849-441530CB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8AAFB-0353-4F45-B5F8-18159F08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B1D-4A66-4ADE-BB45-AF2AD811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8F209-F063-4123-89CF-EB57BE58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8D0BB-69D5-44AE-B869-C5CADD59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773AC-B3B3-4D14-AA7A-E3B84D33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17B1B-5847-4BCE-8393-C61954C6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8C397-CFF1-4E52-ADB8-598367D2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A12-49A4-45A7-B8EC-5B155323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E71-AE1C-47D2-9BF7-FCA99B0B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32D-A447-4130-97E1-3D47A9ED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1D2-7AFD-4BC6-B93E-F667548B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4B0-6FD2-46B0-8604-C69F7B7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F39-B3B5-461B-BC9B-FEEC952B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6FA-F315-41AC-B5E4-176EE54A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5DC9-0025-496A-AF66-08C20F4469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48A6-9072-4F84-97BF-4D3B07A52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907920"/>
            <a:ext cx="784872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УДИВИТЕЛЬ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16000" y="3860640"/>
            <a:ext cx="698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ОЯ  Хакасия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615960"/>
            <a:ext cx="7619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615960"/>
            <a:ext cx="7619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615960"/>
            <a:ext cx="7619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615960"/>
            <a:ext cx="7619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 дороге в Абаз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54120" y="1268280"/>
            <a:ext cx="6033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69960" y="228600"/>
            <a:ext cx="78026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сточный Сая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54120" y="1268280"/>
            <a:ext cx="6033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69960" y="228600"/>
            <a:ext cx="78026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76360" y="0"/>
            <a:ext cx="500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 Л А Г   Х А К А С И 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69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 Е Р Б   Х А К А С И 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608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аяно – Шушенская ГЭ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дохранилищ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вановские озё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76480" y="1268280"/>
            <a:ext cx="67896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615960"/>
            <a:ext cx="7619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615960"/>
            <a:ext cx="7619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15:45:12Z</dcterms:created>
  <dc:creator>Пользователь</dc:creator>
  <dc:description/>
  <dc:language>en-US</dc:language>
  <cp:lastModifiedBy>Пользователь</cp:lastModifiedBy>
  <dcterms:modified xsi:type="dcterms:W3CDTF">2010-08-01T15:52:41Z</dcterms:modified>
  <cp:revision>2</cp:revision>
  <dc:subject/>
  <dc:title> </dc:title>
</cp:coreProperties>
</file>