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E80-FD49-4A6A-A546-A05EDE83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2B2-C2CE-4397-918F-E9987E08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2EE-B9F5-4CEE-B6B5-88706366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287-4FE5-40B5-9472-631852FC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314-9608-44AD-9C96-51987A54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77A-9FE5-4C8E-A091-E53172E8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228-58B3-4343-8836-5A47FA14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4AC-1333-491E-8E36-881CABBA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5FA-D2C1-4ED8-875E-FE0D427B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C5A-99FC-482A-8BC9-D37703CF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5F3-28A8-4535-BA21-CE577C0F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7AC-4519-4826-82F9-13D939B0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937D-8648-44B7-B90D-5B6B02783F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61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ОУ Ильинская СО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61840"/>
            <a:ext cx="64008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резентация по теме : «Кодирование и обработка числовой информаци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Коптева Е. С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: Абрамкина С. 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.01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Домодед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image010.jpg"/>
          <p:cNvPicPr/>
          <p:nvPr/>
        </p:nvPicPr>
        <p:blipFill>
          <a:blip r:embed="rId1"/>
          <a:stretch/>
        </p:blipFill>
        <p:spPr>
          <a:xfrm>
            <a:off x="1790640" y="933480"/>
            <a:ext cx="5419800" cy="4448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819520" y="371520"/>
            <a:ext cx="35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мская система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0880" y="1743120"/>
          <a:ext cx="8305920" cy="25048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 1, 2, 3, 4, 5, 6, 7, 8, 9, А, В, С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TextBox 4"/>
          <p:cNvSpPr/>
          <p:nvPr/>
        </p:nvSpPr>
        <p:spPr>
          <a:xfrm>
            <a:off x="2314440" y="447840"/>
            <a:ext cx="42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онные таблицы (столбцы, строки, ячей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514520"/>
          <a:ext cx="8229600" cy="2225520"/>
        </p:xfrm>
        <a:graphic>
          <a:graphicData uri="http://schemas.openxmlformats.org/drawingml/2006/table">
            <a:tbl>
              <a:tblPr/>
              <a:tblGrid>
                <a:gridCol w="409680"/>
                <a:gridCol w="1657080"/>
                <a:gridCol w="1781280"/>
                <a:gridCol w="1638360"/>
                <a:gridCol w="1371600"/>
                <a:gridCol w="137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ые ссыл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1482840"/>
        </p:xfrm>
        <a:graphic>
          <a:graphicData uri="http://schemas.openxmlformats.org/drawingml/2006/table">
            <a:tbl>
              <a:tblPr/>
              <a:tblGrid>
                <a:gridCol w="419040"/>
                <a:gridCol w="1533600"/>
                <a:gridCol w="1828800"/>
                <a:gridCol w="1704960"/>
                <a:gridCol w="1371600"/>
                <a:gridCol w="137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A1*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B2*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3*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бсолютные ссыл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457280"/>
          <a:ext cx="8229600" cy="1957320"/>
        </p:xfrm>
        <a:graphic>
          <a:graphicData uri="http://schemas.openxmlformats.org/drawingml/2006/table">
            <a:tbl>
              <a:tblPr/>
              <a:tblGrid>
                <a:gridCol w="399960"/>
                <a:gridCol w="1876680"/>
                <a:gridCol w="1704960"/>
                <a:gridCol w="1419120"/>
                <a:gridCol w="1380960"/>
                <a:gridCol w="1447920"/>
              </a:tblGrid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$A$1*$B$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$A$1*$B$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$A$1*$B$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ешанные ссыл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1482840"/>
        </p:xfrm>
        <a:graphic>
          <a:graphicData uri="http://schemas.openxmlformats.org/drawingml/2006/table">
            <a:tbl>
              <a:tblPr/>
              <a:tblGrid>
                <a:gridCol w="533520"/>
                <a:gridCol w="1676160"/>
                <a:gridCol w="1657440"/>
                <a:gridCol w="1619280"/>
                <a:gridCol w="1371600"/>
                <a:gridCol w="137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A$1*$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B$1*$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C$1*$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ы диагра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14360"/>
          <a:ext cx="8229600" cy="4410000"/>
        </p:xfrm>
        <a:graphic>
          <a:graphicData uri="http://schemas.openxmlformats.org/drawingml/2006/table">
            <a:tbl>
              <a:tblPr/>
              <a:tblGrid>
                <a:gridCol w="1609560"/>
                <a:gridCol w="387684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диагра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шний вид диа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ейча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г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ф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7" name="Диаграмма 4" descr=""/>
          <p:cNvPicPr/>
          <p:nvPr/>
        </p:nvPicPr>
        <p:blipFill>
          <a:blip r:embed="rId1"/>
          <a:stretch/>
        </p:blipFill>
        <p:spPr>
          <a:xfrm>
            <a:off x="2543040" y="1771560"/>
            <a:ext cx="2733840" cy="2419560"/>
          </a:xfrm>
          <a:prstGeom prst="rect">
            <a:avLst/>
          </a:prstGeom>
          <a:ln w="0">
            <a:noFill/>
          </a:ln>
        </p:spPr>
      </p:pic>
      <p:pic>
        <p:nvPicPr>
          <p:cNvPr id="58" name="Диаграмма 6" descr=""/>
          <p:cNvPicPr/>
          <p:nvPr/>
        </p:nvPicPr>
        <p:blipFill>
          <a:blip r:embed="rId2"/>
          <a:stretch/>
        </p:blipFill>
        <p:spPr>
          <a:xfrm>
            <a:off x="5553000" y="1666800"/>
            <a:ext cx="3171960" cy="1571760"/>
          </a:xfrm>
          <a:prstGeom prst="rect">
            <a:avLst/>
          </a:prstGeom>
          <a:ln w="0">
            <a:noFill/>
          </a:ln>
        </p:spPr>
      </p:pic>
      <p:pic>
        <p:nvPicPr>
          <p:cNvPr id="59" name="Диаграмма 7" descr=""/>
          <p:cNvPicPr/>
          <p:nvPr/>
        </p:nvPicPr>
        <p:blipFill>
          <a:blip r:embed="rId3"/>
          <a:stretch/>
        </p:blipFill>
        <p:spPr>
          <a:xfrm>
            <a:off x="2486160" y="3324240"/>
            <a:ext cx="253368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3162240" y="4362480"/>
            <a:ext cx="109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лоск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Диаграмма 9" descr=""/>
          <p:cNvPicPr/>
          <p:nvPr/>
        </p:nvPicPr>
        <p:blipFill>
          <a:blip r:embed="rId4"/>
          <a:stretch/>
        </p:blipFill>
        <p:spPr>
          <a:xfrm>
            <a:off x="6181560" y="3105000"/>
            <a:ext cx="2105280" cy="1460520"/>
          </a:xfrm>
          <a:prstGeom prst="rect">
            <a:avLst/>
          </a:prstGeom>
          <a:ln w="0">
            <a:noFill/>
          </a:ln>
        </p:spPr>
      </p:pic>
      <p:pic>
        <p:nvPicPr>
          <p:cNvPr id="62" name="Диаграмма 10" descr=""/>
          <p:cNvPicPr/>
          <p:nvPr/>
        </p:nvPicPr>
        <p:blipFill>
          <a:blip r:embed="rId5"/>
          <a:stretch/>
        </p:blipFill>
        <p:spPr>
          <a:xfrm>
            <a:off x="1886040" y="4286160"/>
            <a:ext cx="3809880" cy="1505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1"/>
          <p:cNvSpPr/>
          <p:nvPr/>
        </p:nvSpPr>
        <p:spPr>
          <a:xfrm>
            <a:off x="3265200" y="5486400"/>
            <a:ext cx="104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марке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Диаграмма 12" descr=""/>
          <p:cNvPicPr/>
          <p:nvPr/>
        </p:nvPicPr>
        <p:blipFill>
          <a:blip r:embed="rId6"/>
          <a:stretch/>
        </p:blipFill>
        <p:spPr>
          <a:xfrm>
            <a:off x="5829480" y="4467240"/>
            <a:ext cx="28857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r.eash</dc:creator>
  <dc:description/>
  <dc:language>en-US</dc:language>
  <cp:lastModifiedBy>Митрофова</cp:lastModifiedBy>
  <dcterms:modified xsi:type="dcterms:W3CDTF">2012-02-16T17:06:22Z</dcterms:modified>
  <cp:revision>155</cp:revision>
  <dc:subject/>
  <dc:title>Slide 1</dc:title>
</cp:coreProperties>
</file>