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73C-6896-4AA0-AC2A-EDA256B2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745-203F-4316-BAD7-4D780129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A0C-C481-46AF-8329-66A4C438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CAE-44F2-454C-A3B2-9D73AB37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65F2-5F43-4374-8F0B-8CCC85E8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A22C-F208-4594-97B6-BDECDC40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9EB5-5753-47AF-B1B2-9959D26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0CA6-B0ED-4C71-8449-802EAF26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AAE7-6342-49E7-A968-C6FF822F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A428-B4CA-4953-A53F-2FDCC308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17A-4499-49BF-9222-2A121FE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7E0-7DC2-4B27-9D6F-5C5A247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BEFF-97E2-4324-BA42-E69A14B5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07DB-9096-4021-9B3A-EF9BB68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19C-A07B-450C-8E5D-07729687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18F-28D5-45BC-A871-8A83C819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5461-1BB8-4889-A077-95CD1BDE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5D3-E6DD-4DEE-AA03-977E7C72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9DD-F57D-4256-99D3-1E90D2AC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590-8438-4FB2-ACB0-74F7ADB1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78C-0E50-4A3B-9755-77AD9397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750-BEBA-4148-B6DB-99C343E7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ED4-F3F6-4E06-9711-AFFA276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E6F-DBE5-401C-9FF5-75DF083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80F1-7741-4F17-AAA6-78EFA7EB94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C4B4-F847-4FAA-9AC1-77493E6CA7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00"/>
                </a:solidFill>
                <a:latin typeface="Times New Roman"/>
              </a:rPr>
              <a:t>Кулачные бои на Руси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17600" y="1698480"/>
            <a:ext cx="5329440" cy="42627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ачный бой в 16 веке был распространенным развлечением. Он воспринимался как испытание силы и удали русских богаты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878280" cy="341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Потешить царя-батюшку» выходили к Москве-реке без личной ненависти и желания смерти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7040" y="1698480"/>
            <a:ext cx="3598920" cy="3868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ачный бой мог быть превращен в судный поед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14172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дебник 1550 г. устанавливал четкие правила проведения такого боя, который являлся последним средством выяснения истины. В судном поединке побеждает не сила, а правда, нравственный перевес одного из противников, которому бог дарует победу, как доказательство высшей справедл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75120" y="1712880"/>
            <a:ext cx="3811680" cy="43052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8:38:09Z</dcterms:created>
  <dc:creator>Николай</dc:creator>
  <dc:description/>
  <dc:language>en-US</dc:language>
  <cp:lastModifiedBy>Николай</cp:lastModifiedBy>
  <dcterms:modified xsi:type="dcterms:W3CDTF">2009-12-23T19:12:06Z</dcterms:modified>
  <cp:revision>5</cp:revision>
  <dc:subject/>
  <dc:title>Слайд 1</dc:title>
</cp:coreProperties>
</file>