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53C0-69C8-49B9-B23A-CE6966B246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ссмотрим внутреннее строение лишай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F8DA-4843-47BA-87FB-DED032DF3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22B5-E1F7-4455-B402-AADCE148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6CE4-55FF-4DD5-A442-AFDCA7261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7124-C788-42E2-922A-7AB4A1740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EC40-B4EF-4091-A492-99051D044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EDEE-0988-4037-8E43-0A19BCBD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75B8-4C19-4E81-8712-AB0EF79B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AE91-DA37-4C68-8199-1FA56EB4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A63D-ED6D-454F-9519-434A6D44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8E5D-190B-4283-BA12-FCD2468C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9FF7-695C-40F0-95B0-914C95AA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9E00-5D48-4E1D-AB5F-F1EED5E6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93F7-E6FE-4028-A365-07C26D86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BF9B-135C-444A-88AE-2E931604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75B8-CC9A-465A-8DBC-63980734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10A1-85C6-4A94-8BFE-5B7C6861A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882A-FB76-4147-9726-1D7BFFFB8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F3CC-F135-46BA-B45A-F31EB2AB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570E-3B55-4C95-B99C-551EBD72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C058-F186-47FB-AD8E-7A92EC7E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4B96-7234-425D-B06A-00E47AE9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8173-B066-4047-B7E6-5949842A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B997-2C23-4275-9AE4-9F50AA00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F39D-D932-4F34-BD6D-A0C02F3E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3C0D-7603-4548-AEF0-BA690A614EF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8C1F-D83B-46D1-A0A6-66BFB1E0854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0.xml"/><Relationship Id="rId3" Type="http://schemas.openxmlformats.org/officeDocument/2006/relationships/hyperlink" Target="file:///&#1073;&#1080;&#1086;&#1083;&#1086;&#1075;&#1080;&#1103;%20-%20&#1091;&#1088;&#1086;&#1082;&#1080;/&#1082;&#1088;&#1072;&#1089;&#1085;&#1072;&#1103;_&#1082;&#1085;&#1080;&#1075;&#1072;_&#1095;&#1077;&#1083;&#1103;&#1073;&#1080;&#1085;&#1089;&#1082;/page1034.html" TargetMode="External"/><Relationship Id="rId4" Type="http://schemas.openxmlformats.org/officeDocument/2006/relationships/image" Target="../media/image9.png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1073;&#1080;&#1086;&#1083;&#1086;&#1075;&#1080;&#1103;%20-%20&#1091;&#1088;&#1086;&#1082;&#1080;/&#1082;&#1088;&#1072;&#1089;&#1085;&#1072;&#1103;_&#1082;&#1085;&#1080;&#1075;&#1072;_&#1095;&#1077;&#1083;&#1103;&#1073;&#1080;&#1085;&#1089;&#1082;/page1005.html" TargetMode="External"/><Relationship Id="rId2" Type="http://schemas.openxmlformats.org/officeDocument/2006/relationships/image" Target="../media/image10.png"/><Relationship Id="rId3" Type="http://schemas.openxmlformats.org/officeDocument/2006/relationships/slide" Target="slide9.xml"/><Relationship Id="rId4" Type="http://schemas.openxmlformats.org/officeDocument/2006/relationships/hyperlink" Target="file:///&#1073;&#1080;&#1086;&#1083;&#1086;&#1075;&#1080;&#1103;%20-%20&#1091;&#1088;&#1086;&#1082;&#1080;/&#1082;&#1088;&#1072;&#1089;&#1085;&#1072;&#1103;_&#1082;&#1085;&#1080;&#1075;&#1072;_&#1095;&#1077;&#1083;&#1103;&#1073;&#1080;&#1085;&#1089;&#1082;/page1017.html" TargetMode="External"/><Relationship Id="rId5" Type="http://schemas.openxmlformats.org/officeDocument/2006/relationships/image" Target="../media/image11.png"/><Relationship Id="rId6" Type="http://schemas.openxmlformats.org/officeDocument/2006/relationships/slide" Target="slide11.xm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2.jpeg"/><Relationship Id="rId3" Type="http://schemas.openxmlformats.org/officeDocument/2006/relationships/hyperlink" Target="file:///&#1073;&#1080;&#1086;&#1083;&#1086;&#1075;&#1080;&#1103;%20-%20&#1091;&#1088;&#1086;&#1082;&#1080;/&#1082;&#1088;&#1072;&#1089;&#1085;&#1072;&#1103;_&#1082;&#1085;&#1080;&#1075;&#1072;_&#1095;&#1077;&#1083;&#1103;&#1073;&#1080;&#1085;&#1089;&#1082;/page1011.html" TargetMode="External"/><Relationship Id="rId4" Type="http://schemas.openxmlformats.org/officeDocument/2006/relationships/image" Target="../media/image13.png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&#1073;&#1080;&#1086;&#1083;&#1086;&#1075;&#1080;&#1103;%20-%20&#1091;&#1088;&#1086;&#1082;&#1080;/&#1082;&#1088;&#1072;&#1089;&#1085;&#1072;&#1103;_&#1082;&#1085;&#1080;&#1075;&#1072;_&#1095;&#1077;&#1083;&#1103;&#1073;&#1080;&#1085;&#1089;&#1082;/page1005.html" TargetMode="External"/><Relationship Id="rId2" Type="http://schemas.openxmlformats.org/officeDocument/2006/relationships/image" Target="../media/image10.png"/><Relationship Id="rId3" Type="http://schemas.openxmlformats.org/officeDocument/2006/relationships/hyperlink" Target="file:///&#1073;&#1080;&#1086;&#1083;&#1086;&#1075;&#1080;&#1103;%20-%20&#1091;&#1088;&#1086;&#1082;&#1080;/&#1082;&#1088;&#1072;&#1089;&#1085;&#1072;&#1103;_&#1082;&#1085;&#1080;&#1075;&#1072;_&#1095;&#1077;&#1083;&#1103;&#1073;&#1080;&#1085;&#1089;&#1082;/page1011.html" TargetMode="External"/><Relationship Id="rId4" Type="http://schemas.openxmlformats.org/officeDocument/2006/relationships/image" Target="../media/image13.png"/><Relationship Id="rId5" Type="http://schemas.openxmlformats.org/officeDocument/2006/relationships/hyperlink" Target="file:///&#1073;&#1080;&#1086;&#1083;&#1086;&#1075;&#1080;&#1103;%20-%20&#1091;&#1088;&#1086;&#1082;&#1080;/&#1082;&#1088;&#1072;&#1089;&#1085;&#1072;&#1103;_&#1082;&#1085;&#1080;&#1075;&#1072;_&#1095;&#1077;&#1083;&#1103;&#1073;&#1080;&#1085;&#1089;&#1082;/page1014.html" TargetMode="External"/><Relationship Id="rId6" Type="http://schemas.openxmlformats.org/officeDocument/2006/relationships/image" Target="../media/image14.png"/><Relationship Id="rId7" Type="http://schemas.openxmlformats.org/officeDocument/2006/relationships/hyperlink" Target="file:///&#1073;&#1080;&#1086;&#1083;&#1086;&#1075;&#1080;&#1103;%20-%20&#1091;&#1088;&#1086;&#1082;&#1080;/&#1082;&#1088;&#1072;&#1089;&#1085;&#1072;&#1103;_&#1082;&#1085;&#1080;&#1075;&#1072;_&#1095;&#1077;&#1083;&#1103;&#1073;&#1080;&#1085;&#1089;&#1082;/page1017.html" TargetMode="External"/><Relationship Id="rId8" Type="http://schemas.openxmlformats.org/officeDocument/2006/relationships/image" Target="../media/image11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6193080" cy="4118040"/>
          </a:xfrm>
          <a:prstGeom prst="rect">
            <a:avLst/>
          </a:prstGeom>
          <a:ln w="38160">
            <a:solidFill>
              <a:srgbClr val="000080"/>
            </a:solidFill>
            <a:prstDash val="dash"/>
            <a:miter/>
          </a:ln>
        </p:spPr>
      </p:pic>
      <p:sp>
        <p:nvSpPr>
          <p:cNvPr id="98" name=""/>
          <p:cNvSpPr txBox="1"/>
          <p:nvPr/>
        </p:nvSpPr>
        <p:spPr>
          <a:xfrm>
            <a:off x="250920" y="189000"/>
            <a:ext cx="4895640" cy="378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РГАНИЗМ -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ФИНКС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003640" y="189000"/>
            <a:ext cx="36784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Урок биологии в 6 классе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4713840" y="6062760"/>
            <a:ext cx="393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следницкая СОШ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учитель биологии Смирнова С.П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95640" y="6093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М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764640"/>
            <a:ext cx="7313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нутреннее строение лишайник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392200" y="1941480"/>
            <a:ext cx="5268960" cy="388476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5111640" y="2394000"/>
            <a:ext cx="3825720" cy="831600"/>
            <a:chOff x="5111640" y="2394000"/>
            <a:chExt cx="3825720" cy="831600"/>
          </a:xfrm>
        </p:grpSpPr>
        <p:sp>
          <p:nvSpPr>
            <p:cNvPr id="130" name=""/>
            <p:cNvSpPr/>
            <p:nvPr/>
          </p:nvSpPr>
          <p:spPr>
            <a:xfrm>
              <a:off x="6911640" y="2394000"/>
              <a:ext cx="2025720" cy="8316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Клетки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водоросл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111640" y="2809800"/>
              <a:ext cx="1800000" cy="19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301640" y="4037040"/>
            <a:ext cx="4635720" cy="831600"/>
            <a:chOff x="4301640" y="4037040"/>
            <a:chExt cx="4635720" cy="831600"/>
          </a:xfrm>
        </p:grpSpPr>
        <p:sp>
          <p:nvSpPr>
            <p:cNvPr id="133" name=""/>
            <p:cNvSpPr/>
            <p:nvPr/>
          </p:nvSpPr>
          <p:spPr>
            <a:xfrm>
              <a:off x="6911640" y="4037040"/>
              <a:ext cx="2025720" cy="8316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Грибница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гриб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4301640" y="4452840"/>
              <a:ext cx="2609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076720" y="5013360"/>
            <a:ext cx="3875040" cy="85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3" dur="40960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960"/>
                            </p:stCondLst>
                            <p:childTnLst>
                              <p:par>
                                <p:cTn id="27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59259E-006 L -0.1033 -2.59259E-006 E">
                                      <p:cBhvr>
                                        <p:cTn id="27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296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cccc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916360" y="620640"/>
            <a:ext cx="4032000" cy="936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ИШАЙ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2924280"/>
            <a:ext cx="2735280" cy="1274760"/>
          </a:xfrm>
          <a:prstGeom prst="rect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66"/>
                </a:solidFill>
                <a:uFillTx/>
                <a:latin typeface="Verdana"/>
                <a:hlinkClick r:id="rId1" action="ppaction://hlinksldjump"/>
              </a:rPr>
              <a:t>НАКИП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48000" y="2924280"/>
            <a:ext cx="2808360" cy="1296720"/>
          </a:xfrm>
          <a:prstGeom prst="rect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66"/>
                </a:solidFill>
                <a:uFillTx/>
                <a:latin typeface="Verdana"/>
                <a:hlinkClick r:id="rId2" action="ppaction://hlinksldjump"/>
              </a:rPr>
              <a:t>ЛИСТОВА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00720" y="2924280"/>
            <a:ext cx="2592360" cy="1296720"/>
          </a:xfrm>
          <a:prstGeom prst="rect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66"/>
                </a:solidFill>
                <a:uFillTx/>
                <a:latin typeface="Verdana"/>
                <a:hlinkClick r:id="rId3" action="ppaction://hlinksldjump"/>
              </a:rPr>
              <a:t>КУСТИС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834920" y="1557360"/>
            <a:ext cx="2089080" cy="1366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32360" y="1557360"/>
            <a:ext cx="0" cy="1366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84720" y="1557360"/>
            <a:ext cx="1800360" cy="1366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33cccc"/>
            </a:gs>
            <a:gs pos="100000">
              <a:srgbClr val="00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79280" y="1847880"/>
            <a:ext cx="6804000" cy="5010120"/>
          </a:xfrm>
          <a:prstGeom prst="rect">
            <a:avLst/>
          </a:prstGeom>
          <a:ln w="0">
            <a:noFill/>
          </a:ln>
        </p:spPr>
      </p:pic>
      <p:sp>
        <p:nvSpPr>
          <p:cNvPr id="144" name="PubRRectCallout">
            <a:hlinkClick r:id="rId2" action="ppaction://hlinksldjump"/>
          </p:cNvPr>
          <p:cNvSpPr/>
          <p:nvPr/>
        </p:nvSpPr>
        <p:spPr>
          <a:xfrm>
            <a:off x="395280" y="333360"/>
            <a:ext cx="8353440" cy="1943280"/>
          </a:xfrm>
          <a:custGeom>
            <a:avLst/>
            <a:gdLst>
              <a:gd name="textAreaLeft" fmla="*/ 55800 w 8353440"/>
              <a:gd name="textAreaRight" fmla="*/ 8279640 w 8353440"/>
              <a:gd name="textAreaTop" fmla="*/ 12960 h 1943280"/>
              <a:gd name="textAreaBottom" fmla="*/ 1539000 h 194328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ff"/>
                </a:solidFill>
                <a:latin typeface="Arial"/>
              </a:rPr>
              <a:t>Накипны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тело всей поверхностью плотно срастается с камнями или с другим субстратом, на котором они обитают. Накипные лишайники похожи на коричнево-серую накипь. Обитают на поверхности почвы, коре деревьев, камн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ители: Леканора, плакодиум, графис, бацид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32720" y="1989000"/>
            <a:ext cx="1668240" cy="4653000"/>
          </a:xfrm>
          <a:prstGeom prst="rect">
            <a:avLst/>
          </a:prstGeom>
          <a:ln w="0">
            <a:noFill/>
          </a:ln>
        </p:spPr>
      </p:pic>
      <p:sp>
        <p:nvSpPr>
          <p:cNvPr id="146" name="">
            <a:hlinkClick r:id="rId5" action="ppaction://hlinksldjump"/>
          </p:cNvPr>
          <p:cNvSpPr/>
          <p:nvPr/>
        </p:nvSpPr>
        <p:spPr>
          <a:xfrm>
            <a:off x="8172360" y="5877000"/>
            <a:ext cx="755640" cy="682560"/>
          </a:xfrm>
          <a:custGeom>
            <a:avLst/>
            <a:gdLst>
              <a:gd name="textAreaLeft" fmla="*/ 43920 w 755640"/>
              <a:gd name="textAreaRight" fmla="*/ 711720 w 75564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3911" h="21600">
                <a:moveTo>
                  <a:pt x="0" y="0"/>
                </a:moveTo>
                <a:lnTo>
                  <a:pt x="23911" y="0"/>
                </a:lnTo>
                <a:lnTo>
                  <a:pt x="23911" y="21600"/>
                </a:lnTo>
                <a:lnTo>
                  <a:pt x="0" y="21600"/>
                </a:lnTo>
                <a:close/>
              </a:path>
              <a:path fill="lightenLess" w="23911" h="21600">
                <a:moveTo>
                  <a:pt x="0" y="0"/>
                </a:moveTo>
                <a:lnTo>
                  <a:pt x="23911" y="0"/>
                </a:lnTo>
                <a:lnTo>
                  <a:pt x="22511" y="1400"/>
                </a:lnTo>
                <a:lnTo>
                  <a:pt x="1400" y="1400"/>
                </a:lnTo>
                <a:close/>
              </a:path>
              <a:path fill="darken" w="23911" h="21600">
                <a:moveTo>
                  <a:pt x="23911" y="0"/>
                </a:moveTo>
                <a:lnTo>
                  <a:pt x="23911" y="21600"/>
                </a:lnTo>
                <a:lnTo>
                  <a:pt x="22511" y="20200"/>
                </a:lnTo>
                <a:lnTo>
                  <a:pt x="22511" y="1400"/>
                </a:lnTo>
                <a:close/>
              </a:path>
              <a:path fill="darkenLess" w="23911" h="21600">
                <a:moveTo>
                  <a:pt x="239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11" y="20200"/>
                </a:lnTo>
                <a:close/>
              </a:path>
              <a:path fill="lighten" w="239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11" h="21600">
                <a:moveTo>
                  <a:pt x="4949" y="7493"/>
                </a:moveTo>
                <a:lnTo>
                  <a:pt x="8457" y="7493"/>
                </a:lnTo>
                <a:lnTo>
                  <a:pt x="8457" y="12828"/>
                </a:lnTo>
                <a:cubicBezTo>
                  <a:pt x="8457" y="13751"/>
                  <a:pt x="9258" y="14482"/>
                  <a:pt x="10293" y="14482"/>
                </a:cubicBezTo>
                <a:lnTo>
                  <a:pt x="11956" y="14482"/>
                </a:lnTo>
                <a:cubicBezTo>
                  <a:pt x="12991" y="14482"/>
                  <a:pt x="13792" y="13751"/>
                  <a:pt x="13792" y="12828"/>
                </a:cubicBezTo>
                <a:lnTo>
                  <a:pt x="13792" y="7493"/>
                </a:lnTo>
                <a:lnTo>
                  <a:pt x="11956" y="7493"/>
                </a:lnTo>
                <a:lnTo>
                  <a:pt x="15463" y="3985"/>
                </a:lnTo>
                <a:lnTo>
                  <a:pt x="19136" y="7493"/>
                </a:lnTo>
                <a:lnTo>
                  <a:pt x="17300" y="7493"/>
                </a:lnTo>
                <a:lnTo>
                  <a:pt x="17300" y="12828"/>
                </a:lnTo>
                <a:cubicBezTo>
                  <a:pt x="17300" y="15596"/>
                  <a:pt x="14723" y="18155"/>
                  <a:pt x="11956" y="18155"/>
                </a:cubicBezTo>
                <a:lnTo>
                  <a:pt x="10293" y="18155"/>
                </a:lnTo>
                <a:cubicBezTo>
                  <a:pt x="7526" y="18155"/>
                  <a:pt x="4949" y="15596"/>
                  <a:pt x="4949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33cccc"/>
            </a:gs>
            <a:gs pos="100000">
              <a:srgbClr val="00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806560"/>
            <a:ext cx="4176720" cy="3524400"/>
          </a:xfrm>
          <a:prstGeom prst="rect">
            <a:avLst/>
          </a:prstGeom>
          <a:ln w="0">
            <a:noFill/>
          </a:ln>
        </p:spPr>
      </p:pic>
      <p:sp>
        <p:nvSpPr>
          <p:cNvPr id="148" name="PubRRectCallout">
            <a:hlinkClick r:id="rId3" action="ppaction://hlinksldjump"/>
          </p:cNvPr>
          <p:cNvSpPr/>
          <p:nvPr/>
        </p:nvSpPr>
        <p:spPr>
          <a:xfrm>
            <a:off x="826920" y="404640"/>
            <a:ext cx="7921800" cy="2448000"/>
          </a:xfrm>
          <a:custGeom>
            <a:avLst/>
            <a:gdLst>
              <a:gd name="textAreaLeft" fmla="*/ 52920 w 7921800"/>
              <a:gd name="textAreaRight" fmla="*/ 7851960 w 7921800"/>
              <a:gd name="textAreaTop" fmla="*/ 16200 h 2448000"/>
              <a:gd name="textAreaBottom" fmla="*/ 1938960 h 244800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ff"/>
                </a:solidFill>
                <a:latin typeface="Arial"/>
              </a:rPr>
              <a:t>Листоват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тело представляет собой более или менее плотное слоевище округлой формы, часто с изрезанными краями или рассечены на мелкие лопасти. Диаметр до 20 см. Прикрепляются к субстрату пучками грибных нитей. Распространены на камнях и деревь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ители: Пармелия, ксантория, лобария, пельтиг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2698920"/>
            <a:ext cx="3960720" cy="3651120"/>
          </a:xfrm>
          <a:prstGeom prst="rect">
            <a:avLst/>
          </a:prstGeom>
          <a:ln w="0">
            <a:noFill/>
          </a:ln>
        </p:spPr>
      </p:pic>
      <p:sp>
        <p:nvSpPr>
          <p:cNvPr id="150" name="">
            <a:hlinkClick r:id="rId6" action="ppaction://hlinksldjump"/>
          </p:cNvPr>
          <p:cNvSpPr/>
          <p:nvPr/>
        </p:nvSpPr>
        <p:spPr>
          <a:xfrm>
            <a:off x="8101080" y="5877000"/>
            <a:ext cx="826920" cy="611280"/>
          </a:xfrm>
          <a:custGeom>
            <a:avLst/>
            <a:gdLst>
              <a:gd name="textAreaLeft" fmla="*/ 39600 w 826920"/>
              <a:gd name="textAreaRight" fmla="*/ 787320 w 82692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9215" h="21600">
                <a:moveTo>
                  <a:pt x="0" y="0"/>
                </a:moveTo>
                <a:lnTo>
                  <a:pt x="29215" y="0"/>
                </a:lnTo>
                <a:lnTo>
                  <a:pt x="29215" y="21600"/>
                </a:lnTo>
                <a:lnTo>
                  <a:pt x="0" y="21600"/>
                </a:lnTo>
                <a:close/>
              </a:path>
              <a:path fill="lightenLess" w="29215" h="21600">
                <a:moveTo>
                  <a:pt x="0" y="0"/>
                </a:moveTo>
                <a:lnTo>
                  <a:pt x="29215" y="0"/>
                </a:lnTo>
                <a:lnTo>
                  <a:pt x="27815" y="1400"/>
                </a:lnTo>
                <a:lnTo>
                  <a:pt x="1400" y="1400"/>
                </a:lnTo>
                <a:close/>
              </a:path>
              <a:path fill="darken" w="29215" h="21600">
                <a:moveTo>
                  <a:pt x="29215" y="0"/>
                </a:moveTo>
                <a:lnTo>
                  <a:pt x="29215" y="21600"/>
                </a:lnTo>
                <a:lnTo>
                  <a:pt x="27815" y="20200"/>
                </a:lnTo>
                <a:lnTo>
                  <a:pt x="27815" y="1400"/>
                </a:lnTo>
                <a:close/>
              </a:path>
              <a:path fill="darkenLess" w="29215" h="21600">
                <a:moveTo>
                  <a:pt x="292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15" y="20200"/>
                </a:lnTo>
                <a:close/>
              </a:path>
              <a:path fill="lighten" w="292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15" h="21600">
                <a:moveTo>
                  <a:pt x="7601" y="7493"/>
                </a:moveTo>
                <a:lnTo>
                  <a:pt x="11109" y="7493"/>
                </a:lnTo>
                <a:lnTo>
                  <a:pt x="11109" y="12828"/>
                </a:lnTo>
                <a:cubicBezTo>
                  <a:pt x="11109" y="13751"/>
                  <a:pt x="11910" y="14482"/>
                  <a:pt x="12945" y="14482"/>
                </a:cubicBezTo>
                <a:lnTo>
                  <a:pt x="14608" y="14482"/>
                </a:lnTo>
                <a:cubicBezTo>
                  <a:pt x="15643" y="14482"/>
                  <a:pt x="16444" y="13751"/>
                  <a:pt x="16444" y="12828"/>
                </a:cubicBezTo>
                <a:lnTo>
                  <a:pt x="16444" y="7493"/>
                </a:lnTo>
                <a:lnTo>
                  <a:pt x="14608" y="7493"/>
                </a:lnTo>
                <a:lnTo>
                  <a:pt x="18115" y="3985"/>
                </a:lnTo>
                <a:lnTo>
                  <a:pt x="21788" y="7493"/>
                </a:lnTo>
                <a:lnTo>
                  <a:pt x="19952" y="7493"/>
                </a:lnTo>
                <a:lnTo>
                  <a:pt x="19952" y="12828"/>
                </a:lnTo>
                <a:cubicBezTo>
                  <a:pt x="19952" y="15596"/>
                  <a:pt x="17375" y="18155"/>
                  <a:pt x="14608" y="18155"/>
                </a:cubicBezTo>
                <a:lnTo>
                  <a:pt x="12945" y="18155"/>
                </a:lnTo>
                <a:cubicBezTo>
                  <a:pt x="10177" y="18155"/>
                  <a:pt x="7601" y="15596"/>
                  <a:pt x="7601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33cccc"/>
            </a:gs>
            <a:gs pos="100000">
              <a:srgbClr val="00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ubRRectCallout">
            <a:hlinkClick r:id="rId1" action="ppaction://hlinksldjump"/>
          </p:cNvPr>
          <p:cNvSpPr/>
          <p:nvPr/>
        </p:nvSpPr>
        <p:spPr>
          <a:xfrm>
            <a:off x="395280" y="260280"/>
            <a:ext cx="8353440" cy="2089080"/>
          </a:xfrm>
          <a:custGeom>
            <a:avLst/>
            <a:gdLst>
              <a:gd name="textAreaLeft" fmla="*/ 55800 w 8353440"/>
              <a:gd name="textAreaRight" fmla="*/ 8279640 w 8353440"/>
              <a:gd name="textAreaTop" fmla="*/ 13680 h 2089080"/>
              <a:gd name="textAreaBottom" fmla="*/ 1654560 h 208908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Кустист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Наиболее высокоорганизованные. Слоевище по внешнему виду напоминает кустарничек. Размер до 50 см. Эпифитные повисающие лишайники (уснея) могут достигать длины 8 мет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ители: Кладония (в том числе ягель), бородач, цетрария, уснея, эвер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995640" y="2133720"/>
            <a:ext cx="4465800" cy="41702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2781360"/>
            <a:ext cx="3047760" cy="3238560"/>
          </a:xfrm>
          <a:prstGeom prst="rect">
            <a:avLst/>
          </a:prstGeom>
          <a:ln w="0">
            <a:noFill/>
          </a:ln>
        </p:spPr>
      </p:pic>
      <p:sp>
        <p:nvSpPr>
          <p:cNvPr id="154" name="">
            <a:hlinkClick r:id="rId5" action="ppaction://hlinksldjump"/>
          </p:cNvPr>
          <p:cNvSpPr/>
          <p:nvPr/>
        </p:nvSpPr>
        <p:spPr>
          <a:xfrm>
            <a:off x="8101080" y="5877000"/>
            <a:ext cx="826920" cy="611280"/>
          </a:xfrm>
          <a:custGeom>
            <a:avLst/>
            <a:gdLst>
              <a:gd name="textAreaLeft" fmla="*/ 39600 w 826920"/>
              <a:gd name="textAreaRight" fmla="*/ 787320 w 82692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9215" h="21600">
                <a:moveTo>
                  <a:pt x="0" y="0"/>
                </a:moveTo>
                <a:lnTo>
                  <a:pt x="29215" y="0"/>
                </a:lnTo>
                <a:lnTo>
                  <a:pt x="29215" y="21600"/>
                </a:lnTo>
                <a:lnTo>
                  <a:pt x="0" y="21600"/>
                </a:lnTo>
                <a:close/>
              </a:path>
              <a:path fill="lightenLess" w="29215" h="21600">
                <a:moveTo>
                  <a:pt x="0" y="0"/>
                </a:moveTo>
                <a:lnTo>
                  <a:pt x="29215" y="0"/>
                </a:lnTo>
                <a:lnTo>
                  <a:pt x="27815" y="1400"/>
                </a:lnTo>
                <a:lnTo>
                  <a:pt x="1400" y="1400"/>
                </a:lnTo>
                <a:close/>
              </a:path>
              <a:path fill="darken" w="29215" h="21600">
                <a:moveTo>
                  <a:pt x="29215" y="0"/>
                </a:moveTo>
                <a:lnTo>
                  <a:pt x="29215" y="21600"/>
                </a:lnTo>
                <a:lnTo>
                  <a:pt x="27815" y="20200"/>
                </a:lnTo>
                <a:lnTo>
                  <a:pt x="27815" y="1400"/>
                </a:lnTo>
                <a:close/>
              </a:path>
              <a:path fill="darkenLess" w="29215" h="21600">
                <a:moveTo>
                  <a:pt x="292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15" y="20200"/>
                </a:lnTo>
                <a:close/>
              </a:path>
              <a:path fill="lighten" w="292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15" h="21600">
                <a:moveTo>
                  <a:pt x="7601" y="7493"/>
                </a:moveTo>
                <a:lnTo>
                  <a:pt x="11109" y="7493"/>
                </a:lnTo>
                <a:lnTo>
                  <a:pt x="11109" y="12828"/>
                </a:lnTo>
                <a:cubicBezTo>
                  <a:pt x="11109" y="13751"/>
                  <a:pt x="11910" y="14482"/>
                  <a:pt x="12945" y="14482"/>
                </a:cubicBezTo>
                <a:lnTo>
                  <a:pt x="14608" y="14482"/>
                </a:lnTo>
                <a:cubicBezTo>
                  <a:pt x="15643" y="14482"/>
                  <a:pt x="16444" y="13751"/>
                  <a:pt x="16444" y="12828"/>
                </a:cubicBezTo>
                <a:lnTo>
                  <a:pt x="16444" y="7493"/>
                </a:lnTo>
                <a:lnTo>
                  <a:pt x="14608" y="7493"/>
                </a:lnTo>
                <a:lnTo>
                  <a:pt x="18115" y="3985"/>
                </a:lnTo>
                <a:lnTo>
                  <a:pt x="21788" y="7493"/>
                </a:lnTo>
                <a:lnTo>
                  <a:pt x="19952" y="7493"/>
                </a:lnTo>
                <a:lnTo>
                  <a:pt x="19952" y="12828"/>
                </a:lnTo>
                <a:cubicBezTo>
                  <a:pt x="19952" y="15596"/>
                  <a:pt x="17375" y="18155"/>
                  <a:pt x="14608" y="18155"/>
                </a:cubicBezTo>
                <a:lnTo>
                  <a:pt x="12945" y="18155"/>
                </a:lnTo>
                <a:cubicBezTo>
                  <a:pt x="10177" y="18155"/>
                  <a:pt x="7601" y="15596"/>
                  <a:pt x="7601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15640" y="301680"/>
            <a:ext cx="755964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Лишайники Челябинской области, занесенные в Красную книгу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484280"/>
            <a:ext cx="2376720" cy="18842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79280" y="3227400"/>
            <a:ext cx="237672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99"/>
                </a:solidFill>
                <a:uFillTx/>
                <a:latin typeface="Verdana"/>
              </a:rPr>
              <a:t>Коллема чешуйча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4005360"/>
            <a:ext cx="1656000" cy="23763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83860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6021360"/>
            <a:ext cx="16560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99"/>
                </a:solidFill>
                <a:uFillTx/>
                <a:latin typeface="Verdana"/>
              </a:rPr>
              <a:t>Эверния слив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588000" y="1484280"/>
            <a:ext cx="2389320" cy="18194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659640" y="3213000"/>
            <a:ext cx="23050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99"/>
                </a:solidFill>
                <a:uFillTx/>
                <a:latin typeface="Verdana"/>
              </a:rPr>
              <a:t>Гипогимния бит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643280" y="1484280"/>
            <a:ext cx="1800360" cy="1513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643280" y="2924280"/>
            <a:ext cx="180036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99"/>
                </a:solidFill>
                <a:uFillTx/>
                <a:latin typeface="Verdana"/>
              </a:rPr>
              <a:t>Гипогимния ленто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9"/>
          <a:stretch/>
        </p:blipFill>
        <p:spPr>
          <a:xfrm>
            <a:off x="2124000" y="4005360"/>
            <a:ext cx="1511280" cy="2087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124000" y="6021360"/>
            <a:ext cx="15112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99"/>
                </a:solidFill>
                <a:uFillTx/>
                <a:latin typeface="Verdana"/>
              </a:rPr>
              <a:t>Уснея цвету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0"/>
          <a:stretch/>
        </p:blipFill>
        <p:spPr>
          <a:xfrm>
            <a:off x="3851280" y="3573360"/>
            <a:ext cx="1160280" cy="27561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708360" y="6108840"/>
            <a:ext cx="1655640" cy="580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99"/>
                </a:solidFill>
                <a:uFillTx/>
                <a:latin typeface="Verdana"/>
              </a:rPr>
              <a:t>Уснея длиннейш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1"/>
          <a:stretch/>
        </p:blipFill>
        <p:spPr>
          <a:xfrm>
            <a:off x="2771640" y="1484280"/>
            <a:ext cx="1692360" cy="1728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700360" y="3011400"/>
            <a:ext cx="17272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99"/>
                </a:solidFill>
                <a:uFillTx/>
                <a:latin typeface="Verdana"/>
              </a:rPr>
              <a:t>Лобария лего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2"/>
          <a:stretch/>
        </p:blipFill>
        <p:spPr>
          <a:xfrm>
            <a:off x="5508720" y="3573360"/>
            <a:ext cx="1154160" cy="2617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435640" y="5964120"/>
            <a:ext cx="144144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99"/>
                </a:solidFill>
                <a:uFillTx/>
                <a:latin typeface="Verdana"/>
              </a:rPr>
              <a:t>Цибебе строй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3"/>
          <a:stretch/>
        </p:blipFill>
        <p:spPr>
          <a:xfrm>
            <a:off x="7093080" y="3933720"/>
            <a:ext cx="1763640" cy="2016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020000" y="5877000"/>
            <a:ext cx="18730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99"/>
                </a:solidFill>
                <a:uFillTx/>
                <a:latin typeface="Verdana"/>
              </a:rPr>
              <a:t>Рамалина мучнис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050560" y="301680"/>
            <a:ext cx="56898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амостоятельная работа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640" y="476280"/>
            <a:ext cx="835344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Значение лишайников в природе и жизни человек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. Являются первопоселенцами жизненных пространст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. Участвуют в первичном почвообразован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. Некоторые виды, живущие на стволах деревьев, могут защищать их от проникновения спор грибов-паразитов или являться убежищем для насекомых-вредителей деревье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. Являются пищей для многих копытных животны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. Некоторые виды используются в пищу человек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6. Природные красите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7. Используют в медицин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8. Используют в парфюмерной промышленно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9. Некоторые виды служат для определения возраста горных пород (лихенометрия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0. Являются индикаторами загрязнения воздуха (лихеноиндикация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8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8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8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80"/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тог урок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Где растут лишайники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Что представляет собой организм лишайника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Как питаются лишайники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очему лишайники называют пионерами формирования растительного покрова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9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9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9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9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§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3, отвечать на вопросы в конце параграфа, знать основные термины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33cccc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55640" y="692280"/>
            <a:ext cx="813744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ТЕС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  Грибы выделяют 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. род ;                               В. царство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. семейство;                    Г. порядок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 Признаком грибов, сближающим их с царством растений, являе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. гетеротрофный способ пита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. верхушечный рост мицелия гриб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. наличие мочевины в качестве промежуточного продукта метаболизм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. наличие хитина в клеточных стенк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 Плодовое тело шляпочного гриба образован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. шляпкой и мицелием;                   В. шляпкой и ножко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. ножкой и мицелием;                      Г. микоризой и спорангие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33cccc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26560" y="259920"/>
            <a:ext cx="8137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Какого способа добывания пищи среди грибов не встречается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. сапрофиты;                               В. хищные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. паразиты;                                  Г. фотосинтезирующ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К грибам, получающим органические вещества из корней деревьев, относятся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. мукор;                                       В. дрожж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. пеницилл;                                 Г. подберезовик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Среди перечисленных грибов шляпочными не являются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.сыроежка и подберезовик;             В. белый и грузд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. мукор и пеницилл;                        Г. мухомор и бледная поган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.   Прочность клеточной оболочки грибам придает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. пектин;                                   В. целлюлоз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. хитин;                                     Г. гликоген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33cccc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00000" y="404280"/>
            <a:ext cx="8064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. К грибам паразитам относят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. бледная поганка и мухомор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. пеницилл и мукор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. гриб трутовик и головн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. шампиньоны и вешен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. Грибы не могут размножать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. семенами;                          В. спора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. вегетативно;                      Г. половым путе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. Среди перечисленных грибов пластинчатыми являются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. сыроежка и опенок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. подберезовик и белы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. подосиновик и лисичк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. масленок и шампиньон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ОТВЕТЫ: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В;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-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Б;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-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В;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Г;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Г;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Б;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Б;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-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В;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-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А;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-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-360"/>
            <a:ext cx="70894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«ЧЕЛОВЕКОЛЕВ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7631280" cy="57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«ГРИБОВОДОРОСЛЬ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44520" y="1538280"/>
            <a:ext cx="8456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692280"/>
            <a:ext cx="629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26920" y="836640"/>
            <a:ext cx="6985080" cy="41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ИШАЙНИК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0360" y="907560"/>
            <a:ext cx="439272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И  УРОКА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162560" cy="3689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Продолжить развивать представление о многообразии живых организмов на Земл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Познакомиться с особенностями строения и жизнедеятельности лишайников, как симбиотических организмов, состоящих из гриба и водоросл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0" t="14648" r="0" b="14354"/>
          <a:stretch/>
        </p:blipFill>
        <p:spPr>
          <a:xfrm>
            <a:off x="344520" y="1538280"/>
            <a:ext cx="8456760" cy="50385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Внутреннее строение лишайник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44520" y="1538280"/>
            <a:ext cx="8456760" cy="5038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111640" y="1538280"/>
            <a:ext cx="3689640" cy="503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167360" y="2451240"/>
            <a:ext cx="3825720" cy="831600"/>
            <a:chOff x="4167360" y="2451240"/>
            <a:chExt cx="3825720" cy="831600"/>
          </a:xfrm>
        </p:grpSpPr>
        <p:sp>
          <p:nvSpPr>
            <p:cNvPr id="118" name=""/>
            <p:cNvSpPr/>
            <p:nvPr/>
          </p:nvSpPr>
          <p:spPr>
            <a:xfrm>
              <a:off x="5967360" y="2451240"/>
              <a:ext cx="2025720" cy="8316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Клетки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водоросл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4167360" y="2867040"/>
              <a:ext cx="1800000" cy="19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357360" y="3946680"/>
            <a:ext cx="4635720" cy="831600"/>
            <a:chOff x="3357360" y="3946680"/>
            <a:chExt cx="4635720" cy="831600"/>
          </a:xfrm>
        </p:grpSpPr>
        <p:sp>
          <p:nvSpPr>
            <p:cNvPr id="121" name=""/>
            <p:cNvSpPr/>
            <p:nvPr/>
          </p:nvSpPr>
          <p:spPr>
            <a:xfrm>
              <a:off x="5967360" y="3946680"/>
              <a:ext cx="2025720" cy="8316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Грибница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гриб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3357360" y="4362480"/>
              <a:ext cx="2609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58436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347328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536400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725472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" dur="7836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4884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" dur="1645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107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8:40:54Z</dcterms:created>
  <dc:creator>Смирнова</dc:creator>
  <dc:description/>
  <dc:language>en-US</dc:language>
  <cp:lastModifiedBy>Смирнова</cp:lastModifiedBy>
  <dcterms:modified xsi:type="dcterms:W3CDTF">2009-11-24T10:17:51Z</dcterms:modified>
  <cp:revision>3</cp:revision>
  <dc:subject/>
  <dc:title>Слайд 1</dc:title>
</cp:coreProperties>
</file>