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B960-0CC4-4BC7-AD17-0E0C631FA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7130-70A8-4481-AC83-2D4E9BD5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B46E-4C6E-4973-B31B-617BBB26C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B0D1-F661-4F7F-A455-50222D4DD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282D-27F5-4FD9-B522-CAFB4856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E014-2EBC-4806-8EC5-FD8837F6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EAF7-9CE1-4E16-8027-96C6C163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5688-CF9D-4D78-A7BE-DB7D06FD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E1E9-3127-4FF9-A89A-FBDF546F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357F-F6E8-471E-9339-FB4359C8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30FB-60FB-45F7-AB20-429EF7AA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0A2E-0D2E-4642-81AE-5545ED11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5D08B-DD70-40D1-BB53-703870CF922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6028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М. Ю. Лермон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907920"/>
            <a:ext cx="820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33cc"/>
                </a:solidFill>
                <a:latin typeface="Arial"/>
              </a:rPr>
              <a:t>«Песня про царя Ивана Васильевича, молодого опричника и удалого купца Калашников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3127" t="52062" r="3366" b="5088"/>
          <a:stretch/>
        </p:blipFill>
        <p:spPr>
          <a:xfrm>
            <a:off x="2268360" y="4049640"/>
            <a:ext cx="431964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dur="indefinite" fill="hold">
                      <p:stCondLst>
                        <p:cond delay="indefinite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87640" y="404640"/>
            <a:ext cx="590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Иван  Васильевич  Грозный  (Иван 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IV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)  принял царский титул в 1547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77960" cy="3860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381560" y="3352680"/>
            <a:ext cx="4762440" cy="3505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79280" y="4797360"/>
            <a:ext cx="42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Его  правление – жестокость, цинизм и терр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116000" y="0"/>
            <a:ext cx="7020000" cy="5018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0920" y="501336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Опричники – преданные воины, с помощью которых царь боролся с «изменой», уничтожал неугодных ему бояр, проводил массовые ка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857840" y="981000"/>
            <a:ext cx="4286160" cy="5295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2133720"/>
            <a:ext cx="453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Умер  Иван Грозный в 1584 году, оставив после себя разоренную страну и множество преданий о своей жесток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260280"/>
            <a:ext cx="8642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XVI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 век – один из самых ярких и трагических периодов России. За годы царствования Ивана Грозного страна увеличилась почти в полтора раза, но цена за это была слишком вел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95640" y="2133720"/>
            <a:ext cx="4429080" cy="47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576760" y="692280"/>
            <a:ext cx="3567240" cy="4681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557360"/>
            <a:ext cx="536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М.Ю. Лермонтов проявлял особый интерес к национальной истории, искал в ней богатырский дух,  яркие личности – всё, чего не хватало среди его современ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«Песня …»  описывает страшное для Руси время опричнины, кровавого правления Ивана Гроз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116000" y="398520"/>
            <a:ext cx="7218360" cy="443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2:33:48Z</dcterms:created>
  <dc:creator>Ershova</dc:creator>
  <dc:description/>
  <dc:language>en-US</dc:language>
  <cp:lastModifiedBy>Ershova</cp:lastModifiedBy>
  <dcterms:modified xsi:type="dcterms:W3CDTF">2009-02-04T14:46:45Z</dcterms:modified>
  <cp:revision>46</cp:revision>
  <dc:subject/>
  <dc:title>Слайд 1</dc:title>
</cp:coreProperties>
</file>