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540-7BFC-48F9-8176-2527F552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935-707A-49C1-AC3C-8D67901A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0BC8-0DB9-4367-8352-3EFE7765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347A-4CE9-49E2-A2B0-340D7396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CE5B-9C11-4419-B798-41409668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8376-E4DC-458D-BF51-1013FD3A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7FC5-E697-48E6-A3B2-AFF46E54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AAFF-9519-4D54-88DF-5CA8A810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1E6B-EEF6-426C-AD0B-48794B1B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3B73-DD93-4DA2-A39C-A5A0A7F1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ACF2-15CF-499E-AFCC-421EC9AE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229-3455-4D05-932D-4B496014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A31B-CC70-48FC-AE7B-19F03288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3C71-8B8A-47F6-8376-821B7451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2B09-1F4B-4FD4-BA48-13F667B2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E968-09A8-4381-A97D-3E7F0BF3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6B72-C3E1-41D9-83CE-64E3DF78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51D1-B661-4519-86C4-9485ABC8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3C5-97A3-46A5-B0D7-6C5C1CCD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906B-30FE-46A8-931E-AEE75DD9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779-FBFF-4ED2-97CC-F55E998C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23CF-2014-476A-AF04-D122AA90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6FE-FAD0-453F-9BF3-F82FFF2F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4B3-6835-4948-80FC-71C801E5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8DEA-89D7-4BD3-B954-327B3882E3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DD67-4882-4DE0-B7F5-BEB2D20BC1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Nikitin_I_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Ivan_Nikiti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4;&#1077;&#1095;&#1072;" TargetMode="External"/><Relationship Id="rId2" Type="http://schemas.openxmlformats.org/officeDocument/2006/relationships/hyperlink" Target="http://ru.wikipedia.org/wiki/1843" TargetMode="External"/><Relationship Id="rId3" Type="http://schemas.openxmlformats.org/officeDocument/2006/relationships/hyperlink" Target="http://ru.wikipedia.org/wiki/&#1060;&#1072;&#1081;&#1083;:Nikitin_I_S.jpg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3;&#1077;&#1084;&#1077;&#1094;&#1082;&#1080;&#1081;_&#1103;&#1079;&#1099;&#1082;" TargetMode="External"/><Relationship Id="rId3" Type="http://schemas.openxmlformats.org/officeDocument/2006/relationships/hyperlink" Target="http://ru.wikipedia.org/wiki/&#1064;&#1077;&#1082;&#1089;&#1087;&#1080;&#1088;,_&#1059;&#1080;&#1083;&#1100;&#1103;&#1084;" TargetMode="External"/><Relationship Id="rId4" Type="http://schemas.openxmlformats.org/officeDocument/2006/relationships/hyperlink" Target="http://ru.wikipedia.org/wiki/&#1043;&#1102;&#1075;&#1086;,_&#1042;&#1080;&#1082;&#1090;&#1086;&#1088;_&#1052;&#1072;&#1088;&#1080;" TargetMode="External"/><Relationship Id="rId5" Type="http://schemas.openxmlformats.org/officeDocument/2006/relationships/hyperlink" Target="http://ru.wikipedia.org/wiki/&#1043;&#1105;&#1090;&#1077;,_&#1048;&#1086;&#1075;&#1072;&#1085;&#1085;_&#1042;&#1086;&#1083;&#1100;&#1092;&#1075;&#1072;&#1085;&#1075;" TargetMode="External"/><Relationship Id="rId6" Type="http://schemas.openxmlformats.org/officeDocument/2006/relationships/hyperlink" Target="http://ru.wikipedia.org/wiki/&#1064;&#1080;&#1083;&#1083;&#1077;&#1088;,_&#1060;&#1088;&#1080;&#1076;&#1088;&#1080;&#1093;_&#1048;&#1086;&#1075;&#1072;&#1085;&#1085;" TargetMode="External"/><Relationship Id="rId7" Type="http://schemas.openxmlformats.org/officeDocument/2006/relationships/hyperlink" Target="http://ru.wikipedia.org/wiki/&#1043;&#1077;&#1081;&#1085;&#1077;,_&#1043;&#1077;&#1085;&#1088;&#1080;&#1093;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101;&#1079;&#1080;&#1103;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3370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Жизнь и творчество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Ивана Никити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Презентацию выполнил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ПОЛЯНЦЕВА НАТАЛИЯ АРКАДЬЕ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МОУ гимназ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г. ВЯТСКИЕ ПОЛЯ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765000"/>
            <a:ext cx="217332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331128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ван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аввич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икитин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(1824-186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" descr="Ivan Nikit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0"/>
            <a:ext cx="464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дился в семье торговца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свеча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аввы Евтихиевича Никитина (1793—1864). Учился в духовной семинарии (до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184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2421000"/>
            <a:ext cx="289224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нимался самообразованием, изучая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французский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 и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немецкий языки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, а также произведения русских и зарубежных писателей (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Шекспир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,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Гюго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,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Гёте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,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Шиллер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,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Гейне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 и другие)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2600" y="260280"/>
            <a:ext cx="7772400" cy="58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читается мастером русского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поэтического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пейзажа Главные темы в поэзии Никитина — родная природа, беспросветная жизнь крестьян и крестьянский труд, страдания городской бедноты, протест против несправедливого устройства жиз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69228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которые стихотворения Никитина, положенные на музыку, стали популярными народными песнями, например «Ухарь-купец» («Ехал на ярмарку ухарь-купец…»). На слова Никитина написано более 60 песен и романс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3679920"/>
            <a:ext cx="382104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0:28:27Z</dcterms:created>
  <dc:creator>Мой компьютер</dc:creator>
  <dc:description/>
  <dc:language>en-US</dc:language>
  <cp:lastModifiedBy>Мой компьютер</cp:lastModifiedBy>
  <dcterms:modified xsi:type="dcterms:W3CDTF">2010-05-10T11:45:56Z</dcterms:modified>
  <cp:revision>2</cp:revision>
  <dc:subject/>
  <dc:title>Жизнь и творчество  Ивана Никитина</dc:title>
</cp:coreProperties>
</file>