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675-8834-4722-841F-231E3361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B67-84F6-43E3-A2F6-9732237E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491-02A2-4B34-92AB-949C2D02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823-A49A-4718-B74D-AA6884B8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20CAB-6AB2-4C3F-BF8A-A82D93F4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88855-78BC-44E4-A9D7-BCBB4610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72814-6A17-407D-AC4B-60DDA087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F529B-6D3F-4BD3-97B1-B729E0F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6B110-3D4D-43F5-9028-F08E8D77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9F13E-3695-4369-9F80-FBA4B991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F0756-9F6B-462C-A5FF-5DC5E93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61C-31C6-4478-B3F4-CA9D4D27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11BC7-26D5-4B6D-823B-8D586222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F9DAB-F1C5-443D-AE26-25F78EA0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147AD-07D0-4154-AD37-FB5BAE3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621C0-76EE-4AEC-87E5-79A081ED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78126-E69D-490F-8DD8-94F0D307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15B-2832-4899-B47E-73973835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CA5-4817-4C9D-8753-72DE92B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1A5-382C-4701-901E-71E1D7C8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5E0-A346-43D1-9D84-E465B833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DD0-93AD-4007-B82A-91859CE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192-ACD5-45B8-A371-8B47A2E0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98F-D78B-4DFC-AD3E-0AF2EF0C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3A9D-0212-470E-AF14-69B168F450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E320-2822-489E-BDA1-232B36DF5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65;&#1080;&#1087;&#1082;&#1086;&#1074;&#1099;&#1077;_&#1084;&#1091;&#1079;&#1099;&#1082;&#1072;&#1083;&#1100;&#1085;&#1099;&#1077;_&#1080;&#1085;&#1089;&#1090;&#1088;&#1091;&#1084;&#1077;&#1085;&#1090;&#1099;" TargetMode="External"/><Relationship Id="rId4" Type="http://schemas.openxmlformats.org/officeDocument/2006/relationships/hyperlink" Target="http://ru.wikipedia.org/wiki/&#1052;&#1091;&#1079;&#1099;&#1082;&#1072;&#1083;&#1100;&#1085;&#1099;&#1081;_&#1080;&#1085;&#1089;&#1090;&#1088;&#1091;&#1084;&#1077;&#1085;&#1090;" TargetMode="External"/><Relationship Id="rId5" Type="http://schemas.openxmlformats.org/officeDocument/2006/relationships/hyperlink" Target="http://ru.wikipedia.org/wiki/&#1057;&#1086;&#1083;&#1086;" TargetMode="External"/><Relationship Id="rId6" Type="http://schemas.openxmlformats.org/officeDocument/2006/relationships/hyperlink" Target="http://ru.wikipedia.org/wiki/&#1052;&#1091;&#1079;&#1099;&#1082;&#1072;" TargetMode="External"/><Relationship Id="rId7" Type="http://schemas.openxmlformats.org/officeDocument/2006/relationships/hyperlink" Target="http://ru.wikipedia.org/wiki/&#1041;&#1083;&#1102;&#1079;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резентация на тему: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Портрет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одного слов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15772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еника 6б класса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Школы № 154 г. Екатеринбург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ройного Артура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Учитель Горбачева М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Rockwell Extra Bold"/>
              </a:rPr>
              <a:t>Гитар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421000"/>
            <a:ext cx="338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итá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трунны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щипковы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музыкальный инструмен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дин из самых распространённых в мире. Применяется в качестве аккомпанирующего ил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сольно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нструмента во многих музыкальных стилях и направлениях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музы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являясь основным инструментом в таких музыкальных стилях, как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блюз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кантри, фламенко, рок-музыка, иногда джаз и 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5148360" y="1052640"/>
            <a:ext cx="2981160" cy="52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7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3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Состав гитар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51640" y="1988640"/>
            <a:ext cx="324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итара состоит из трёх част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ол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и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рп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518472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Виды гит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2825400">
            <a:off x="1383840" y="1431360"/>
            <a:ext cx="1467000" cy="2581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20712000">
            <a:off x="4787640" y="1197000"/>
            <a:ext cx="3433680" cy="2576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 rot="1610400">
            <a:off x="4571640" y="3716280"/>
            <a:ext cx="2708280" cy="270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 rot="20413200">
            <a:off x="250920" y="3933720"/>
            <a:ext cx="3240000" cy="189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3645000"/>
            <a:ext cx="2700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Акуст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3645000"/>
            <a:ext cx="30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Электрогит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877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Двойна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6021360"/>
            <a:ext cx="252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Басгит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Великие исполнит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109692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292428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Фернандо 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940040" y="1413000"/>
            <a:ext cx="1047600" cy="144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8000" y="292428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Маттео Каркасс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90920" y="1413000"/>
            <a:ext cx="1946160" cy="143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1280" y="292428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Эмилио Пух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1150920" cy="1438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40360" y="2997360"/>
            <a:ext cx="1079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Франсиско Тарре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539120" y="1413000"/>
            <a:ext cx="1136520" cy="143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96360" y="2997360"/>
            <a:ext cx="10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Андрес Сего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539640" y="3500280"/>
            <a:ext cx="1662120" cy="251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5950080"/>
            <a:ext cx="1079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Арм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2771640" y="3429000"/>
            <a:ext cx="4200840" cy="252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11640" y="602136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Франсис Гой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пасибо за внима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3:39:24Z</dcterms:created>
  <dc:creator>Тройной</dc:creator>
  <dc:description/>
  <dc:language>en-US</dc:language>
  <cp:lastModifiedBy>Горбачова</cp:lastModifiedBy>
  <dcterms:modified xsi:type="dcterms:W3CDTF">2012-01-03T13:44:16Z</dcterms:modified>
  <cp:revision>17</cp:revision>
  <dc:subject/>
  <dc:title>Портрет одного слова  Ученика Тройного Артура 6б класс</dc:title>
</cp:coreProperties>
</file>