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BC3-E80A-430A-8F79-D56C1806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249-227C-47E8-8456-CD6C028E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517-5042-4DA8-B7A1-A3FBBE32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D22-F733-4F43-B6A5-D6B5DEB4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9095-E9C9-42E5-A63B-EEB6A593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EA71-BC1A-46F9-810F-D95FEDDB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52C2-FBB8-413A-8CA8-4FA537A8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328E-740C-4B6C-80C6-B8A48A62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4646-5E19-4DF0-9BEB-5773401A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2BF5-627D-49E7-88BA-37824F0B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5A66-4E1F-4234-9573-EF60E9AD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E58-20CD-4674-9002-F2E569EB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F1D9-1EF2-45FF-BD91-FC902A09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07E6-8239-4F5F-A249-B257F6B1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5417-87E6-491F-8AB0-9E2150FC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80F8-67AF-43BB-8EB8-2AE1D82A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E843-EAA4-46FB-9955-8EA29245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8E0-078F-42E6-874B-BBDAC39A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933-B14B-4F89-A664-0C731C9A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D7D-0C8D-4041-8967-85D7CFBC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B0A-AE77-4B0F-BC63-B39A26A8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5FA-378F-4126-8AE8-688EBA7A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87B-4277-465D-9ABB-738D4C2A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59B-4DEB-4615-95DB-95302BB6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2400" y="762120"/>
            <a:ext cx="7097040" cy="6852960"/>
            <a:chOff x="-302400" y="762120"/>
            <a:chExt cx="7097040" cy="6852960"/>
          </a:xfrm>
        </p:grpSpPr>
        <p:grpSp>
          <p:nvGrpSpPr>
            <p:cNvPr id="1" name=""/>
            <p:cNvGrpSpPr/>
            <p:nvPr/>
          </p:nvGrpSpPr>
          <p:grpSpPr>
            <a:xfrm>
              <a:off x="-302400" y="762120"/>
              <a:ext cx="7097040" cy="6852960"/>
              <a:chOff x="-302400" y="762120"/>
              <a:chExt cx="7097040" cy="68529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302400" y="762120"/>
                <a:ext cx="7097040" cy="6852960"/>
                <a:chOff x="-302400" y="762120"/>
                <a:chExt cx="7097040" cy="685296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36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302400" y="762120"/>
                  <a:ext cx="7097040" cy="6852960"/>
                  <a:chOff x="-302400" y="762120"/>
                  <a:chExt cx="7097040" cy="685296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560" y="1227240"/>
                    <a:ext cx="629280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92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72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302400" y="762120"/>
                    <a:ext cx="7097040" cy="6852960"/>
                    <a:chOff x="-302400" y="762120"/>
                    <a:chExt cx="7097040" cy="685296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560" y="762120"/>
                      <a:ext cx="676908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302400" y="767880"/>
                      <a:ext cx="7085880" cy="6847200"/>
                      <a:chOff x="-302400" y="767880"/>
                      <a:chExt cx="7085880" cy="684720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560" y="979560"/>
                        <a:ext cx="654192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302400" y="767880"/>
                        <a:ext cx="7085880" cy="6847200"/>
                        <a:chOff x="-302400" y="767880"/>
                        <a:chExt cx="7085880" cy="684720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39560" y="929880"/>
                          <a:ext cx="322200" cy="3605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0800" y="2611080"/>
                          <a:ext cx="2413080" cy="196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200" y="2223720"/>
                          <a:ext cx="2406600" cy="234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3760" y="1739520"/>
                          <a:ext cx="2417760" cy="2816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37800" y="1169640"/>
                          <a:ext cx="2408040" cy="3373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520" y="767880"/>
                          <a:ext cx="1401840" cy="3767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5200" y="2975040"/>
                          <a:ext cx="2390760" cy="161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0520" y="3286080"/>
                          <a:ext cx="2392560" cy="1325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7800" y="4745160"/>
                          <a:ext cx="1791000" cy="492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1240" y="4522320"/>
                          <a:ext cx="2235240" cy="18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3760" y="3819240"/>
                          <a:ext cx="2395440" cy="83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5920" y="4821120"/>
                          <a:ext cx="976320" cy="1354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4080" y="4832280"/>
                          <a:ext cx="857160" cy="1449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3240" y="4832280"/>
                          <a:ext cx="743040" cy="1550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3560" y="4836960"/>
                          <a:ext cx="6206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0800" y="4848120"/>
                          <a:ext cx="482760" cy="176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28400" y="4851360"/>
                          <a:ext cx="343080" cy="187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3440" y="4871880"/>
                          <a:ext cx="8280" cy="1925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4680" y="4875120"/>
                          <a:ext cx="169920" cy="1922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760" y="4884840"/>
                          <a:ext cx="331560" cy="189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4280" y="4886280"/>
                          <a:ext cx="51264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360" y="4886280"/>
                          <a:ext cx="693720" cy="1908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520" y="4886280"/>
                          <a:ext cx="893880" cy="189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0960"/>
                          <a:ext cx="1103400" cy="189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7360" y="4884840"/>
                          <a:ext cx="134784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680" y="4879800"/>
                          <a:ext cx="1623960" cy="191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3960"/>
                          <a:ext cx="1942920" cy="1922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360"/>
                          <a:ext cx="2359080" cy="1936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560" y="4842000"/>
                          <a:ext cx="286092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6040" y="4824360"/>
                          <a:ext cx="3498840" cy="196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040" y="4807080"/>
                          <a:ext cx="395784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440"/>
                          <a:ext cx="3994200" cy="1395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79560" y="4746600"/>
                          <a:ext cx="3910320" cy="65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760" y="3796920"/>
                          <a:ext cx="3219480" cy="887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8160"/>
                          <a:ext cx="2922840" cy="1379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56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302400" y="1260360"/>
                          <a:ext cx="6481800" cy="6354720"/>
                          <a:chOff x="-302400" y="1260360"/>
                          <a:chExt cx="6481800" cy="635472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6000" y="448704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3200" y="429372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1880" y="399708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69720" y="373824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2160" y="342000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0360" y="3166200"/>
                            <a:ext cx="154296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400" y="28933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440" y="2623680"/>
                            <a:ext cx="213660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0920" y="237060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6160" y="208764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20000">
                            <a:off x="1407240" y="1812960"/>
                            <a:ext cx="298476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780000">
                            <a:off x="1311840" y="1522800"/>
                            <a:ext cx="3252600" cy="5829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79480"/>
                          <a:ext cx="1319400" cy="281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880" y="2131560"/>
                          <a:ext cx="1766880" cy="246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680" y="1935000"/>
                          <a:ext cx="1554120" cy="264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600" y="2290680"/>
                          <a:ext cx="1976400" cy="231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4520" y="2467080"/>
                          <a:ext cx="2214360" cy="2147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600" y="2882880"/>
                          <a:ext cx="2536560" cy="1751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200" y="3094200"/>
                          <a:ext cx="2708280" cy="1550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8520" y="3556080"/>
                          <a:ext cx="3030480" cy="1117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49680" y="4041720"/>
                          <a:ext cx="3373200" cy="649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360" y="4376880"/>
                          <a:ext cx="3548160" cy="32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560" y="4701960"/>
                          <a:ext cx="3703680" cy="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70200" y="4724280"/>
                          <a:ext cx="3828960" cy="31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480" y="4768920"/>
                          <a:ext cx="3989520" cy="101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4160" y="4862520"/>
                          <a:ext cx="174600" cy="1922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5760" y="4809960"/>
                          <a:ext cx="1065240" cy="1256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4880" y="4797360"/>
                          <a:ext cx="1166760" cy="1162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7520" y="4789440"/>
                          <a:ext cx="1278000" cy="106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4560" y="4778280"/>
                          <a:ext cx="1374480" cy="966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7640" y="4772160"/>
                          <a:ext cx="1467000" cy="85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4960" y="4761000"/>
                          <a:ext cx="1576440" cy="74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1200" y="4751280"/>
                          <a:ext cx="1684080" cy="621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3400" y="4734000"/>
                          <a:ext cx="1889280" cy="349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1000" y="4724280"/>
                          <a:ext cx="2004840" cy="187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5720" y="4711680"/>
                          <a:ext cx="212220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4800" y="4295880"/>
                          <a:ext cx="2367000" cy="395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3760" y="4060440"/>
                          <a:ext cx="2400480" cy="609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2320" y="3557160"/>
                          <a:ext cx="2394000" cy="108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0360" y="971640"/>
                          <a:ext cx="2098800" cy="3566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160" y="829800"/>
                          <a:ext cx="1758960" cy="3706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4800" y="785880"/>
                          <a:ext cx="1022400" cy="3743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5800" y="838080"/>
                          <a:ext cx="689040" cy="369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520" y="1041480"/>
                          <a:ext cx="4680" cy="349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040" y="1164960"/>
                          <a:ext cx="304920" cy="3382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200" y="1309680"/>
                          <a:ext cx="585720" cy="324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600" y="1459080"/>
                          <a:ext cx="846000" cy="3109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200" y="1625760"/>
                          <a:ext cx="1095480" cy="2947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5200" y="2676240"/>
                <a:ext cx="5019840" cy="4115160"/>
                <a:chOff x="25200" y="2676240"/>
                <a:chExt cx="5019840" cy="411516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5680" y="2676240"/>
                  <a:ext cx="2349360" cy="195084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3280" y="6049440"/>
                  <a:ext cx="357120" cy="73836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5200" y="4278240"/>
                  <a:ext cx="2094120" cy="2513160"/>
                  <a:chOff x="25200" y="4278240"/>
                  <a:chExt cx="2094120" cy="25131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28600" y="6053040"/>
                    <a:ext cx="27792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732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4040" y="6649920"/>
                    <a:ext cx="1252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1600" y="5754240"/>
                    <a:ext cx="84780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398520" y="4854240"/>
                    <a:ext cx="163440" cy="903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5200" y="4708080"/>
                    <a:ext cx="376200" cy="1494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1240" y="4854600"/>
                    <a:ext cx="288720" cy="3110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5120" y="5451480"/>
                    <a:ext cx="2826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30240" y="4278240"/>
                    <a:ext cx="22320" cy="396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080000">
                <a:off x="3155760" y="30481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00000">
                <a:off x="3117600" y="415116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0000">
                <a:off x="1616400" y="427680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0000">
                <a:off x="1092240" y="27766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5240" y="2104920"/>
                <a:ext cx="491400" cy="491760"/>
                <a:chOff x="4755240" y="2104920"/>
                <a:chExt cx="491400" cy="491760"/>
              </a:xfrm>
            </p:grpSpPr>
            <p:sp>
              <p:nvSpPr>
                <p:cNvPr id="119" name=""/>
                <p:cNvSpPr/>
                <p:nvPr/>
              </p:nvSpPr>
              <p:spPr>
                <a:xfrm rot="2820000">
                  <a:off x="4770360" y="2330280"/>
                  <a:ext cx="315720" cy="17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76961"/>
                    </a:gs>
                    <a:gs pos="100000">
                      <a:srgbClr val="4d4f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7200" y="2227320"/>
                  <a:ext cx="25416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76961"/>
                    </a:gs>
                    <a:gs pos="100000">
                      <a:srgbClr val="4d4f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50000" y="22161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76961"/>
                    </a:gs>
                    <a:gs pos="100000">
                      <a:srgbClr val="4d4f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840"/>
                  <a:ext cx="227160" cy="22068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76961"/>
                    </a:gs>
                    <a:gs pos="100000">
                      <a:srgbClr val="4d4f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7720" y="2104920"/>
                  <a:ext cx="8892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76961"/>
                    </a:gs>
                    <a:gs pos="100000">
                      <a:srgbClr val="4d4f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BB015D-2A50-4118-AE3A-EFBAD4059F3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26160" y="798480"/>
            <a:ext cx="7096680" cy="6853680"/>
            <a:chOff x="-326160" y="798480"/>
            <a:chExt cx="7096680" cy="6853680"/>
          </a:xfrm>
        </p:grpSpPr>
        <p:grpSp>
          <p:nvGrpSpPr>
            <p:cNvPr id="166" name=""/>
            <p:cNvGrpSpPr/>
            <p:nvPr/>
          </p:nvGrpSpPr>
          <p:grpSpPr>
            <a:xfrm>
              <a:off x="-326160" y="798480"/>
              <a:ext cx="7096680" cy="6853680"/>
              <a:chOff x="-326160" y="798480"/>
              <a:chExt cx="7096680" cy="68536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26160" y="798480"/>
                <a:ext cx="7096680" cy="6853680"/>
                <a:chOff x="-326160" y="798480"/>
                <a:chExt cx="7096680" cy="68536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600" y="194004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26160" y="798480"/>
                  <a:ext cx="7096680" cy="6853680"/>
                  <a:chOff x="-326160" y="798480"/>
                  <a:chExt cx="7096680" cy="68536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3160" cy="55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1160" y="148284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720" cy="511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26160" y="798480"/>
                    <a:ext cx="7096680" cy="6853680"/>
                    <a:chOff x="-326160" y="798480"/>
                    <a:chExt cx="7096680" cy="685368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9080" cy="602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26160" y="804960"/>
                      <a:ext cx="7085880" cy="6847200"/>
                      <a:chOff x="-326160" y="804960"/>
                      <a:chExt cx="7085880" cy="684720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2280" cy="580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26160" y="804960"/>
                        <a:ext cx="7085880" cy="6847200"/>
                        <a:chOff x="-326160" y="804960"/>
                        <a:chExt cx="7085880" cy="684720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5800" y="966960"/>
                          <a:ext cx="322200" cy="360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960" y="2647800"/>
                          <a:ext cx="2413080" cy="1965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1440" y="2260080"/>
                          <a:ext cx="2406960" cy="234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0" y="1775880"/>
                          <a:ext cx="2417760" cy="2816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4040" y="1206000"/>
                          <a:ext cx="2408040" cy="3373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5760" y="804960"/>
                          <a:ext cx="1401840" cy="376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1080" y="3011400"/>
                          <a:ext cx="2390760" cy="161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3240" y="3321000"/>
                          <a:ext cx="2392560" cy="1325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4040" y="4781520"/>
                          <a:ext cx="1791000" cy="492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77480" y="4559040"/>
                          <a:ext cx="2235240" cy="18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0" y="3855600"/>
                          <a:ext cx="2395440" cy="83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1800" y="4857840"/>
                          <a:ext cx="976320" cy="135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0320" y="4869000"/>
                          <a:ext cx="857160" cy="1449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79480" y="4869000"/>
                          <a:ext cx="743040" cy="1550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09800" y="4873680"/>
                          <a:ext cx="620640" cy="1650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7040" y="4884840"/>
                          <a:ext cx="482760" cy="1765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4640" y="4888080"/>
                          <a:ext cx="343080" cy="187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0040" y="4908600"/>
                          <a:ext cx="7920" cy="1925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2360" y="4911840"/>
                          <a:ext cx="169920" cy="1922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10000" y="4921200"/>
                          <a:ext cx="331560" cy="189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30520" y="4923000"/>
                          <a:ext cx="51264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600" y="4923000"/>
                          <a:ext cx="693720" cy="1908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0760" y="4921200"/>
                          <a:ext cx="893520" cy="189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7680"/>
                          <a:ext cx="1103400" cy="189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3600" y="4921200"/>
                          <a:ext cx="134784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520"/>
                          <a:ext cx="1624320" cy="191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6720" y="4900680"/>
                          <a:ext cx="1943280" cy="1922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080" cy="193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800" y="4878360"/>
                          <a:ext cx="2860920" cy="1951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2280" y="4861080"/>
                          <a:ext cx="3498840" cy="196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280" y="4843440"/>
                          <a:ext cx="395748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200" cy="1395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5800" y="478296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3640"/>
                          <a:ext cx="3219480" cy="887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4880"/>
                          <a:ext cx="2922480" cy="1379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8000" cy="2806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26160" y="1297080"/>
                          <a:ext cx="6481800" cy="6355080"/>
                          <a:chOff x="-326160" y="1297080"/>
                          <a:chExt cx="6481800" cy="635508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2240" y="452376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9080" y="432864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812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596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400" y="345672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6600" y="3201120"/>
                            <a:ext cx="154296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6280" y="292968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4680" y="2658600"/>
                            <a:ext cx="213660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7160" y="2406960"/>
                            <a:ext cx="248148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2400" y="21229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20000">
                            <a:off x="138348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780000">
                            <a:off x="1288080" y="1559880"/>
                            <a:ext cx="3252960" cy="5829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6200"/>
                          <a:ext cx="1319040" cy="281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3120" y="2168640"/>
                          <a:ext cx="1766880" cy="2466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920" y="1971720"/>
                          <a:ext cx="1554120" cy="264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2840" y="2327040"/>
                          <a:ext cx="1976400" cy="2315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760" y="2503440"/>
                          <a:ext cx="2214360" cy="2147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79840" y="2919240"/>
                          <a:ext cx="2536560" cy="1751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2440" y="3130560"/>
                          <a:ext cx="2708280" cy="1550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760" y="3592080"/>
                          <a:ext cx="3030480" cy="111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5560" y="4078080"/>
                          <a:ext cx="3373560" cy="649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600" y="4411800"/>
                          <a:ext cx="3547800" cy="32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8800" y="4736880"/>
                          <a:ext cx="3703680" cy="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440" y="4761000"/>
                          <a:ext cx="3828960" cy="31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3720" y="4805280"/>
                          <a:ext cx="3989520" cy="101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0400" y="4898880"/>
                          <a:ext cx="174600" cy="1922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2000" y="4846680"/>
                          <a:ext cx="1065240" cy="1255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1120" y="4834080"/>
                          <a:ext cx="1167120" cy="1162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3760" y="4826160"/>
                          <a:ext cx="127800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0080" y="4815000"/>
                          <a:ext cx="1374840" cy="96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3880" y="4808520"/>
                          <a:ext cx="1467000" cy="858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1200" y="4797360"/>
                          <a:ext cx="1576440" cy="74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6720" y="4788000"/>
                          <a:ext cx="16844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39640" y="4770360"/>
                          <a:ext cx="1889280" cy="349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7240" y="4761000"/>
                          <a:ext cx="2004840" cy="18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1960" y="4746600"/>
                          <a:ext cx="212256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1040" y="4332240"/>
                          <a:ext cx="2367000" cy="395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0" y="4097160"/>
                          <a:ext cx="2400480" cy="609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-1800" y="3593880"/>
                          <a:ext cx="2393640" cy="108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6600" y="1006560"/>
                          <a:ext cx="2098800" cy="3566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8400" y="866880"/>
                          <a:ext cx="1758960" cy="37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1040" y="822240"/>
                          <a:ext cx="1022400" cy="3743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2040" y="874800"/>
                          <a:ext cx="689040" cy="369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2760" y="1077480"/>
                          <a:ext cx="4680" cy="3497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280" y="1201320"/>
                          <a:ext cx="304920" cy="3382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4440" y="1345680"/>
                          <a:ext cx="585720" cy="3248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840" y="1495080"/>
                          <a:ext cx="846000" cy="311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1440" y="1660680"/>
                          <a:ext cx="1095480" cy="2947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1440" y="2712960"/>
                <a:ext cx="5019840" cy="4114800"/>
                <a:chOff x="1440" y="2712960"/>
                <a:chExt cx="5019840" cy="411480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1920" y="2712960"/>
                  <a:ext cx="2349360" cy="19512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79520" y="6086520"/>
                  <a:ext cx="357120" cy="73800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1440" y="4314960"/>
                  <a:ext cx="2093760" cy="2512800"/>
                  <a:chOff x="1440" y="4314960"/>
                  <a:chExt cx="2093760" cy="25128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4840" y="6089760"/>
                    <a:ext cx="277920" cy="2966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520"/>
                    <a:ext cx="1596960" cy="17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69560" y="6686640"/>
                    <a:ext cx="12564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37840" y="5791320"/>
                    <a:ext cx="847800" cy="2966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4760" y="4890600"/>
                    <a:ext cx="163440" cy="903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1440" y="4745160"/>
                    <a:ext cx="376560" cy="1490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7480" y="4890600"/>
                    <a:ext cx="288720" cy="3114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1360" y="5487840"/>
                    <a:ext cx="2826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6480" y="4314960"/>
                    <a:ext cx="21960" cy="396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440" y="2141640"/>
              <a:ext cx="5221440" cy="4680000"/>
              <a:chOff x="1440" y="2141640"/>
              <a:chExt cx="522144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440" y="425304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40" y="3624120"/>
                <a:ext cx="2656080" cy="319752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080000">
                <a:off x="3131640" y="3084480"/>
                <a:ext cx="214812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00000">
                <a:off x="3093480" y="4187160"/>
                <a:ext cx="351972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0000">
                <a:off x="1592640" y="431388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0000">
                <a:off x="1068480" y="281304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31480" y="2141640"/>
                <a:ext cx="491400" cy="491760"/>
                <a:chOff x="4731480" y="2141640"/>
                <a:chExt cx="491400" cy="491760"/>
              </a:xfrm>
            </p:grpSpPr>
            <p:sp>
              <p:nvSpPr>
                <p:cNvPr id="284" name=""/>
                <p:cNvSpPr/>
                <p:nvPr/>
              </p:nvSpPr>
              <p:spPr>
                <a:xfrm rot="2820000">
                  <a:off x="4746600" y="2366640"/>
                  <a:ext cx="316080" cy="17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76961"/>
                    </a:gs>
                    <a:gs pos="100000">
                      <a:srgbClr val="4d4f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440" y="2263680"/>
                  <a:ext cx="25416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76961"/>
                    </a:gs>
                    <a:gs pos="100000">
                      <a:srgbClr val="4d4f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25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76961"/>
                    </a:gs>
                    <a:gs pos="100000">
                      <a:srgbClr val="4d4f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9560"/>
                  <a:ext cx="227160" cy="22068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76961"/>
                    </a:gs>
                    <a:gs pos="100000">
                      <a:srgbClr val="4d4f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3960" y="2141640"/>
                  <a:ext cx="88920" cy="824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76961"/>
                    </a:gs>
                    <a:gs pos="100000">
                      <a:srgbClr val="4d4f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4A4DFC-3CDF-4133-A2F4-F2F1F6A3DA0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tionary.org/wiki/&#1090;&#1080;&#1096;&#1080;&#1085;&#1072;" TargetMode="External"/><Relationship Id="rId2" Type="http://schemas.openxmlformats.org/officeDocument/2006/relationships/hyperlink" Target="http://ru.wiktionary.org/wiki/&#1090;&#1080;&#1096;&#1100;" TargetMode="External"/><Relationship Id="rId3" Type="http://schemas.openxmlformats.org/officeDocument/2006/relationships/hyperlink" Target="http://ru.wiktionary.org/wiki/&#1073;&#1077;&#1079;&#1084;&#1086;&#1083;&#1074;&#1080;&#1077;" TargetMode="External"/><Relationship Id="rId4" Type="http://schemas.openxmlformats.org/officeDocument/2006/relationships/hyperlink" Target="http://ru.wiktionary.org/wiki/&#1087;&#1086;&#1082;&#1086;&#1081;" TargetMode="External"/><Relationship Id="rId5" Type="http://schemas.openxmlformats.org/officeDocument/2006/relationships/hyperlink" Target="http://ru.wiktionary.org/wiki/&#1073;&#1077;&#1079;&#1088;&#1072;&#1079;&#1083;&#1080;&#1095;&#1080;&#1077;" TargetMode="External"/><Relationship Id="rId6" Type="http://schemas.openxmlformats.org/officeDocument/2006/relationships/hyperlink" Target="http://ru.wiktionary.org/wiki/&#1087;&#1086;&#1082;&#1086;&#1081;" TargetMode="External"/><Relationship Id="rId7" Type="http://schemas.openxmlformats.org/officeDocument/2006/relationships/hyperlink" Target="http://ru.wiktionary.org/wiki/&#1084;&#1080;&#1088;" TargetMode="External"/><Relationship Id="rId8" Type="http://schemas.openxmlformats.org/officeDocument/2006/relationships/hyperlink" Target="http://ru.wiktionary.org/wiki/&#1089;&#1080;&#1075;&#1085;&#1072;&#1083;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tionary.org/wiki/&#1075;&#1072;&#1084;" TargetMode="External"/><Relationship Id="rId2" Type="http://schemas.openxmlformats.org/officeDocument/2006/relationships/hyperlink" Target="http://ru.wiktionary.org/wiki/&#1075;&#1091;&#1083;" TargetMode="External"/><Relationship Id="rId3" Type="http://schemas.openxmlformats.org/officeDocument/2006/relationships/hyperlink" Target="http://ru.wiktionary.org/wiki/&#1075;&#1074;&#1072;&#1083;&#1090;" TargetMode="External"/><Relationship Id="rId4" Type="http://schemas.openxmlformats.org/officeDocument/2006/relationships/hyperlink" Target="http://ru.wiktionary.org/wiki/&#1075;&#1088;&#1086;&#1093;&#1086;&#1090;" TargetMode="External"/><Relationship Id="rId5" Type="http://schemas.openxmlformats.org/officeDocument/2006/relationships/hyperlink" Target="http://ru.wiktionary.org/wiki/&#1096;&#1091;&#1084;&#1080;&#1093;&#1072;" TargetMode="External"/><Relationship Id="rId6" Type="http://schemas.openxmlformats.org/officeDocument/2006/relationships/hyperlink" Target="http://ru.wiktionary.org/wiki/&#1086;&#1078;&#1080;&#1074;&#1083;&#1077;&#1085;&#1080;&#1077;" TargetMode="External"/><Relationship Id="rId7" Type="http://schemas.openxmlformats.org/officeDocument/2006/relationships/hyperlink" Target="http://ru.wiktionary.org/wiki/&#1089;&#1091;&#1084;&#1072;&#1090;&#1086;&#1093;&#1072;" TargetMode="External"/><Relationship Id="rId8" Type="http://schemas.openxmlformats.org/officeDocument/2006/relationships/hyperlink" Target="http://ru.wiktionary.org/wiki/&#1089;&#1089;&#1086;&#1088;&#1072;" TargetMode="External"/><Relationship Id="rId9" Type="http://schemas.openxmlformats.org/officeDocument/2006/relationships/hyperlink" Target="http://ru.wiktionary.org/wiki/&#1073;&#1088;&#1072;&#1085;&#1100;" TargetMode="External"/><Relationship Id="rId10" Type="http://schemas.openxmlformats.org/officeDocument/2006/relationships/hyperlink" Target="http://ru.wiktionary.org/wiki/&#1089;&#1082;&#1072;&#1085;&#1076;&#1072;&#1083;" TargetMode="External"/><Relationship Id="rId11" Type="http://schemas.openxmlformats.org/officeDocument/2006/relationships/hyperlink" Target="http://ru.wiktionary.org/wiki/&#1087;&#1086;&#1084;&#1077;&#1093;&#1072;" TargetMode="External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908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 u="sng">
                <a:solidFill>
                  <a:srgbClr val="92bedc"/>
                </a:solidFill>
                <a:uFillTx/>
                <a:latin typeface="Georgia"/>
              </a:rPr>
              <a:t>ПРЕДСТАВЛЕНИЕ СЛОВА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92bedc"/>
                </a:solidFill>
                <a:uFillTx/>
                <a:latin typeface="Georgia"/>
              </a:rPr>
              <a:t>***ШУМ***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-147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92bedc"/>
                </a:solidFill>
                <a:uFillTx/>
                <a:latin typeface="Georgia"/>
              </a:rPr>
              <a:t>ЛЕКСИЧЕСКОЕ ЗНАЧЕНИЕ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33cc33"/>
                </a:solidFill>
                <a:uFillTx/>
                <a:latin typeface="Georgia"/>
              </a:rPr>
              <a:t>Смысл слова шум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Georgia"/>
              </a:rPr>
              <a:t>1.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Звуки, слившиеся внестройное, обычно громкое звучание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Шум поезда. Без шума двигаться(бесшумно). Дети подняли шум в зал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Georgia"/>
              </a:rPr>
              <a:t>2.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Оживленное обсуждение, вызванное повышенным интересом к чему-нибуд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татья вызвала шу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Georgia"/>
              </a:rPr>
              <a:t>3.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Звук с неясно выраженной тональностью (спец.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Шумы в сердц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Georgia"/>
              </a:rPr>
              <a:t>4.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Громкая ссора (разг.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У соседей опять шу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Что за шум, а драки нет? (прост, шутл.)- что случилось, почему волнение, из-за чего шум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2bedc"/>
                </a:solidFill>
                <a:uFillTx/>
                <a:latin typeface="Arial"/>
              </a:rPr>
              <a:t>ОДНОЗНАЧНОЕ ИЛИ МНОГОЗНАЧНОЕ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8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400" spc="-1" strike="noStrike" u="sng">
                <a:solidFill>
                  <a:srgbClr val="33cc33"/>
                </a:solidFill>
                <a:uFillTx/>
                <a:latin typeface="Georgia"/>
              </a:rPr>
              <a:t>Многозначное</a:t>
            </a:r>
            <a:r>
              <a:rPr b="1" i="1" lang="ru-RU" sz="3400" spc="-1" strike="noStrike">
                <a:solidFill>
                  <a:srgbClr val="ffffff"/>
                </a:solidFill>
                <a:latin typeface="Georgia"/>
              </a:rPr>
              <a:t>, потому что у этого слова много лексических значений, </a:t>
            </a:r>
            <a:r>
              <a:rPr b="1" i="1" lang="ru-RU" sz="3400" spc="-1" strike="noStrike" u="sng">
                <a:solidFill>
                  <a:srgbClr val="33cc33"/>
                </a:solidFill>
                <a:uFillTx/>
                <a:latin typeface="Georgia"/>
              </a:rPr>
              <a:t>например</a:t>
            </a:r>
            <a:r>
              <a:rPr b="1" i="1" lang="ru-RU" sz="3400" spc="-1" strike="noStrike">
                <a:solidFill>
                  <a:srgbClr val="ffffff"/>
                </a:solidFill>
                <a:latin typeface="Georgia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8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33cc33"/>
                </a:solidFill>
                <a:latin typeface="Georgia"/>
              </a:rPr>
              <a:t>1.</a:t>
            </a:r>
            <a:r>
              <a:rPr b="1" i="1" lang="ru-RU" sz="3400" spc="-1" strike="noStrike">
                <a:solidFill>
                  <a:srgbClr val="ffffff"/>
                </a:solidFill>
                <a:latin typeface="Georgia"/>
              </a:rPr>
              <a:t>Сначала всё шло мирно, но потом поднялся шум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8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33cc33"/>
                </a:solidFill>
                <a:latin typeface="Georgia"/>
              </a:rPr>
              <a:t>2.</a:t>
            </a:r>
            <a:r>
              <a:rPr b="1" i="1" lang="ru-RU" sz="3400" spc="-1" strike="noStrike">
                <a:solidFill>
                  <a:srgbClr val="ffffff"/>
                </a:solidFill>
                <a:latin typeface="Georgia"/>
              </a:rPr>
              <a:t>Его поступок наделал шуму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8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33cc33"/>
                </a:solidFill>
                <a:latin typeface="Georgia"/>
              </a:rPr>
              <a:t>3.</a:t>
            </a:r>
            <a:r>
              <a:rPr b="1" i="1" lang="ru-RU" sz="3400" spc="-1" strike="noStrike">
                <a:solidFill>
                  <a:srgbClr val="ffffff"/>
                </a:solidFill>
                <a:latin typeface="Georgia"/>
              </a:rPr>
              <a:t>Шум автомобиля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33cc33"/>
                </a:solidFill>
                <a:latin typeface="Georgia"/>
              </a:rPr>
              <a:t>4.</a:t>
            </a:r>
            <a:r>
              <a:rPr b="1" i="1" lang="ru-RU" sz="3400" spc="-1" strike="noStrike">
                <a:solidFill>
                  <a:srgbClr val="ffffff"/>
                </a:solidFill>
                <a:latin typeface="Georgia"/>
              </a:rPr>
              <a:t>Шумы забивают передачу и т.д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 u="sng">
                <a:solidFill>
                  <a:srgbClr val="33cc33"/>
                </a:solidFill>
                <a:uFillTx/>
                <a:latin typeface="Georgia"/>
              </a:rPr>
              <a:t>АНТОНИМЫ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тишина</a:t>
            </a: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, </a:t>
            </a:r>
            <a:r>
              <a:rPr b="0" lang="ru-RU" sz="40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тишь</a:t>
            </a: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, </a:t>
            </a:r>
            <a:r>
              <a:rPr b="0" lang="ru-RU" sz="40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безмолвие</a:t>
            </a: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, </a:t>
            </a:r>
            <a:r>
              <a:rPr b="0" lang="ru-RU" sz="4000" spc="-1" strike="noStrike" u="sng">
                <a:solidFill>
                  <a:srgbClr val="ccccff"/>
                </a:solidFill>
                <a:uFillTx/>
                <a:latin typeface="Georgia"/>
                <a:hlinkClick r:id="rId4"/>
              </a:rPr>
              <a:t>поко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Georgia"/>
                <a:hlinkClick r:id="rId5"/>
              </a:rPr>
              <a:t>безразличи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Georgia"/>
                <a:hlinkClick r:id="rId6"/>
              </a:rPr>
              <a:t>покой</a:t>
            </a: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, </a:t>
            </a:r>
            <a:r>
              <a:rPr b="0" lang="ru-RU" sz="4000" spc="-1" strike="noStrike" u="sng">
                <a:solidFill>
                  <a:srgbClr val="ccccff"/>
                </a:solidFill>
                <a:uFillTx/>
                <a:latin typeface="Georgia"/>
                <a:hlinkClick r:id="rId7"/>
              </a:rPr>
              <a:t>ми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Georgia"/>
                <a:hlinkClick r:id="rId8"/>
              </a:rPr>
              <a:t>сигна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33cc33"/>
                </a:solidFill>
                <a:uFillTx/>
                <a:latin typeface="Georgia"/>
              </a:rPr>
              <a:t>СИНОНИМИЧЕСКИЙ РЯД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гам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, 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гул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, 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гвалт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, 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Georgia"/>
                <a:hlinkClick r:id="rId4"/>
              </a:rPr>
              <a:t>грохо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Georgia"/>
                <a:hlinkClick r:id="rId5"/>
              </a:rPr>
              <a:t>шумиха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, 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Georgia"/>
                <a:hlinkClick r:id="rId6"/>
              </a:rPr>
              <a:t>оживление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,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Georgia"/>
                <a:hlinkClick r:id="rId7"/>
              </a:rPr>
              <a:t>суматох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Georgia"/>
                <a:hlinkClick r:id="rId8"/>
              </a:rPr>
              <a:t>ссора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, 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Georgia"/>
                <a:hlinkClick r:id="rId9"/>
              </a:rPr>
              <a:t>брань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, 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Georgia"/>
                <a:hlinkClick r:id="rId10"/>
              </a:rPr>
              <a:t>сканда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Georgia"/>
                <a:hlinkClick r:id="rId11"/>
              </a:rPr>
              <a:t>помех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92bedc"/>
                </a:solidFill>
                <a:uFillTx/>
                <a:latin typeface="Georgia"/>
              </a:rPr>
              <a:t>ИСКОННО РУССКОЕ ИЛИ ЗАИМСТВОВАННОЕ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0000"/>
              </a:lnSpc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33cc33"/>
                </a:solidFill>
                <a:uFillTx/>
                <a:latin typeface="Georgia"/>
              </a:rPr>
              <a:t>произошли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7600" indent="-327600">
              <a:lnSpc>
                <a:spcPct val="10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др.-русск., ст.-слав.- шоумъ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7600" indent="-327600">
              <a:lnSpc>
                <a:spcPct val="10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русск.- шум, шуметь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7600" indent="-327600">
              <a:lnSpc>
                <a:spcPct val="10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укр.- шум, шуміти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7600" indent="-327600">
              <a:lnSpc>
                <a:spcPct val="10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белор.- шум, шумець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7600" indent="-327600">
              <a:lnSpc>
                <a:spcPct val="10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болг.- шу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7600" indent="-327600">
              <a:lnSpc>
                <a:spcPct val="10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Это слово исконно русско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112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2bedc"/>
                </a:solidFill>
                <a:uFillTx/>
                <a:latin typeface="Georgia"/>
              </a:rPr>
              <a:t>ПРИМЕРЫ УПОТРЕБЛЕНИЯ В ХУДОЖЕСТВЕННЫХ ПРОИЗВЕДЕНИЯХ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33cc33"/>
                </a:solidFill>
                <a:uFillTx/>
                <a:latin typeface="Georgia"/>
              </a:rPr>
              <a:t>И.С.Тургенев «Бежин луг»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«Кругом не слышалось почти никакого шума… Лишь изредка в близкой реке с внезапной звучностью плеснёт большая рыба и прибрежный тростник слабо зашумит, едва поколебленный набежавшей волной…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8:02:25Z</dcterms:created>
  <dc:creator>Admin</dc:creator>
  <dc:description/>
  <dc:language>en-US</dc:language>
  <cp:lastModifiedBy>Admin</cp:lastModifiedBy>
  <dcterms:modified xsi:type="dcterms:W3CDTF">2011-12-07T19:07:52Z</dcterms:modified>
  <cp:revision>2</cp:revision>
  <dc:subject/>
  <dc:title>ПРЕДСТАВЛЕНИЕ СЛОВА</dc:title>
</cp:coreProperties>
</file>