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B3F06-175E-4688-A564-2C9A20308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53A6E-D125-471E-9C0A-0F46FB2CC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6637C-4901-4D14-8A22-F714CECB3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14D3B-79F6-4204-A5EC-1969380CB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BFA22-E7A2-4F47-9459-D9B183ECD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024E4-7B81-4CC8-ADAF-FB6E08466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D8DAF-F163-4249-B351-F59CA20FF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48564-9242-490D-8D92-D9E0F75FA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B4CD7-8C5D-4A7B-B533-5FA5F38E1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A7A3F-79E8-439B-8B9B-5BB0F0F28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5FE4F-78AE-42DA-BA07-683FA281E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2EE05-29DA-45EC-B999-FC0C8EF39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95337-7A79-402E-A60F-D5E85B79F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BCDAA-EBE9-4387-BDFE-0D3B85483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B3627-C05C-49D4-A0F9-82C1AEB1D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586CF-D366-4343-A891-7D370387F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CA4BF-1EA7-4ED3-B7D1-AFAC51A26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AFFC8-BF31-4477-B079-3878B7A79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3D95F-D57F-4E8B-8579-6FEC9E58E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3C969-9C90-407E-90BB-6B344E5A7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A4856-6BE7-4F6B-8813-EB1CA690D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A3B75-481E-4165-8CD0-9FA2E13F1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72250-A978-4020-B05E-4B6D55975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1B3B6-DC06-4BB5-B00A-03D4F872E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100000">
              <a:srgbClr val="b9b9b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39A90-BB8A-4CCF-BDC5-CDAB58FC8D5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100000">
              <a:srgbClr val="b9b9b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DA585-BA15-42C7-B39C-AC3224A17EB6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100000">
              <a:srgbClr val="b9b9b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ubTitle"/>
          </p:nvPr>
        </p:nvSpPr>
        <p:spPr>
          <a:xfrm>
            <a:off x="394920" y="764640"/>
            <a:ext cx="8209080" cy="56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ПСИХОМОТОРНАЯ АКТИВНОСТЬ КАК ПСИХОФИЗИОЛОГИЧЕСКАЯ ХАРАКТЕРИСТИКА СПОСОБНОСТЕЙ К ОБУЧЕНИЮ ДЕТЕЙ МЛАДШЕГО ШКОЛЬНОГО ВОЗРАСТА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ahoma"/>
              </a:rPr>
              <a:t>Учитель-логопед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ahoma"/>
              </a:rPr>
              <a:t>МОУ «Начальная школа – детский сад №1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ahoma"/>
              </a:rPr>
              <a:t>Карабчукова Ирина Викторовн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100000">
              <a:srgbClr val="b9b9b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Итоговые данные по типу построения графика: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восходящий тип графика у двоих учеников, что составляет 6,6% от количества учеников всего класса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промежуточный  тип графика – 21 ученик. Это 70%.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нисходящий тип графика – у 7 человек -  23,3%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100000">
              <a:srgbClr val="b9b9b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405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100000">
              <a:srgbClr val="b9b9b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324000" y="54900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Определение работоспособности по цифровым показателям и процентному коэффициенту – показатели работоспособности учеников на уроках: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324000" y="235872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высокий уровень работоспособности  имеют 4 человека, это 13,3%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условно высокий уровень работоспособности у 6 учеников  -20%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средний уровень работоспособности выявился  у 4 детей – 13,3%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низкий уровень работоспособности  характерен для 16 младших школьников, что составляет 53,3%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100000">
              <a:srgbClr val="b9b9b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41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100000">
              <a:srgbClr val="b9b9b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324000" y="4759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Процентные показатели психомоторной активности обучающихся: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324000" y="206028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ПМА в норме (итоговый процент по формуле ПМА – от 20 до 25) у четырех обучающихся класса, что составляет13,3%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ПМА несколько выше нормы (итоговый по формуле ПМА  - от 25 до 30) – 6 человек- 20%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ПМА выше нормы (показатель от 30 до 35) имеют  4 ученика -13,3%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ПМА значительно выше нормы (показатель свыше 35) у 16 младших школьников -53,3%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100000">
              <a:srgbClr val="b9b9b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100000">
              <a:srgbClr val="b9b9b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0" y="404640"/>
            <a:ext cx="8842320" cy="14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Определение  степени работоспособности нервной системы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250920" y="235872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работоспособность  в норме у четырех человек -13,3%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признаки утомления нервной системы выявлены у 8 девочек и мальчиков -26,6%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сильное переутомление имеют также восемь детей – 26.6%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признаки истощения нервной системы наметились у 10 учеников класса, это 33,3%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100000">
              <a:srgbClr val="b9b9b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0" y="60480"/>
          <a:ext cx="9144000" cy="6746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0480"/>
                    <a:ext cx="9144000" cy="674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100000">
              <a:srgbClr val="b9b9b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250560" y="228600"/>
            <a:ext cx="8591400" cy="17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Рекомендации педагогам по работе  с учениками со слабой нервной системой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250920" y="235872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-597240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е ставить учеников в ситуации, требующие быстрого ответа, предоставляя им  достаточное время на обдумывание и подготовку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97240" indent="-597240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о возможности предлагать отвечать не в устной, а в письменной форме, давая время  на проверки и исправления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97240" indent="-597240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о возможности спрашивать в начале урока и желательно, в конце учебного дня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97240" indent="-597240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Чаще поощрять  учеников, в том числе  за старательность, даже если результат далек от желаемого, в случае неудачи оценивать  с максимальной деликатностью, объясняя, что неудачи в жизни - явления  достаточно частые и не повод для отчаяния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97240" indent="-597240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Также учителям рекомендовано дозировать учебную нагрузку через индивидуальные домашние задания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97240" indent="-597240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А ученикам  даны разъяснения  по эффективному использованию знаний максимального  теппинг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100000">
              <a:srgbClr val="b9b9b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100000">
              <a:srgbClr val="b9b9b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ВВЕДЕНИЕ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301680" y="1600200"/>
            <a:ext cx="85406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    </a:t>
            </a:r>
            <a:r>
              <a:rPr b="0" lang="en-US" sz="3200" spc="-1" strike="noStrike">
                <a:solidFill>
                  <a:srgbClr val="990033"/>
                </a:solidFill>
                <a:latin typeface="Tahoma"/>
              </a:rPr>
              <a:t>Изучение становления и развития многоуровневой структуры психомоторной организации человека является одним из важнейших направлений современной психологии. Исследуются взаимосвязи развития двигательных качеств и психических процессов, интеллекта и физической подготовленности, влияние повышенного двигательного режима на умственную работоспособность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7" name=""/>
          <p:cNvSpPr/>
          <p:nvPr/>
        </p:nvSpPr>
        <p:spPr>
          <a:xfrm>
            <a:off x="324000" y="1628640"/>
            <a:ext cx="8540640" cy="449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100000">
              <a:srgbClr val="b9b9b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2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100000">
              <a:srgbClr val="b9b9b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100000">
              <a:srgbClr val="b9b9b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ВЫВОДЫ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В психолого-педагогической практике распространено мнение о том, что основное направление  работы с учащимися  с низкой успешностью обучения должно заключаться, прежде всего, в формировании  у них исключительно  учебных умений и  навыков, накоплении суммы знаний. Мы же в своей работе пришли к выводу, что основополагающим фактором  успешности в обучении  детей является совершенствование психомоторных функций, а также немаловажную роль  играет значимость  индивидуального подхода к детям  с различным уровнем развития  и состояния психомоторной активност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100000">
              <a:srgbClr val="b9b9b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Список литературы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Дубровинская Н.В., Фарбер Д.А., Безруких М.М. Психофизиология ребенка. – М., 200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Рыжкова В.В. Развитие психомоторики как фактор успешного обучения // Педагогический вестник Кубани. Краснодар, 2006., №1 (35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100000">
              <a:srgbClr val="b9b9b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/>
          </p:nvPr>
        </p:nvSpPr>
        <p:spPr>
          <a:xfrm>
            <a:off x="301680" y="333360"/>
            <a:ext cx="8842320" cy="65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990033"/>
                </a:solidFill>
                <a:latin typeface="Tahoma"/>
              </a:rPr>
              <a:t>Термин </a:t>
            </a: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«психомоторика»</a:t>
            </a:r>
            <a:r>
              <a:rPr b="0" lang="ru-RU" sz="2800" spc="-1" strike="noStrike">
                <a:solidFill>
                  <a:srgbClr val="990033"/>
                </a:solidFill>
                <a:latin typeface="Tahoma"/>
              </a:rPr>
              <a:t> приобретает различное смысловое наполнение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33"/>
                </a:solidFill>
                <a:latin typeface="Tahoma"/>
              </a:rPr>
              <a:t>это </a:t>
            </a: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объективизация</a:t>
            </a:r>
            <a:r>
              <a:rPr b="0" lang="ru-RU" sz="2800" spc="-1" strike="noStrike">
                <a:solidFill>
                  <a:srgbClr val="990033"/>
                </a:solidFill>
                <a:latin typeface="Tahoma"/>
              </a:rPr>
              <a:t> всех форм психического отражения через </a:t>
            </a: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мышечные движения</a:t>
            </a:r>
            <a:r>
              <a:rPr b="0" lang="ru-RU" sz="2800" spc="-1" strike="noStrike">
                <a:solidFill>
                  <a:srgbClr val="990033"/>
                </a:solidFill>
                <a:latin typeface="Tahoma"/>
              </a:rPr>
              <a:t> (В.В. Никандров);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объективное восприятие</a:t>
            </a:r>
            <a:r>
              <a:rPr b="0" lang="ru-RU" sz="2800" spc="-1" strike="noStrike">
                <a:solidFill>
                  <a:srgbClr val="990033"/>
                </a:solidFill>
                <a:latin typeface="Tahoma"/>
              </a:rPr>
              <a:t> человеком всех форм психического отражения, начиная с ощущения и заканчивая сложными формами интеллектуальной активности (Е.Н. Сурков);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основной вид объективизации психики</a:t>
            </a:r>
            <a:r>
              <a:rPr b="0" lang="ru-RU" sz="2800" spc="-1" strike="noStrike">
                <a:solidFill>
                  <a:srgbClr val="990033"/>
                </a:solidFill>
                <a:latin typeface="Tahoma"/>
              </a:rPr>
              <a:t> в сенсомоторных, идеомоторных и эмоциональномоторных реакциях и актах (К.К. Платонов);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способность человека отражать объективную информацию о своей двигательной деятельности, точно контролировать свои движения и эффективно управлять ими (В.П. Озеров).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100000">
              <a:srgbClr val="b9b9b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394920" y="260280"/>
            <a:ext cx="8591400" cy="12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33"/>
                </a:solidFill>
                <a:latin typeface="Tahoma"/>
              </a:rPr>
              <a:t>Совершенствования  психомоторных функций  младших школьников в  контексте  успешности их обучения.</a:t>
            </a:r>
            <a:br>
              <a:rPr sz="2800"/>
            </a:b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179280" y="1341360"/>
            <a:ext cx="866304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1.1.Психомоторные  свойства и качества  личност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В психомоторной сфере человека Е.П. Ильин выделяет два крупных блока: двигательные умения (навыки) и двигательные качества (способности).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ahoma"/>
              </a:rPr>
              <a:t>Е.П. Ильин обращает внимание на то, что в психомоторике существует другая составляющая – умения (навыки).</a:t>
            </a:r>
            <a:r>
              <a:rPr b="0" lang="en-US" sz="3200" spc="-1" strike="noStrike">
                <a:solidFill>
                  <a:srgbClr val="99003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1" name=""/>
          <p:cNvSpPr/>
          <p:nvPr/>
        </p:nvSpPr>
        <p:spPr>
          <a:xfrm>
            <a:off x="0" y="1413000"/>
            <a:ext cx="9058320" cy="490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100000">
              <a:srgbClr val="b9b9b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24000" y="228240"/>
            <a:ext cx="851832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Психомоторные  свойства и качества  личности.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1680" y="1341360"/>
            <a:ext cx="873432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660033"/>
                </a:solidFill>
                <a:latin typeface="Tahoma"/>
              </a:rPr>
              <a:t>Особо обращается внимание на роль двигательного анализатора в процессе развития высших психических функций ребенка.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660033"/>
                </a:solidFill>
                <a:latin typeface="Tahoma"/>
              </a:rPr>
              <a:t>Проблема развития моторики (движений) ребенка издавна привлекала исследователей. Под психомоторным развитием понимается процесс изменения и становления функциональных систем организма в течение его индивидуальной и общественной жизни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100000">
              <a:srgbClr val="b9b9b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Психомоторное развитие школьников.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51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Tahoma"/>
              </a:rPr>
              <a:t>     </a:t>
            </a:r>
            <a:r>
              <a:rPr b="0" lang="en-US" sz="2800" spc="-1" strike="noStrike">
                <a:solidFill>
                  <a:srgbClr val="660033"/>
                </a:solidFill>
                <a:latin typeface="Tahoma"/>
              </a:rPr>
              <a:t>Рассматривая особенности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психомоторного развития</a:t>
            </a:r>
            <a:r>
              <a:rPr b="0" lang="en-US" sz="2800" spc="-1" strike="noStrike">
                <a:solidFill>
                  <a:srgbClr val="660033"/>
                </a:solidFill>
                <a:latin typeface="Tahoma"/>
              </a:rPr>
              <a:t>, психологи отмечают, что младший и средний школьные возрасты являются периодами наиболее интенсивного развития основных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психомоторных функций</a:t>
            </a:r>
            <a:r>
              <a:rPr b="0" lang="en-US" sz="2800" spc="-1" strike="noStrike">
                <a:solidFill>
                  <a:srgbClr val="660033"/>
                </a:solidFill>
                <a:latin typeface="Tahoma"/>
              </a:rPr>
              <a:t> человека. Однако младший школьный возраст характеризуется равномерным развитием двигательного аппарата и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психомоторных функций,</a:t>
            </a:r>
            <a:r>
              <a:rPr b="0" lang="en-US" sz="2800" spc="-1" strike="noStrike">
                <a:solidFill>
                  <a:srgbClr val="660033"/>
                </a:solidFill>
                <a:latin typeface="Tahoma"/>
              </a:rPr>
              <a:t> а подростковый – периодом бурного развития моторики и некоторого разлада двигательных координаций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100000">
              <a:srgbClr val="b9b9b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ahoma"/>
              </a:rPr>
              <a:t>Влияние психомоторных качеств на обучаемость.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301680" y="1600200"/>
            <a:ext cx="85406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.С. Лейтес, В.Н. Мясищев обращали внимание на то, что на успех учения (помимо интеллекта) влияют многие другие особенности психики: внимание, память, качества познавательных процессов, мотивация и т.д.  </a:t>
            </a: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Обучаемость психофизиологически соотносится с таким свойством нервной системы, как взрывчатость (динамичность), т.е. скорость образования временной связи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100000">
              <a:srgbClr val="b9b9b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Формирование психомоторных способностей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 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990033"/>
                </a:solidFill>
                <a:latin typeface="Tahoma"/>
              </a:rPr>
              <a:t>Психомоторные задатки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ff0066"/>
                </a:solidFill>
                <a:latin typeface="Tahoma"/>
              </a:rPr>
              <a:t>как и природные предпосылки индивида, представляют собой многоуровневое образование, структура которого еще недостаточно исследована психологами, хотя, по их мнению, задатки как бы задают нижние и верхние пределы развития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990033"/>
                </a:solidFill>
                <a:latin typeface="Tahoma"/>
              </a:rPr>
              <a:t>психомоторных способностей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100000">
              <a:srgbClr val="b9b9b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Формирование психомоторных способностей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озрастное развитие </a:t>
            </a:r>
            <a:r>
              <a:rPr b="0" lang="en-US" sz="3200" spc="-1" strike="noStrike">
                <a:solidFill>
                  <a:srgbClr val="990033"/>
                </a:solidFill>
                <a:latin typeface="Tahoma"/>
              </a:rPr>
              <a:t>психомоторных способностей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протекает несколько иначе, чем развитие умственных способностей, они раньше достигают зрелости и раньше увядают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Эта их особенность делает весьма актуальной </a:t>
            </a:r>
            <a:r>
              <a:rPr b="0" lang="en-US" sz="3200" spc="-1" strike="noStrike">
                <a:solidFill>
                  <a:srgbClr val="990033"/>
                </a:solidFill>
                <a:latin typeface="Tahoma"/>
              </a:rPr>
              <a:t>проблему своевременного формирования психомоторных способностей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у молодежи, в частности, у детей и подростков.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2T15:09:34Z</dcterms:created>
  <dc:creator>Admin</dc:creator>
  <dc:description/>
  <dc:language>en-US</dc:language>
  <cp:lastModifiedBy>Admin</cp:lastModifiedBy>
  <dcterms:modified xsi:type="dcterms:W3CDTF">2012-03-03T13:40:14Z</dcterms:modified>
  <cp:revision>8</cp:revision>
  <dc:subject/>
  <dc:title>Слайд 1</dc:title>
</cp:coreProperties>
</file>