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449-25D1-4E10-A5BF-51B5CFEA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BA8-2F15-4A59-998A-76B07F6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25C-F213-44DE-BE36-617986E8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275-5CAB-4F30-A396-E41552EE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A62-6950-4B88-B9B3-F9B5992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471-A260-45B3-8D3A-228A8FA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E1E-DD5C-42EF-8B83-90395E7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FF8-16CD-44E2-A487-7D517D3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6DC-0DDB-41D4-B2C4-4A8D647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D4E-BAD2-4E6F-9E1A-99B3D27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C12-6E98-43BB-BBA7-1877AB41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F9A-36B4-43C5-B6ED-37EF258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3D3E-4046-484F-B61D-A6896958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Этот праздник к нам идёт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Раннею весною,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Сколько радостей несёт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Он всегда с собою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620280"/>
            <a:ext cx="64404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Маслен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846680"/>
            <a:ext cx="2771640" cy="201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4816440"/>
            <a:ext cx="3059280" cy="204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198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Русь заводит хоровод,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Угощает всех блинами,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Приглашает весь народ: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еселитесь люди с нами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76360" y="1895400"/>
            <a:ext cx="66168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пеки блинов скоре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ько масла не жале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075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Блинчик маслом я нама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Съем его и улыбну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Вмиг почувствую я 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И исчезнет моя гру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26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пеки блинов скорей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Только масла не жа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9850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ышные гуляния Ярмарка венчает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До свиданья, Масленица, приходи опять!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Через год Красавицу снова повстречаем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нова будем праздновать, блинами угощать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76360" y="1843200"/>
            <a:ext cx="668664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Через год Красавицу снова повстречаем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нова будем праздновать, блинами угощ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936960" cy="524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55627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Со времён старинных, давних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Праздник Солнца к нам спешит.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Он один из самых ранних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В окна вешним днём гля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248360" cy="357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4208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Веселись честной народ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Ведь весна не за горами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Праздник русский к нам идёт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Семимильными ша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697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Весёлым хороводом праздник славится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Поёт, хохочет весь честной нар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568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Масленица, масленица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Хороводом дразнится!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Блин в сметане с маслицем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Ждёт, кому достан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6036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Масленица в дом идёт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За собой весну ведёт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325680" cy="453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84360" y="1449360"/>
            <a:ext cx="4103640" cy="327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48360" y="2708280"/>
            <a:ext cx="29494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Здравствуй, Масленица год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Наша гостьюшка дорог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724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Нам везде надо успе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И сплясать, и песню сп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761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Масленица, Масленица!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В гости к нам пришла,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Масленица, Масленица,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Счастье принесла!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Масленица, Масленица,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Зиму унеси,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Масленица, Масленица,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К нам Весна прид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969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2:42:02Z</dcterms:created>
  <dc:creator>Admin</dc:creator>
  <dc:description/>
  <dc:language>en-US</dc:language>
  <cp:lastModifiedBy>Admin</cp:lastModifiedBy>
  <dcterms:modified xsi:type="dcterms:W3CDTF">2012-03-03T16:16:09Z</dcterms:modified>
  <cp:revision>4</cp:revision>
  <dc:subject/>
  <dc:title>Этот праздник к нам идет Раннею весною, Сколько радостей несет Он всегда с собою! </dc:title>
</cp:coreProperties>
</file>