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6CAC-72AA-436F-BBFB-B368A4A9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86F-9C87-4913-968D-96690E66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C74-BA18-4592-8280-B110B90A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330-0C1E-4201-95E7-F167D76E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D8D3-157F-4822-93A9-348E8F65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0D44-D054-4A8A-A466-53B19C50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0E5A-6888-4FFF-B755-99E9467E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FF2C-F7B4-462C-B275-CFF72306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0101-ABAB-450D-BD44-06505596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62F2-10EC-4F91-8CB1-502D8F0D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60A9-5694-465C-9D11-C51FBD4D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42BC-5AF5-468B-A2FC-A82DB668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D16F-CDB0-4B59-8CFD-528A070A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1A27-76FA-4D54-B546-6883B75B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E900-520D-49E4-95F7-8AEF8B81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05B9-33D0-4C3F-93DA-7D926B33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BF28-F147-470B-A2DB-60C997B1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B4F6-CC6F-45B1-9450-E2FFA506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B2E-6D0A-4EC2-A2E6-41621598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98D-0F77-40DB-BE93-6652DD4D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D89A-F0D7-497B-8538-F1493541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CAF-964D-4B37-A198-C19AEFD0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4D1-0B6F-469D-AFEC-03780D27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FEC-3C4D-40C2-9F1C-B78CA910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1BD4-2B2E-438B-A961-3CEF07D7434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795B-7FB2-4F37-818E-5F02B96DDF4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8" descr="p12_2_2"/>
          <p:cNvPicPr/>
          <p:nvPr/>
        </p:nvPicPr>
        <p:blipFill>
          <a:blip r:embed="rId1"/>
          <a:stretch/>
        </p:blipFill>
        <p:spPr>
          <a:xfrm>
            <a:off x="857160" y="3714840"/>
            <a:ext cx="3672000" cy="2736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ект «Горные породы и минералы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боту выполнили: учащиеся 6 класса МецкерОксана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плер Артем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ирфанов Толгат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симова Нагима, Свеженцев Алексей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уководитель: Мецкер Светлана Сергеевна учитель географи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13" descr="4 (18)"/>
          <p:cNvPicPr/>
          <p:nvPr/>
        </p:nvPicPr>
        <p:blipFill>
          <a:blip r:embed="rId2"/>
          <a:stretch/>
        </p:blipFill>
        <p:spPr>
          <a:xfrm>
            <a:off x="714240" y="2000160"/>
            <a:ext cx="2691000" cy="2643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Construction_Man"/>
          <p:cNvPicPr/>
          <p:nvPr/>
        </p:nvPicPr>
        <p:blipFill>
          <a:blip r:embed="rId3"/>
          <a:stretch/>
        </p:blipFill>
        <p:spPr>
          <a:xfrm>
            <a:off x="2928960" y="4714920"/>
            <a:ext cx="201780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зультатив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81439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высился интерес к предмет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жегодно новые учащиеся включаются в поисковую деятельность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величился объем знаний, приобретаемых и контролируемых самостоятельн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высилась самооценка учащихся участвующих в проекта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всех удается вовлечь в проектную деятель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Правила успешной проектной деятельности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(для учащихся)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команде нет лидеров. Все члены команды равны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манды не соревнуютс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е члены команды должны получать удовольствие от общения друг с другом, и от того, что они вместе выполняют проектное зада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ждый должен получать удовольствие от чувства уверенности в себ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е должны проявлять активность и вносить свой вклад в общее дело. Не должно быть так называемых “спящих” партнер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ветственность за конечный результат несут все члены команды, выполняющие проектное зада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ждая группа, участвующая в проекте, получает “План действий учащихся в проекте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лан действий учащихся в проект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ыбор темы проекта (исследования)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тавим цель. (Для чего я это делаю? Какого результата я хочу достичь? Записать ответы)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сли это исследование, то затем нужно выдвинуть предположение – гипотезу. (Сделай свое предположение о том, какой будет результат и почему? Записать ответы)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ыбираем метод. (Что нужно сделать, чтобы получить результат? (Записать план своих действий, время выполнения каждого шага)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обираем данные (ставим эксперименты, собираем необходимую информацию, материал, оформляем его, сверяем свои действия по времени, которое определили для каждого шага)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лучаем результаты. (Если что-то не удалось – это тоже результат)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Анализируем результаты. (Сравниваем полученные с данной гипотезой)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Делаем выводы. (Планируем дальнейшую деятельность). Даем оценку действиям в группе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Защищаем результат в коллективе. Получаем общую оценку результатов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бота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групп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" name="Picture 2" descr="C:\Documents and Settings\SWETA\Рабочий стол\стенд\Изображение 004.jpg"/>
          <p:cNvPicPr/>
          <p:nvPr/>
        </p:nvPicPr>
        <p:blipFill>
          <a:blip r:embed="rId1"/>
          <a:stretch/>
        </p:blipFill>
        <p:spPr>
          <a:xfrm>
            <a:off x="428760" y="1143000"/>
            <a:ext cx="3382920" cy="453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Documents and Settings\SWETA\Рабочий стол\стенд\Изображение 003.jpg"/>
          <p:cNvPicPr/>
          <p:nvPr/>
        </p:nvPicPr>
        <p:blipFill>
          <a:blip r:embed="rId2"/>
          <a:stretch/>
        </p:blipFill>
        <p:spPr>
          <a:xfrm>
            <a:off x="5643720" y="1071720"/>
            <a:ext cx="29289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2600" y="0"/>
            <a:ext cx="78008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бота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групп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Picture 2" descr="C:\Documents and Settings\SWETA\Рабочий стол\стенд\Изображение 007.jpg"/>
          <p:cNvPicPr/>
          <p:nvPr/>
        </p:nvPicPr>
        <p:blipFill>
          <a:blip r:embed="rId1"/>
          <a:stretch/>
        </p:blipFill>
        <p:spPr>
          <a:xfrm>
            <a:off x="0" y="1214280"/>
            <a:ext cx="3911760" cy="2921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Documents and Settings\SWETA\Рабочий стол\стенд\Изображение 008.jpg"/>
          <p:cNvPicPr/>
          <p:nvPr/>
        </p:nvPicPr>
        <p:blipFill>
          <a:blip r:embed="rId2"/>
          <a:stretch/>
        </p:blipFill>
        <p:spPr>
          <a:xfrm>
            <a:off x="4857840" y="1214280"/>
            <a:ext cx="3214440" cy="2400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Documents and Settings\SWETA\Рабочий стол\стенд\Изображение 006.jpg"/>
          <p:cNvPicPr/>
          <p:nvPr/>
        </p:nvPicPr>
        <p:blipFill>
          <a:blip r:embed="rId3"/>
          <a:stretch/>
        </p:blipFill>
        <p:spPr>
          <a:xfrm rot="15988200">
            <a:off x="2828880" y="3860640"/>
            <a:ext cx="378936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бота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II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рупп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Picture 3" descr="C:\Documents and Settings\SWETA\Рабочий стол\стенд\Изображение 011.jpg"/>
          <p:cNvPicPr/>
          <p:nvPr/>
        </p:nvPicPr>
        <p:blipFill>
          <a:blip r:embed="rId1"/>
          <a:stretch/>
        </p:blipFill>
        <p:spPr>
          <a:xfrm>
            <a:off x="428760" y="1071720"/>
            <a:ext cx="3382920" cy="4530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SWETA\Рабочий стол\стенд\Изображение 010.jpg"/>
          <p:cNvPicPr/>
          <p:nvPr/>
        </p:nvPicPr>
        <p:blipFill>
          <a:blip r:embed="rId2"/>
          <a:stretch/>
        </p:blipFill>
        <p:spPr>
          <a:xfrm>
            <a:off x="5214960" y="1143000"/>
            <a:ext cx="3429000" cy="4592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H:\пммим\грамоты\Изображение 012.jpg"/>
          <p:cNvPicPr/>
          <p:nvPr/>
        </p:nvPicPr>
        <p:blipFill>
          <a:blip r:embed="rId3"/>
          <a:stretch/>
        </p:blipFill>
        <p:spPr>
          <a:xfrm>
            <a:off x="2928960" y="3871800"/>
            <a:ext cx="400032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116000" y="691920"/>
            <a:ext cx="7113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Цель исследовани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пределить насколько применение метода проектов повысит  эффективность и качество процесса обучения,  научит учащихся работать и мыслить самостоятельно, повысит интерес к предмету, разовьет творческую активность детей, их коммуникативные способности, умения планировать работу, доводить ее до конц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бъект исследования: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орные породы и минерал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едмет исследования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спользование витрины»Горные породы и минералы»в преподавании географ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. Изучить  методическую литературу горных породах и минералах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2. Отобрать и классифицировать отобранный  материал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. Разработать примерное содержание витрины «Горные породы и минералы» 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4. Использовать  работу  в процесс преподавания географ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5. Наметить задачи для последующей работы по данному проект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Актуальность применения проектной технологии в преподавании географ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ектная технология дает возможность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еализовать деятельностный поход в обучении географ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ешить проблему сокращения часов на изучение географ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ормирования у школьников информационной компетентнос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владения школьниками методами географического прогнозировани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астия школьников в общественных экспертиза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История вопрос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ъем знаний о вещественном составе литосферы не велик в действующей программе для массовой школы. Однако большинство школьников проявляют интерес к изучению горных пород и составляющих их минерал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знакомление школьников с внедрившимися и излившимися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агматическими породами, с обломочными химическими и органоидными осадочными породами необходимо потому, что первые составляют большую часть литосферы, а вторые покрывают большую часть поверхности Земли 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одержат большую часть добываемых полезных ископаемых. Эти знания, таким образом, имеют большое практическое значение, они необходимы и при изучении рельефа для понимания его особенностей, изменений во времен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Основные требования к использованию метода проектов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3920"/>
            <a:ext cx="82296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личие значимой в исследовательском, творческом плане проблемы практическая, теоретическая, познавательная значимость предполагаемых результатов Самостоятельная деятельность учащихся Структурирование содержательной части проекта (с указанием поэтапных результатов) Использование исследовательских методов, предусматривающих определенную последовательность действий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пределение проблемы и вытекающих из нее задач исследования 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 обсуждение методов исследования (статистических методов, практических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обсуждение способов оформления конечных результатов (презентаций, защиты, просмотров, пр.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сбор, систематизация и анализ полученных данных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подведение итогов, оформление результатов, их презентация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выводы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выдвижение новых проблем исследован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Этапы работы над проектом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Первый этап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роектного цикла – </a:t>
            </a:r>
            <a:r>
              <a:rPr b="0" i="1" lang="ru-RU" sz="1800" spc="-1" strike="noStrike">
                <a:solidFill>
                  <a:srgbClr val="ffcc66"/>
                </a:solidFill>
                <a:latin typeface="Verdana"/>
              </a:rPr>
              <a:t>ценностно-ориентированный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, включает в себя следующий алгоритм деятельности учащихся: осознание мотива и цели деятельности учащимися, выделение приоритетных ценностей, на основе которых будет реализовываться проект, определение замысла проект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Второй этап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ru-RU" sz="1800" spc="-1" strike="noStrike">
                <a:solidFill>
                  <a:srgbClr val="ffcc66"/>
                </a:solidFill>
                <a:latin typeface="Verdana"/>
              </a:rPr>
              <a:t>конструктивный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, включающий собственно проектирование. На этом этапе учащиеся, объединяясь во временные группы ( из 4-5 чел.) или индивидуально осуществляют проектную деятельность: составляют план. Собирают информацию по проекту, выбирают форму реализации проект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Третий этап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ru-RU" sz="1800" spc="-1" strike="noStrike">
                <a:solidFill>
                  <a:srgbClr val="ffcc66"/>
                </a:solidFill>
                <a:latin typeface="Verdana"/>
              </a:rPr>
              <a:t>оценочно – рефлексивный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Его основу составляет самооценка деятельности учащихс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Четвертый этап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ru-RU" sz="1800" spc="-1" strike="noStrike">
                <a:solidFill>
                  <a:srgbClr val="ffcc66"/>
                </a:solidFill>
                <a:latin typeface="Verdana"/>
              </a:rPr>
              <a:t>презентативный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, на котором осуществляется защита проекта. Презентация – результат работы разных групп и индивидуальной деятельности, итог общей и индивидуальной работ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. Параметры внешней оценки проект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чимость и актуальность выдвинутых проблем, адекватность их изучаемой тематике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рректность используемых методов исследования и методов обработки получаемых результатов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ктивность каждого участника проекта в соответствии с его индивидуальными возможностям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ллективный характер принимаемых решений (при групповом проекте)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характер общения и взаимопомощи, взаимодополняемости участников проекта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обходимая и достаточная глубина проникновения в проблему; привлечение знаний из других областей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казательность принимаемых решений, умение аргументировать свои заключения, выводы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стетика оформления результатов проведенного проекта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мение отвечать на вопросы оппонентов, лаконичность и аргументированность ответов каждого члена групп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Проект  витрины «Горные породы и минералы"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I этап. Индивидуальные зада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ждая группа получает карточку с перечнем вопросов и указанием литературы для изучения по темам: «Горные породы и минералы», «Минералогия» , «Как создать стенд своими руками» , «Значение  стендов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II этап. Самостоятельная работа с литературой, поиск ответов на поставленные вопросы по заданиям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III этап. Заслушивание и обсуждение подготовленных материал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IV этап. Презентация проект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28:38Z</dcterms:created>
  <dc:creator>мама</dc:creator>
  <dc:description/>
  <dc:language>en-US</dc:language>
  <cp:lastModifiedBy>SWETA</cp:lastModifiedBy>
  <dcterms:modified xsi:type="dcterms:W3CDTF">2012-03-03T14:27:55Z</dcterms:modified>
  <cp:revision>19</cp:revision>
  <dc:subject/>
  <dc:title>Проектная деятельность на уроках географии</dc:title>
</cp:coreProperties>
</file>