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791-75DF-40EA-8319-AB594B3B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12E-3812-409E-B0CD-171861E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B03-1947-4107-9BC6-BAC8B4AF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AC3-8819-4FBE-92A0-A8A16ECF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7D2-C1D7-4AF1-BA0C-AFD57D1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5FB-3F6B-4CB1-B024-36BC5D1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D03-81A6-44C9-ABB5-59D09D1B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1AB-F35B-4F4E-9CC3-0987B4B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FDC-5966-4AB2-876E-C03AF69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C2A-27C9-4742-B430-6B9DBD8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59F-6932-4B1B-9491-605A078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0CF-0E51-41BE-9DAC-262D679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CB2-5FD3-486F-8C24-F6F763A26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f6228"/>
                </a:solidFill>
                <a:latin typeface="Calibri"/>
              </a:rPr>
              <a:t>Проверочный фотодиктант</a:t>
            </a:r>
            <a:br>
              <a:rPr sz="7200"/>
            </a:br>
            <a:r>
              <a:rPr b="1" lang="ru-RU" sz="7200" spc="-1" strike="noStrike">
                <a:solidFill>
                  <a:srgbClr val="4f6228"/>
                </a:solidFill>
                <a:latin typeface="Calibri"/>
              </a:rPr>
              <a:t>по теме  ПРИЛАГАТЕЛЬНОЕ</a:t>
            </a:r>
            <a:br>
              <a:rPr sz="7200"/>
            </a:br>
            <a:r>
              <a:rPr b="1" lang="ru-RU" sz="7200" spc="-1" strike="noStrike">
                <a:solidFill>
                  <a:srgbClr val="4f6228"/>
                </a:solidFill>
                <a:latin typeface="Calibri"/>
              </a:rPr>
              <a:t> 6 клас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41432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я красота весе..его, летнего, осе..его и зимнего леса сошлись в этом не(?)повторимом цвет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Мои документы\Загрузки\ланд.jpg"/>
          <p:cNvPicPr/>
          <p:nvPr/>
        </p:nvPicPr>
        <p:blipFill>
          <a:blip r:embed="rId1"/>
          <a:stretch/>
        </p:blipFill>
        <p:spPr>
          <a:xfrm>
            <a:off x="5357880" y="928800"/>
            <a:ext cx="3328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41432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 его зеленых с прож…лками листьях отыщут(?)ся весна и лет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Загрузки\листья ландыша.jpg"/>
          <p:cNvPicPr/>
          <p:nvPr/>
        </p:nvPicPr>
        <p:blipFill>
          <a:blip r:embed="rId1"/>
          <a:stretch/>
        </p:blipFill>
        <p:spPr>
          <a:xfrm>
            <a:off x="5143680" y="1214280"/>
            <a:ext cx="3543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39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 августе  в тонких бледно(?)к…рич(?)невых листьях и красных плодах пр…сутствуют краски осе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6720" y="1600200"/>
            <a:ext cx="19000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Мои документы\Загрузки\в августе.jpg"/>
          <p:cNvPicPr/>
          <p:nvPr/>
        </p:nvPicPr>
        <p:blipFill>
          <a:blip r:embed="rId2"/>
          <a:stretch/>
        </p:blipFill>
        <p:spPr>
          <a:xfrm>
            <a:off x="4929120" y="571680"/>
            <a:ext cx="3843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40006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 изящ(?)ных снежно(?)белых цветках прячет(?)ся зима, ждет своей по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Мои документы\Загрузки\ланд.jpg"/>
          <p:cNvPicPr/>
          <p:nvPr/>
        </p:nvPicPr>
        <p:blipFill>
          <a:blip r:embed="rId1"/>
          <a:stretch/>
        </p:blipFill>
        <p:spPr>
          <a:xfrm>
            <a:off x="7215120" y="2706840"/>
            <a:ext cx="571680" cy="293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Мои документы\Загрузки\белый ланд.jpg"/>
          <p:cNvPicPr/>
          <p:nvPr/>
        </p:nvPicPr>
        <p:blipFill>
          <a:blip r:embed="rId2"/>
          <a:stretch/>
        </p:blipFill>
        <p:spPr>
          <a:xfrm>
            <a:off x="5000760" y="785880"/>
            <a:ext cx="3771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392904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 ландыш.. со..д..нились хру..кость, нежность, красота и веч(?)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документы\Загрузки\4034481_adfa6e68.jpg"/>
          <p:cNvPicPr/>
          <p:nvPr/>
        </p:nvPicPr>
        <p:blipFill>
          <a:blip r:embed="rId1"/>
          <a:stretch/>
        </p:blipFill>
        <p:spPr>
          <a:xfrm>
            <a:off x="4714920" y="28584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34290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Каждый год в </a:t>
            </a: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 весе…ем</a:t>
            </a: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 лесу происходит ч…д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Мои документы\Загрузки\весенний лес.jpg"/>
          <p:cNvPicPr/>
          <p:nvPr/>
        </p:nvPicPr>
        <p:blipFill>
          <a:blip r:embed="rId2"/>
          <a:stretch/>
        </p:blipFill>
        <p:spPr>
          <a:xfrm>
            <a:off x="4643280" y="857160"/>
            <a:ext cx="4043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37148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Зацв…тает ландыш(?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Мои документы\Загрузки\зацветает ландыш.jpg"/>
          <p:cNvPicPr/>
          <p:nvPr/>
        </p:nvPicPr>
        <p:blipFill>
          <a:blip r:embed="rId1"/>
          <a:stretch/>
        </p:blipFill>
        <p:spPr>
          <a:xfrm>
            <a:off x="4643280" y="1428840"/>
            <a:ext cx="42148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37148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Уд…вительных цветов много, но этот самый изящ(?)ный, самый душ..стый, самый таинств….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Мои документы\Загрузки\самый.jpg"/>
          <p:cNvPicPr/>
          <p:nvPr/>
        </p:nvPicPr>
        <p:blipFill>
          <a:blip r:embed="rId1"/>
          <a:stretch/>
        </p:blipFill>
        <p:spPr>
          <a:xfrm>
            <a:off x="5000760" y="857160"/>
            <a:ext cx="3786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35733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Накл..нил</a:t>
            </a:r>
            <a:r>
              <a:rPr b="1" lang="ru-RU" sz="3200" spc="-1" strike="noStrike">
                <a:solidFill>
                  <a:srgbClr val="4a452a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сь вни…  на длин…ом ст…бельке бело(?)снежные ф..рфоровые кольца с резными кра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Мои документы\Загрузки\наклонились.jpg"/>
          <p:cNvPicPr/>
          <p:nvPr/>
        </p:nvPicPr>
        <p:blipFill>
          <a:blip r:embed="rId2"/>
          <a:stretch/>
        </p:blipFill>
        <p:spPr>
          <a:xfrm>
            <a:off x="5429160" y="357120"/>
            <a:ext cx="3218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920" y="274680"/>
            <a:ext cx="36432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alibri"/>
              </a:rPr>
              <a:t>Кажет(?)ся, что не(?)извес(?)ный мастер пр..дал такую не(?)обычную форму реч(?)ному жемчуг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документы\Загрузки\белый ланд.jpg"/>
          <p:cNvPicPr/>
          <p:nvPr/>
        </p:nvPicPr>
        <p:blipFill>
          <a:blip r:embed="rId2"/>
          <a:stretch/>
        </p:blipFill>
        <p:spPr>
          <a:xfrm>
            <a:off x="5214960" y="714240"/>
            <a:ext cx="3471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381636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 концу лета они пр..вратят(?)ся в оранжево(?)красные бусин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00560" y="1600200"/>
            <a:ext cx="16858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:\Мои документы\Загрузки\ландыш в конце лета.jpg"/>
          <p:cNvPicPr/>
          <p:nvPr/>
        </p:nvPicPr>
        <p:blipFill>
          <a:blip r:embed="rId3"/>
          <a:stretch/>
        </p:blipFill>
        <p:spPr>
          <a:xfrm>
            <a:off x="5072040" y="928800"/>
            <a:ext cx="3786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4280" y="274320"/>
            <a:ext cx="378648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ловно из д..леких стран попали в лес драгоц…ые ка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00880" y="1600200"/>
            <a:ext cx="218592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Мои документы\Загрузки\в августе.jpg"/>
          <p:cNvPicPr/>
          <p:nvPr/>
        </p:nvPicPr>
        <p:blipFill>
          <a:blip r:embed="rId2"/>
          <a:stretch/>
        </p:blipFill>
        <p:spPr>
          <a:xfrm>
            <a:off x="5072040" y="642960"/>
            <a:ext cx="371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428652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Ландыш(?) пр…дставляет(?)ся мне символом л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Мои документы\Загрузки\в весен.лесу ланд.jpg"/>
          <p:cNvPicPr/>
          <p:nvPr/>
        </p:nvPicPr>
        <p:blipFill>
          <a:blip r:embed="rId1"/>
          <a:stretch/>
        </p:blipFill>
        <p:spPr>
          <a:xfrm>
            <a:off x="5072040" y="1071720"/>
            <a:ext cx="3614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30:04Z</dcterms:created>
  <dc:creator>Admin</dc:creator>
  <dc:description/>
  <dc:language>en-US</dc:language>
  <cp:lastModifiedBy>Boss</cp:lastModifiedBy>
  <dcterms:modified xsi:type="dcterms:W3CDTF">2012-02-15T15:58:53Z</dcterms:modified>
  <cp:revision>28</cp:revision>
  <dc:subject/>
  <dc:title>Проверочный фотодиктант по теме  ПРИЛАГАТЕЛЬНОЕ  6 класс</dc:title>
</cp:coreProperties>
</file>