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EA14-44E0-43D2-BF1D-1677525F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60E-C7C2-423C-8F81-45329E9E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0373-651D-439A-8579-4C035BD3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062-703C-45C7-9B14-702969B3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AFD-6B16-4818-9C3C-33F92C41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507-72F2-4B32-9504-207D94E4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0185-1EA6-4CA3-BFC1-1B491C4B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288-AE57-47D2-B9F5-B8205DDC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E6F-DCAC-41C4-97D4-B0AB9518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498-4E28-48A8-94CC-69DEA04E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B9E2-1B25-48C5-878F-EBCEE535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FC7-9EAC-4436-AB87-894DDC3D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CB9D-8C76-487F-B776-0CD55FC21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ostservice@rus-ege.co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ge.karelia.ru/Default.aspx?pageid=109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s-ege.com/download/BlankError.zip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chool-tests.ru/ege-online.html" TargetMode="External"/><Relationship Id="rId2" Type="http://schemas.openxmlformats.org/officeDocument/2006/relationships/hyperlink" Target="http://www.school-tests.ru/online-ege-rus.html" TargetMode="External"/><Relationship Id="rId3" Type="http://schemas.openxmlformats.org/officeDocument/2006/relationships/hyperlink" Target="http://www.school-tests.ru/online-ege-rus.html" TargetMode="External"/><Relationship Id="rId4" Type="http://schemas.openxmlformats.org/officeDocument/2006/relationships/hyperlink" Target="http://www.school-tests.ru/online-ege-rus.html" TargetMode="External"/><Relationship Id="rId5" Type="http://schemas.openxmlformats.org/officeDocument/2006/relationships/hyperlink" Target="http://www.school-tests.ru/online-ege-math.html" TargetMode="External"/><Relationship Id="rId6" Type="http://schemas.openxmlformats.org/officeDocument/2006/relationships/hyperlink" Target="http://www.school-tests.ru/online-ege-math.html" TargetMode="External"/><Relationship Id="rId7" Type="http://schemas.openxmlformats.org/officeDocument/2006/relationships/hyperlink" Target="http://www.school-tests.ru/online-ege-hist.html" TargetMode="External"/><Relationship Id="rId8" Type="http://schemas.openxmlformats.org/officeDocument/2006/relationships/hyperlink" Target="http://www.school-tests.ru/online-ege-hist.html" TargetMode="External"/><Relationship Id="rId9" Type="http://schemas.openxmlformats.org/officeDocument/2006/relationships/hyperlink" Target="http://www.school-tests.ru/online-math_5_9.html" TargetMode="External"/><Relationship Id="rId10" Type="http://schemas.openxmlformats.org/officeDocument/2006/relationships/hyperlink" Target="http://www.school-tests.ru/online-math_5_9.html" TargetMode="External"/><Relationship Id="rId11" Type="http://schemas.openxmlformats.org/officeDocument/2006/relationships/hyperlink" Target="http://www.school-tests.ru/online-math_10_11.html" TargetMode="External"/><Relationship Id="rId12" Type="http://schemas.openxmlformats.org/officeDocument/2006/relationships/hyperlink" Target="http://www.school-tests.ru/online-math_10_11.html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ути и формы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дготовки к ЕГЭ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.А.Саетгараева, учитель русского языка и литературы высшей квалификационной катег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материалам образовательных порта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aster EGE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stservice@rus-eg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аткий курс подготовки к ЕГЭ #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ЕГЭ 2011 - русский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Единый государственный экзамен ( ЕГЭ ) по русскому языку - демонстрационные варианты ЕГЭ 2011 и др. ГИА; материалы и тесты для подготовки к сдаче ЕГЭ по русскому языку. Экзамены, вопросы, ответы по русскому языку. Варианты выпускных из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2158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На официальном информационном портале ЕГЭ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ww1.ege.edu.ru,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созданном при участии и под контролем специалистов Федеральной службы по надзору в сфере образования и науки, можно найти наиболее полную и бесплатную информацию, необходимую для подготовки к ЕГЭ 2010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"егэшном" портале одиннадцатиклассников ждут не только так называемые "демо-версии" контрольно-измерительных материалов (КИМ) 2010 года по всем предметам, которые дают представление о том, какие типы заданий и в каком виде получит участник ЕГЭ. Также доступен документ, разъясняющий общие правила заполнения бланков. Напомним, что экзаменационный комплект участника ЕГЭ включает бланки регистрации, бланки ответов N 1 и N 2, дополнительный бланк ответов N2 и сами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193840"/>
            <a:ext cx="914400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будем идеалистами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 бал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это скорее случай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закономерность. Кто бы ни гарантировал вам такой результат - плюньте ему в глаз. Причин здесь несколько, назовем основ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ор случайности: задания на определение лексического значения слова, постановку ударения, разграничение паронимов и некоторые другие проверяют скорее ширину кругозора и общую эрудицию, нежели чем знание правил. От ошибок в этих заданиях не застрахован ник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личие заданий, требующих знания частных случаев, тонкостей и исключений из правил. Мы называем такие задания "ловушками". Хотите пример? - Найдите ошибку в следующем предложении: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"Мы с вами не виделись более полугода, и все это время я очень по вам скучал"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 найдете в следующем выпус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личие некоторого количества некорректных ("невычитанных") заданий и ответов. КИМы составляют живые люди, которым свойственно ошибаться. Кое-что о технических ошибках: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ge.karelia.ru/Default.aspx?pageid=10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248436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771640" y="620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292720" y="981000"/>
            <a:ext cx="19051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536400"/>
            <a:ext cx="7777080" cy="5551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"..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читаю самыми трудными некорректно сформулированные задания, как было у меня то, в котором я ошиблась, -№30. Начало текста было рассуждением, а остальной текст-повествование. В итоге - горе от ума: тот, кто не заметил рассуждения, оказался прав, а у меня 1 ошибка, "съевшая" целых 4 балла. У моей одноклассницы-отличницы такая же ошибк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тата из письма Ирины Гадыдей. Ее результат ЕГЭ - 96 тестовых бал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ивность экспертных оценок письменных работ. Посмотрите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этом абзаце присутствует речевой недочет, который эксперт может пропустить, а может посчитать за ошибку и снизить балл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робуйте этот недочет обнаруж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 критерию речевых ошибок эксперт может "завалить" практически любого испытуем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ие ошибки при заполнении бланков ЕГЭ и ошибки 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невнимательности. Проблема более чем актуальная. Ошибается каждый пятый выпускник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s-ege.com/download/BlankError.zi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должим заучивать наизусть элементы содержания ЕГЭ, необходимые для безошибочного выполнения за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ИЗВОДНЫЕ ПРЕД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РЕЧНЫ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круг, впереди, мимо, вслед, согласно, подобно, навстреч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ЫМЕН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в течение, в продолжение, вследствие, в виде, в связи с, наперекор, ввиду, вместо, вроде, наподобие, насчет, за сч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ГЛАГОЛЬНЫ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благодаря, несмотря на, начиная с, исключая, включ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зударные гласные в конце основы инфинит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е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ле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я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мен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дея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овн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ятьзате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шл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я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а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нятьсячаятьлаять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Хитрые Правила от Константи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4038480" cy="602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ситесь к этим правилам с юмором и осторожностью. Отличники должны понимать, о чем идет речь. Следуйте народной мудрости: "На ошибках учатся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про букву "Ё", иначе трудно различить падеж и падёж, небо и нёбо, осел и осёл, совершенный и совершённый, все и всё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безинтересно было бы взымать штраф с безолаберных за неверное написание гласных после пристав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слова "нет" нету форм измен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ягкий знак в неопределённой форме глагола должен находится на своём месте, что иногда забывае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спешите ехидничать и тыкать пальцем в ошибки Константина. Когда хочу, тогда и ошибаюсь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то в течение 30 секунд поймет, в чем суть Хитрых Правил, тот имеет все шансы для достижения желаемых результатов на предстоящем ЕГ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052640"/>
            <a:ext cx="4038480" cy="580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спользуйте запятые, там, где они не нуж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одную конструкцию конечно же выделяйте запят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том, некоторые слова, буквально, очень похожие на вводные, как раз, запятыми никогда не выделя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итрые Правила от Констант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какой самовлюблённый Банк, его Президент и Председатель Совета Директоров не пишутся с заглавной бук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лонять числительные можно сто двадцать пятью способами, но только один из них правиль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елите не делимое и не соединяйте разно родное, а кое что пишите через дефи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используйте запятые, там, где они не нуж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водную конструкцию конечно же выделяйте запят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том, некоторые слова, буквально, очень похожие на вводные, как раз, запятыми никогда не выделя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ОДГОТОВКА К ЕГЭ ОНЛАЙН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_x000b_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нлайн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ЕГЭ 2011 по русскому языку 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онлайн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ЕГЭ 2011 по математике 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онлайн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ЕГЭ 2011 по истории 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онлайн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Математика 5-9 классы 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онлайн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Математика 10-11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ивной подготовки к ЕГЭ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акже как и к любому другому экзамену, нужна тренировка, тренировка и еще раз тренировка. Довести решение задач до автоматизма. Видеть единственный возможный вариант ответа среди четырех предложенных. Это возможно с программо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Тестариус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 будете изучать только те темы, которые встретятся на экзаме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программа полностью соответствует спецификациям ЕГЭ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 актуальным вопросам подготовки к ЕГЭ можно отнести следующие напра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)организация информационной работы по подготовки учащихся к ЕГЭ;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)мониторинг качества;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)психологическая подготовка к ЕГЭ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229600" cy="669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одержание информационной деятельности ОУ по вопросам ЕГ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нформационной деятельности образовательного учреждения по подготовке к ЕГЭ мы выделяем три направления: информационная работа с педагогами, с учащимися, с родител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Содержание информационной работы с педагог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Информирование учителей на производственных совещаниях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нормативно-правовыми документами по ЕГЭ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о ходе подготовки к ЕГЭ в школе, в районе и обла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Включение в планы работы школьных методических объединений (ШМО) следующих вопрос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проведение пробных ЕГЭ, обсуждение результатов пробных ЕГЭ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творческая презентация опыта по подготовки учащихся к ЕГЭ (на методической или научной конференции в рамках школ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выработка совместных рекомендаций учителю-предметнику по стратегиям подготовки учащихся к ЕГЭ (с учетом психологических особенностей учащихс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психологические особенности 11-класс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Педагогический совет "ЕГЭ – методические подходы к подготовке учащихся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) Направление учителей на районные и областные семинары и курсы по вопросам ЕГ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Содержание информационной работы с учащимис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Организация информационной работы в форме инструктажа учащих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равила поведения на экзамен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равила заполнения блан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списание работы кабинета информатики (часы свободного доступа к ресурсам Интерн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Информационный стенд для учащихся: нормативные документы, бланки, правила заполнения бланков, ресурсы Интернет по вопросам ЕГ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роведение занятий по тренировке заполнения бла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Пробные внутришкольные ЕГЭ по различным предме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В библиоте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апка с материалами по ЕГЭ (нормативные документы, бланки по различным предметам, правила заполнения бланков, инструкции, ресурсы Интернет по вопросам ЕГЭ, перечень ресурсов библиотеки, рекомендации по подготовке к экзамена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тенд с пособиями по ЕГ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Содержание информационной работы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с родителям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Родительские собр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нформирование родителей о процедуре ЕГЭ, особенностях подготовки к тестовой форме сдачи экзаменов. Информирование о ресурсах Интерн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нформирование о результатах пробного внутришкольного ЕГЭ (декабр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ункт проведения экзамена, вопросы проведения пробного ЕГЭ в апре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Индивидуальное консультирование родителей (классные руководители, педагог-психол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сихологическая подготовка к ЕГЭ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997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ческая подготовка учащихся может осуществляться в форме спецкурса (или элективного курса). Цели такого курса: отработка стратегии и тактики поведения в период подготовки к экзамену; обучение навыкам саморегуляции, самоконтроля, повышение уверенности в себе, в своих си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ы проведения занятий разнообразн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рупповая дискуссия, игровые методы, медитативные техники, анкетирование, мини-лекции, творческая работа, устные или письменные размышления по предложенной тематике. Содержание занятий должно ориентироваться на следующие вопросы: как подготовиться к экзаменам, поведение на экзамене, способы снятия нервно-психического напряжения, как противостоять стресс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с учащимися проводится по желанию учащихся – со всем классом или выбороч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-психолог может проводить индивидуальные консультации для учащихся по вопросам подготовки к экзамен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ыт показывает, что вопросы подготовки к ЕГЭ решаемы, если деятельность базируется на принцип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истемности (подготовка ведется последовательно, функционирует команда специалистов, подготавливающая учащихся по различным направлениям – информационно, предметно, психологичес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гибкости (отслеживание изменений нормативно-правовой базы, накопление научно-методических материалов по вопросам ЕГЭ, индивидуальный подход к каждому учащемус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ниторинг качества 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95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ое внимание в процессе деятельности ОУ по подготовке учащихся к ЕГЭ занимает мониторинг качества обученности по предметам, которые учащихся будут сдавать в форме и по материалам ЕГЭ. Напомним определения "мониторинг" и "мониторинг качества образования"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леживание, диагностика, прогнозирование результатов деятельности, предупреждающие неправомерную оценку события, факта по данным единичного измерения (оценивания) (по: И. Ивлиева, В. Панасюк, Е. Чернышева)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ниторинг качества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"следящая" и в определенной степени контрольно-регулирующая система по отношению к качеству образования. Поэтому он одновременно есть, с одной стороны, подсистема системы управления качеством образования, а, с другой стороны информационная система, в которой циркулирует, собирается, обрабатывается, хранится, анализируется, представляется (визуализируется) информация о качестве образования (по: А.И. Субетто)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ниторинг качества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мплекс информационно-оценочных средств и структурированных процессов по поводу состояния качества системы образования (по: В.И. Воротилов, В.А. Исае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истема мероприятий по повышению качества подготовки учащихся к итоговой аттестации в форме ЕГЭ включает следующие направления деятельност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ещение администрацией уроков учителей-предметников, методическая помощ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включение в планы работы деятельности школьных методических объединений вопросов подготовки к ЕГЭ, дополнительные семинары, курсы повышения квалиф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индивидуальные консультации учителей-предметников для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привлечение ресурсов дистанционного обучения и ресурсов Интернет для подготовки к ЕГЭ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широкий спектр элективных курсов, расширяющих программу базового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психологическая поддержка учащихся, консультирование, выработка индивидуальных стратегий подготовки к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ниторинг качества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олжен быть системным и комплекс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нашему мнению, он должен включать следующие параметры: контроль текущих оценок по предметам, выбираемым учащимися в форме ЕГЭ, оценок по контрольным работам, оценок по самостоятельным работам, результаты пробного внутришкольного ЕГЭ. Такую работу проводит заместитель директора, ответственный за вопросы ЕГЭ, анализирует их, выносит на обсуждение на административные и производственные совещания, доводит до сведения родителей. Мониторинг обеспечивает возможность прогнозирования оценок на выпускном ЕГЭ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8:55:20Z</dcterms:created>
  <dc:creator>Пользователь</dc:creator>
  <dc:description/>
  <dc:language>en-US</dc:language>
  <cp:lastModifiedBy>Пользователь</cp:lastModifiedBy>
  <dcterms:modified xsi:type="dcterms:W3CDTF">2012-02-09T18:51:17Z</dcterms:modified>
  <cp:revision>6</cp:revision>
  <dc:subject/>
  <dc:title>Пути и формы  подготовки к ЕГЭ</dc:title>
</cp:coreProperties>
</file>