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4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7.wmf" ContentType="image/x-wmf"/>
  <Override PartName="/ppt/media/image25.wmf" ContentType="image/x-wmf"/>
  <Override PartName="/ppt/media/image22.gif" ContentType="image/gif"/>
  <Override PartName="/ppt/media/image24.wmf" ContentType="image/x-wmf"/>
  <Override PartName="/ppt/media/image19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6.wmf" ContentType="image/x-wmf"/>
  <Override PartName="/ppt/media/image15.jpeg" ContentType="image/jpeg"/>
  <Override PartName="/ppt/media/image21.gif" ContentType="image/gif"/>
  <Override PartName="/ppt/media/image1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215-24C0-41AF-A8CE-5D2AF9410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4C4-69C4-42F7-BEFA-5C7853187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361-90AC-4E1C-8E1D-D3F74B68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E7C-7D12-4CDA-A608-D83B3AA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3CD-950B-43D2-BC51-8F095A11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B4B-7117-4B7D-9396-BDE7CA1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3CB7-B618-4EC4-8EE3-B3727FFB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5DED-DDBA-4EE5-B592-3918F5B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F34-3AB9-4F7D-9BF2-A65DCCE2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5CF-5EA7-4C1A-90A3-1B85D080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D9A-57CE-4FB3-A8E1-297F191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E044-A372-4FC5-AD57-E59CAEA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628-8F79-4816-A6A6-86FF873A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3D4-1871-475C-805B-E4A176C5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31A-FEFC-4F74-B068-BE3DABE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B58C-28C8-42A5-BA3C-DDBE5A8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C632-FC5F-4004-947C-B18F887F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467-6367-49BC-B6C7-1352E8B1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D2B-8370-47CD-8BF5-494083CB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665-DD97-4B74-937D-8B76110E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A44-5F84-42F2-9593-A5FC18DC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84F-1425-42DB-A0C7-FD0FA81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410-7598-48A1-8BE0-B2E2D2AF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5B7-8682-4E5D-9D03-6D2A97C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B77-2AB0-40F3-BD44-95A49890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4C8-702A-4620-B400-64074D2C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3AD6-0BB3-4A5A-BC0A-2CE5BE68CA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DF2-FF9B-4293-8055-FCE365EACB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ff0066"/>
                </a:solidFill>
                <a:latin typeface="Comic Sans MS"/>
              </a:rPr>
              <a:t>Детская </a:t>
            </a:r>
            <a:br>
              <a:rPr sz="6500"/>
            </a:br>
            <a:r>
              <a:rPr b="1" i="1" lang="en-US" sz="6500" spc="-1" strike="noStrike">
                <a:solidFill>
                  <a:srgbClr val="ff0066"/>
                </a:solidFill>
                <a:latin typeface="Comic Sans MS"/>
              </a:rPr>
              <a:t>агрессия и её причины</a:t>
            </a:r>
            <a:endParaRPr b="0" lang="en-US" sz="6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agr_1"/>
          <p:cNvPicPr/>
          <p:nvPr/>
        </p:nvPicPr>
        <p:blipFill>
          <a:blip r:embed="rId1"/>
          <a:stretch/>
        </p:blipFill>
        <p:spPr>
          <a:xfrm>
            <a:off x="5796000" y="4005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3933720"/>
            <a:ext cx="87440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рисунках видны признаки физической агрессии: зубы и шипы. Заострённые когти и хвост– это защитная агрессия. Бросаются в глаза длинные колючки торчащие в разные стороны и близко расположенные друг к друг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735280" cy="381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1752480" cy="338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27716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рисунках виден оптимизм(использование ярких цветов),женственност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наличие украшения, цветов, мягких линий, форм), стремление к домашней защите (наличие цветочного горшка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103480" cy="4413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3678480" cy="325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947680" cy="40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8240" y="152280"/>
            <a:ext cx="592128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Характерные особенности агрессивных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оспринимают большинство ситуаций как угрожающие или враждебные по отношению к ни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верхчувствительные к негативному отношению к себ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Заранее настроены на негативное восприятие себя со стороны окружающи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Не оценивают собственную агрессию, как агрессивное повед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сегда винят окружающих в своём агрессивном поведен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В случае намеренной агрессии отсутствует чувство в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клонны не брать на себя ответственность за свои поступ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Слабо развит контроль над своими эмоциями, кроме гне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Боится непредсказуемости в поведении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Характерны неустойчивое, рассеянное внимание, неустойчивое запомин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Не умеет прогнозировать последствия своих действ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оложительно относится к агрессии, т. к. через неё получает чувство собственной значимости, сил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88"/>
          <p:cNvPicPr/>
          <p:nvPr/>
        </p:nvPicPr>
        <p:blipFill>
          <a:blip r:embed="rId1"/>
          <a:stretch/>
        </p:blipFill>
        <p:spPr>
          <a:xfrm>
            <a:off x="428760" y="214200"/>
            <a:ext cx="10000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укла «Бобо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3068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6407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56840" y="99972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Как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не надо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вести себя родителям с  агрессивным ребен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стоянно внушать ему, что он плохой, Помните, что отрицательная оценка взрослых формирует отрицательную самооценку у ребенка и затрудняет его общение с внешним мир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гибкими воспитательными мероприятиями загонять ребенка в угол. Ожесточая е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овать агрессивные методы воспитания и наказания (шлепки, угол, ремень). Не забывайте, что агрессивность – это следствие враждебности, а воспитательные мероприятия – не орудия сра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зволять ребенку даже нарочно стрелять во взрослых игрушечным пистолет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ь мучить домашних животн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ультивировать вражду между ним и сверстни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корблять достоинство ребенка грубыми слов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любить его или любить только «оценочной» любов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caveman2a"/>
          <p:cNvPicPr/>
          <p:nvPr/>
        </p:nvPicPr>
        <p:blipFill>
          <a:blip r:embed="rId1"/>
          <a:stretch/>
        </p:blipFill>
        <p:spPr>
          <a:xfrm>
            <a:off x="0" y="71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ALVIN4"/>
          <p:cNvPicPr/>
          <p:nvPr/>
        </p:nvPicPr>
        <p:blipFill>
          <a:blip r:embed="rId2"/>
          <a:stretch/>
        </p:blipFill>
        <p:spPr>
          <a:xfrm>
            <a:off x="7451640" y="4797360"/>
            <a:ext cx="1497240" cy="1631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1500120" y="142920"/>
            <a:ext cx="726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Родителям на замет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0200" y="142560"/>
            <a:ext cx="6500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Родителям на замет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7983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вым делом нащупать все болевые точки в сем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рмализовать семейные от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имать его таким, какой он есть и любить со всеми недостат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-то требуется от ребенка, учитывать его возможности, а не то, как Вам хотелось бы его виде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пытайтесь погасить конфликт еще в зародыше, направляя интерес ребенка в другое рус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ать понять ему, что он любим, даже если в семье появился новорожден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учить его общению со сверстни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 драчливости ребенка главное – не разъяснить, а предотвратить уда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мнить ,что слово может ранить реб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нимать ребенка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aby04"/>
          <p:cNvPicPr/>
          <p:nvPr/>
        </p:nvPicPr>
        <p:blipFill>
          <a:blip r:embed="rId1"/>
          <a:stretch/>
        </p:blipFill>
        <p:spPr>
          <a:xfrm>
            <a:off x="7786800" y="542916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142920" y="142920"/>
            <a:ext cx="2368440" cy="156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57680" y="1000080"/>
            <a:ext cx="5943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ак надо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ести себя родителям с агрессивными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Comic Sans MS"/>
              </a:rPr>
              <a:t>Я люблю вас, родители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C:\Documents and Settings\Конфетка\Мои документы\Все для сайтов\www.gifpark.ru\Человеческие\Детские\2\mother.gif"/>
          <p:cNvPicPr/>
          <p:nvPr/>
        </p:nvPicPr>
        <p:blipFill>
          <a:blip r:embed="rId1"/>
          <a:stretch/>
        </p:blipFill>
        <p:spPr>
          <a:xfrm>
            <a:off x="395280" y="1989000"/>
            <a:ext cx="3168720" cy="410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2"/>
          <a:stretch/>
        </p:blipFill>
        <p:spPr>
          <a:xfrm>
            <a:off x="4067280" y="1197000"/>
            <a:ext cx="2016000" cy="28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Documents and Settings\Конфетка\Мои документы\Все для сайтов\www.gifpark.ru\Человеческие\Детские\1\66.gif"/>
          <p:cNvPicPr/>
          <p:nvPr/>
        </p:nvPicPr>
        <p:blipFill>
          <a:blip r:embed="rId3"/>
          <a:stretch/>
        </p:blipFill>
        <p:spPr>
          <a:xfrm>
            <a:off x="6659640" y="3933720"/>
            <a:ext cx="180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Rectangle 4"/>
          <p:cNvGraphicFramePr/>
          <p:nvPr/>
        </p:nvGraphicFramePr>
        <p:xfrm>
          <a:off x="539640" y="260280"/>
          <a:ext cx="734544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7345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33228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Мне хорошо, когда меня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848360" cy="4059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598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48312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Мне плохо, когда меня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06616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90440" y="622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428400"/>
            <a:ext cx="85183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Comic Sans MS"/>
              </a:rPr>
              <a:t>Человек обладает способностью любить, и если он не может найти применения своей способности любить, он способен ненавидеть, проявляя агрессию и жестокость. Этим средством он руководствуется, как бегством от собственной душевной боли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Эрих Фромм</a:t>
            </a:r>
            <a:br>
              <a:rPr sz="2800"/>
            </a:br>
            <a:r>
              <a:rPr b="1" i="1" lang="ru-RU" sz="2800" spc="-1" strike="noStrike">
                <a:solidFill>
                  <a:srgbClr val="00b200"/>
                </a:solidFill>
                <a:latin typeface="Comic Sans MS"/>
              </a:rPr>
              <a:t>« Промедление может обернуться чем угодно, ибо время приносит с собой как зло, так и добро, как добро, так и зло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коло Макиавелл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21040" y="116640"/>
            <a:ext cx="57643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Comic Sans MS"/>
              </a:rPr>
              <a:t>Чаще всего я радуюсь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Наступает день рождения -3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Наступает Новый год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Дарят подарки – 1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Рассказывают сказки -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Любят родител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Со мной верные друзья – 8%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Папа ряд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Иду на танц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Получу «5» -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Смотрю телевизор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200"/>
                </a:solidFill>
                <a:latin typeface="Comic Sans MS"/>
              </a:rPr>
              <a:t>Родители рядом – 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cc00cc"/>
                </a:solidFill>
                <a:latin typeface="Comic Sans MS"/>
              </a:rPr>
              <a:t>Чаще всего я смеюсь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ешит сосед по парте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лушаю анекдоты – 39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Щекочут  -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Рассказываю шут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в «Геймбой» -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с друг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Говорят что-то смешное -13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отрю на повадки животных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Смешат родственники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Дают смешные роли на праздники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Играю с мобильным телефоном – 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1"/>
          <a:stretch/>
        </p:blipFill>
        <p:spPr>
          <a:xfrm>
            <a:off x="6443640" y="148428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15880" y="895320"/>
            <a:ext cx="64123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Comic Sans MS"/>
              </a:rPr>
              <a:t>Чаще всего у меня хорошее настроение, ког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Едем на отдых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Смотрю телевизор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олучил (а) «5» - 20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целуют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Родители  рядом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Светит солнце -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апа покупает шоколад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а душе хорошо и сердце радуется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Выигрывает любимый футбольный клуб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ама дом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злит сестр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Играю в компьютер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Качаюсь на качелях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окупают игруш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Иду в школу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Дают конфет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Гуляю с другом -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1" descr="C:\Documents and Settings\Конфетка\Мои документы\Все для сайтов\www.gifpark.ru\Человеческие\Детские\2\CALVIN2.gif"/>
          <p:cNvPicPr/>
          <p:nvPr/>
        </p:nvPicPr>
        <p:blipFill>
          <a:blip r:embed="rId1"/>
          <a:stretch/>
        </p:blipFill>
        <p:spPr>
          <a:xfrm>
            <a:off x="6732720" y="3645000"/>
            <a:ext cx="2016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0960" y="457560"/>
            <a:ext cx="5566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Comic Sans MS"/>
              </a:rPr>
              <a:t>Чаще всего я плачу, ког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не плохо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ама уезжае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ругают –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тавят в угол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Не дают конфеты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бь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У меня гор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о мной не соглашаются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Ошибки в домашней работ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Заставляют делать уроки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Папы нет рядом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обижа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На меня кричат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Меня наказываю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Плохое настроение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Делают укол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Со мной дерется сестра – 4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Кусает собака -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buClr>
                <a:srgbClr val="00b200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200"/>
                </a:solidFill>
                <a:latin typeface="Comic Sans MS"/>
              </a:rPr>
              <a:t>Достают родственники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-4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C:\Documents and Settings\Конфетка\Мои документы\Все для сайтов\www.gifpark.ru\Человеческие\Детские\1\66.gif"/>
          <p:cNvPicPr/>
          <p:nvPr/>
        </p:nvPicPr>
        <p:blipFill>
          <a:blip r:embed="rId1"/>
          <a:stretch/>
        </p:blipFill>
        <p:spPr>
          <a:xfrm>
            <a:off x="611280" y="1197000"/>
            <a:ext cx="273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31760" y="1965240"/>
            <a:ext cx="54838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Comic Sans MS"/>
              </a:rPr>
              <a:t>Чаще всего я злюсь, ког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никто не слушает – 16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Бьют -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разрешают смотреть телевизор – 16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Плохо про меня говорят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Одна дома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ругают – 8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адо мной смеются – 12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Меня дразнят – 4%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Comic Sans MS"/>
              </a:rPr>
              <a:t>Не соглашаются со мной – 8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CALVIN4"/>
          <p:cNvPicPr/>
          <p:nvPr/>
        </p:nvPicPr>
        <p:blipFill>
          <a:blip r:embed="rId1"/>
          <a:stretch/>
        </p:blipFill>
        <p:spPr>
          <a:xfrm>
            <a:off x="250920" y="189000"/>
            <a:ext cx="1944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" name="Rectangle 4"/>
          <p:cNvGraphicFramePr/>
          <p:nvPr/>
        </p:nvGraphicFramePr>
        <p:xfrm>
          <a:off x="468360" y="260280"/>
          <a:ext cx="727236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272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Rectangle 4"/>
          <p:cNvGraphicFramePr/>
          <p:nvPr/>
        </p:nvGraphicFramePr>
        <p:xfrm>
          <a:off x="468360" y="549360"/>
          <a:ext cx="73436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3436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773360"/>
            <a:ext cx="784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хов в воспитан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обсудить с родителями причины детской агрессии, ее влияние на поведение ребенка; формировать у родителей культуру понимания проблемы детской агрессии и путей ее преодо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Форма пр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бесе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Вопросы для обсуж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причины детской агрессии; родительская власть, ее виды и пути влияния на ребенка; пути преодоления детской агрессив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Comic Sans MS"/>
              </a:rPr>
              <a:t>Подготовительная работ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анкетирование, подготовка памятки для родителей, выставка рисунков «Мои чувства», проведение исследования по проблеме детской агрессив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C:\Documents and Settings\Конфетка\Мои документы\Все для сайтов\www.gifpark.ru\Вещественные\Разные\Писанина\book.gif"/>
          <p:cNvPicPr/>
          <p:nvPr/>
        </p:nvPicPr>
        <p:blipFill>
          <a:blip r:embed="rId1"/>
          <a:stretch/>
        </p:blipFill>
        <p:spPr>
          <a:xfrm>
            <a:off x="6372360" y="4508640"/>
            <a:ext cx="209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828036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Comic Sans MS"/>
              </a:rPr>
              <a:t>       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Агрессивнос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мотивированное, деструктивное   поведение, которое противоречит нормам и правилам  существования людей в обществе, наносящее физический вред или моральный ущер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Агрессивность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общих чертах понимается как целенаправленное нанесение физического или психического ущерба другому лиц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гресс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ФИЗИЧЕСКАЯ                                  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  ВЕРБАЛЬН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gif016"/>
          <p:cNvPicPr/>
          <p:nvPr/>
        </p:nvPicPr>
        <p:blipFill>
          <a:blip r:embed="rId1"/>
          <a:stretch/>
        </p:blipFill>
        <p:spPr>
          <a:xfrm>
            <a:off x="1071720" y="3214800"/>
            <a:ext cx="13334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93"/>
          <p:cNvPicPr/>
          <p:nvPr/>
        </p:nvPicPr>
        <p:blipFill>
          <a:blip r:embed="rId2"/>
          <a:stretch/>
        </p:blipFill>
        <p:spPr>
          <a:xfrm>
            <a:off x="6429240" y="314316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214200" y="4572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ичины???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Comic Sans MS"/>
              </a:rPr>
              <a:t>Для чего нужна агрес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628640"/>
          <a:ext cx="8748720" cy="4525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Средство достижения какой - нибудь цели        ( отнять что - либо, принудить к чему – то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Как средство защи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askerville Old Face"/>
                        </a:rPr>
                        <a:t>Как средство самоутвержде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6" descr="C:\Documents and Settings\Конфетка\Мои документы\Все для сайтов\Анимация\Другое\b2.gif"/>
          <p:cNvPicPr/>
          <p:nvPr/>
        </p:nvPicPr>
        <p:blipFill>
          <a:blip r:embed="rId1"/>
          <a:stretch/>
        </p:blipFill>
        <p:spPr>
          <a:xfrm>
            <a:off x="7072200" y="5715000"/>
            <a:ext cx="1809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зультаты детских анк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37  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детей обижаются и злятся, когда их обзывают, не хотят с ними разговаривать, гулять, игнорируют их «будто они воздух»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27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детей обижаются и злятся, когда на них кричат, несправедливо ругают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22 %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когда их предают, «используют», бьют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8 %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когда дома одни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6 %</a:t>
            </a:r>
            <a:r>
              <a:rPr b="1" lang="en-US" sz="2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- не обижаются и не злятся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C:\Documents and Settings\Конфетка\Мои документы\Все для сайтов\Анимация\Люди\b38.gif"/>
          <p:cNvPicPr/>
          <p:nvPr/>
        </p:nvPicPr>
        <p:blipFill>
          <a:blip r:embed="rId1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Результат анкет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8043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2%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читают, что у их детей возникали случаи агресс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58%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ей жаловались родителям, что были объектом агресс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C:\Documents and Settings\Конфетка\Мои документы\Все для сайтов\www.gifpark.ru\Вещественные\Разные\Писанина\book.gif"/>
          <p:cNvPicPr/>
          <p:nvPr/>
        </p:nvPicPr>
        <p:blipFill>
          <a:blip r:embed="rId1"/>
          <a:stretch/>
        </p:blipFill>
        <p:spPr>
          <a:xfrm>
            <a:off x="6858000" y="4786200"/>
            <a:ext cx="20988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Результат анкетирования дет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8043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52%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тей смотрят сериалы, мультфиль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8%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отрят передачи познавательного характер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%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смотрят телевизор по причине занятости или запрета врач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69%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читают, что компьютер для развлечения (иг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1%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детей считают, что компьютер содержит познавательную информац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 Black"/>
              </a:rPr>
              <a:t>ПРИЧИНЫ ДЕТСКОЙ АГРЕ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9680" y="1196640"/>
            <a:ext cx="8358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обенности семейного воспитания (грубость, жестокость в семье, атмосфера «неприятия», противоречивые требования, непоследовательность родителей, наказание и поощрени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заимоотношения со сверстниками (чувство взрослости, отсутствие навыков общения, желание самоутвердиться в коллектив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indent="446040"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ры агрессивного по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телеэкране, компьютерные игр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agr_1"/>
          <p:cNvPicPr/>
          <p:nvPr/>
        </p:nvPicPr>
        <p:blipFill>
          <a:blip r:embed="rId1"/>
          <a:stretch/>
        </p:blipFill>
        <p:spPr>
          <a:xfrm>
            <a:off x="6588000" y="4221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28:50Z</dcterms:created>
  <dc:creator>Ксения</dc:creator>
  <dc:description/>
  <dc:language>en-US</dc:language>
  <cp:lastModifiedBy>Виталий</cp:lastModifiedBy>
  <dcterms:modified xsi:type="dcterms:W3CDTF">2008-12-16T20:58:03Z</dcterms:modified>
  <cp:revision>51</cp:revision>
  <dc:subject/>
  <dc:title>Детская агрессия и её причины</dc:title>
</cp:coreProperties>
</file>