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4933-ACAA-4BD2-B346-4CBDE06E0B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4F56-D618-421F-A9DB-1035D1C0C2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2F14-F185-417A-A15C-0ACF51318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D7EF-9B55-4E4E-8F74-0C43E630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9CD3-9A54-4791-8AD3-14530E205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9E43-68B9-4D6A-B3E9-B02E6809B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2836-B2FF-4830-94CE-45AD22CA1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3D2E-23FD-48C5-B8BB-183CBE44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627F-6A75-475C-BCC4-9E81C509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CFA9-7C51-4FEF-A8C6-3CD8E0AF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1E07-8EC0-4452-8224-09AE8A54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F704-0852-4A2D-B38F-3575A207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CBAD-2A27-40D4-B46D-2950923C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6B91-465A-4435-A4FD-30D47929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CEA2-5669-4D02-92D5-FDC362AF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94D63-7D2F-4F8D-BD3F-84F8C8A7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D3E8-B56A-40B5-931E-FB523D89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9F9F-663E-4E03-811E-12FE36CEE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EDC1-9E3F-4C7F-87AD-F8969ED5E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17FF-3A3A-4C9F-8022-03DED2C4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0E61-5114-40E8-8864-F29F1F59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0C06-CAF5-4B67-BB6A-48E23975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8860-F9B9-4110-AAFB-4E669B57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2693-2CE7-45C8-9CFB-7276D963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69D7-67F0-4D82-9F51-6D81995D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BD21-10E1-42E4-9543-56550BBE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BD31-5AFE-4632-9483-3291C0F6179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A7F5-4FFC-4668-8A3A-65E1C23198A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ТОЧКИ и ЛИН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рок математики в 1 класс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5867280" y="54864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5486400" y="4724280"/>
            <a:ext cx="3657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О.Д. Николайч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МОБУ СОШ № 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Г. Таганр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011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703dff"/>
                </a:solidFill>
                <a:latin typeface="Comic Sans MS"/>
              </a:rPr>
              <a:t>Устный счёт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Oval 4"/>
          <p:cNvSpPr/>
          <p:nvPr/>
        </p:nvSpPr>
        <p:spPr>
          <a:xfrm>
            <a:off x="752400" y="3429000"/>
            <a:ext cx="1681200" cy="16765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5"/>
          <p:cNvSpPr/>
          <p:nvPr/>
        </p:nvSpPr>
        <p:spPr>
          <a:xfrm>
            <a:off x="2160720" y="1752480"/>
            <a:ext cx="1676160" cy="16765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6"/>
          <p:cNvSpPr/>
          <p:nvPr/>
        </p:nvSpPr>
        <p:spPr>
          <a:xfrm>
            <a:off x="3733920" y="3429000"/>
            <a:ext cx="1676160" cy="16765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7"/>
          <p:cNvSpPr/>
          <p:nvPr/>
        </p:nvSpPr>
        <p:spPr>
          <a:xfrm>
            <a:off x="5437080" y="1752480"/>
            <a:ext cx="1676520" cy="16765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8"/>
          <p:cNvSpPr/>
          <p:nvPr/>
        </p:nvSpPr>
        <p:spPr>
          <a:xfrm>
            <a:off x="6726240" y="3429000"/>
            <a:ext cx="1676520" cy="16765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WordArt 10"/>
          <p:cNvSpPr txBox="1"/>
          <p:nvPr/>
        </p:nvSpPr>
        <p:spPr>
          <a:xfrm>
            <a:off x="5937120" y="2065320"/>
            <a:ext cx="674640" cy="8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6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0" name="WordArt 12"/>
          <p:cNvSpPr txBox="1"/>
          <p:nvPr/>
        </p:nvSpPr>
        <p:spPr>
          <a:xfrm>
            <a:off x="7346880" y="3790800"/>
            <a:ext cx="622440" cy="91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6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" name="WordArt 13"/>
          <p:cNvSpPr txBox="1"/>
          <p:nvPr/>
        </p:nvSpPr>
        <p:spPr>
          <a:xfrm>
            <a:off x="1214280" y="3790800"/>
            <a:ext cx="644760" cy="8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solidFill>
                  <a:srgbClr val="00b2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6000" spc="1" strike="noStrike">
              <a:ln w="0">
                <a:noFill/>
              </a:ln>
              <a:solidFill>
                <a:srgbClr val="00b2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2" name="WordArt 14"/>
          <p:cNvSpPr txBox="1"/>
          <p:nvPr/>
        </p:nvSpPr>
        <p:spPr>
          <a:xfrm>
            <a:off x="2608200" y="2147760"/>
            <a:ext cx="749520" cy="9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0" lang="en-US" sz="60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3" name="WordArt 15"/>
          <p:cNvSpPr txBox="1"/>
          <p:nvPr/>
        </p:nvSpPr>
        <p:spPr>
          <a:xfrm>
            <a:off x="4300560" y="3770280"/>
            <a:ext cx="541440" cy="98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0" lang="en-US" sz="60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703dff"/>
                </a:solidFill>
                <a:latin typeface="Comic Sans MS"/>
              </a:rPr>
              <a:t>Проверь себя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Oval 5"/>
          <p:cNvSpPr/>
          <p:nvPr/>
        </p:nvSpPr>
        <p:spPr>
          <a:xfrm>
            <a:off x="0" y="2590920"/>
            <a:ext cx="1676520" cy="16761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7"/>
          <p:cNvSpPr/>
          <p:nvPr/>
        </p:nvSpPr>
        <p:spPr>
          <a:xfrm>
            <a:off x="1773360" y="2590920"/>
            <a:ext cx="1676160" cy="16761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8"/>
          <p:cNvSpPr/>
          <p:nvPr/>
        </p:nvSpPr>
        <p:spPr>
          <a:xfrm>
            <a:off x="5195880" y="2590920"/>
            <a:ext cx="1676520" cy="16761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9"/>
          <p:cNvSpPr/>
          <p:nvPr/>
        </p:nvSpPr>
        <p:spPr>
          <a:xfrm>
            <a:off x="6973920" y="2590920"/>
            <a:ext cx="1676520" cy="16761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0"/>
          <p:cNvSpPr/>
          <p:nvPr/>
        </p:nvSpPr>
        <p:spPr>
          <a:xfrm>
            <a:off x="3449520" y="2590920"/>
            <a:ext cx="1676520" cy="16761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WordArt 11"/>
          <p:cNvSpPr txBox="1"/>
          <p:nvPr/>
        </p:nvSpPr>
        <p:spPr>
          <a:xfrm>
            <a:off x="7469280" y="3011400"/>
            <a:ext cx="644400" cy="8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solidFill>
                  <a:srgbClr val="00b2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6000" spc="1" strike="noStrike">
              <a:ln w="0">
                <a:noFill/>
              </a:ln>
              <a:solidFill>
                <a:srgbClr val="00b2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1" name="WordArt 12"/>
          <p:cNvSpPr txBox="1"/>
          <p:nvPr/>
        </p:nvSpPr>
        <p:spPr>
          <a:xfrm>
            <a:off x="3897360" y="2986200"/>
            <a:ext cx="74916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0" lang="en-US" sz="60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WordArt 13"/>
          <p:cNvSpPr txBox="1"/>
          <p:nvPr/>
        </p:nvSpPr>
        <p:spPr>
          <a:xfrm>
            <a:off x="493560" y="2979720"/>
            <a:ext cx="675000" cy="8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6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3" name="WordArt 14"/>
          <p:cNvSpPr txBox="1"/>
          <p:nvPr/>
        </p:nvSpPr>
        <p:spPr>
          <a:xfrm>
            <a:off x="2400480" y="2936880"/>
            <a:ext cx="541080" cy="98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0" lang="en-US" sz="60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4" name="WordArt 15"/>
          <p:cNvSpPr txBox="1"/>
          <p:nvPr/>
        </p:nvSpPr>
        <p:spPr>
          <a:xfrm>
            <a:off x="5746680" y="2968560"/>
            <a:ext cx="642960" cy="8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6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5" name="WordArt 18"/>
          <p:cNvSpPr txBox="1"/>
          <p:nvPr/>
        </p:nvSpPr>
        <p:spPr>
          <a:xfrm>
            <a:off x="560520" y="2955960"/>
            <a:ext cx="582480" cy="9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6" name="WordArt 19"/>
          <p:cNvSpPr txBox="1"/>
          <p:nvPr/>
        </p:nvSpPr>
        <p:spPr>
          <a:xfrm>
            <a:off x="2309760" y="2935440"/>
            <a:ext cx="685800" cy="98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7" name="WordArt 20"/>
          <p:cNvSpPr txBox="1"/>
          <p:nvPr/>
        </p:nvSpPr>
        <p:spPr>
          <a:xfrm>
            <a:off x="4048200" y="2955960"/>
            <a:ext cx="52380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WordArt 21"/>
          <p:cNvSpPr txBox="1"/>
          <p:nvPr/>
        </p:nvSpPr>
        <p:spPr>
          <a:xfrm>
            <a:off x="5675400" y="2976480"/>
            <a:ext cx="70488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9" name="WordArt 22"/>
          <p:cNvSpPr txBox="1"/>
          <p:nvPr/>
        </p:nvSpPr>
        <p:spPr>
          <a:xfrm>
            <a:off x="7451640" y="2925720"/>
            <a:ext cx="684360" cy="9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2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2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2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2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2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36520" y="-4147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368fe"/>
                </a:solidFill>
                <a:latin typeface="Comic Sans MS"/>
              </a:rPr>
              <a:t>ТОЧКИ И ЛИН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1101600" y="2951280"/>
            <a:ext cx="1870200" cy="2660400"/>
          </a:xfrm>
          <a:prstGeom prst="line">
            <a:avLst/>
          </a:prstGeom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97440" y="5086440"/>
            <a:ext cx="125640" cy="1299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03920" y="2903400"/>
            <a:ext cx="125280" cy="1317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077920" y="5900760"/>
            <a:ext cx="125640" cy="1666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54240" y="2548080"/>
            <a:ext cx="125640" cy="1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8840" y="2624040"/>
            <a:ext cx="166680" cy="165240"/>
          </a:xfrm>
          <a:prstGeom prst="ellipse">
            <a:avLst/>
          </a:prstGeom>
          <a:solidFill>
            <a:srgbClr val="ffb800"/>
          </a:soli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018640" y="5754600"/>
            <a:ext cx="125280" cy="1666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06720" y="3057480"/>
            <a:ext cx="4510080" cy="2195640"/>
          </a:xfrm>
          <a:custGeom>
            <a:avLst/>
            <a:gdLst/>
            <a:ahLst/>
            <a:rect l="l" t="t" r="r" b="b"/>
            <a:pathLst>
              <a:path w="2841" h="1383">
                <a:moveTo>
                  <a:pt x="0" y="1296"/>
                </a:moveTo>
                <a:cubicBezTo>
                  <a:pt x="178" y="1383"/>
                  <a:pt x="410" y="1321"/>
                  <a:pt x="602" y="1283"/>
                </a:cubicBezTo>
                <a:cubicBezTo>
                  <a:pt x="634" y="1252"/>
                  <a:pt x="670" y="1242"/>
                  <a:pt x="707" y="1217"/>
                </a:cubicBezTo>
                <a:cubicBezTo>
                  <a:pt x="753" y="1148"/>
                  <a:pt x="818" y="1093"/>
                  <a:pt x="877" y="1034"/>
                </a:cubicBezTo>
                <a:cubicBezTo>
                  <a:pt x="906" y="1005"/>
                  <a:pt x="928" y="971"/>
                  <a:pt x="956" y="942"/>
                </a:cubicBezTo>
                <a:cubicBezTo>
                  <a:pt x="983" y="874"/>
                  <a:pt x="1008" y="810"/>
                  <a:pt x="1061" y="759"/>
                </a:cubicBezTo>
                <a:cubicBezTo>
                  <a:pt x="1070" y="737"/>
                  <a:pt x="1076" y="714"/>
                  <a:pt x="1087" y="694"/>
                </a:cubicBezTo>
                <a:cubicBezTo>
                  <a:pt x="1093" y="683"/>
                  <a:pt x="1109" y="679"/>
                  <a:pt x="1113" y="667"/>
                </a:cubicBezTo>
                <a:cubicBezTo>
                  <a:pt x="1127" y="629"/>
                  <a:pt x="1126" y="588"/>
                  <a:pt x="1139" y="550"/>
                </a:cubicBezTo>
                <a:cubicBezTo>
                  <a:pt x="1151" y="515"/>
                  <a:pt x="1214" y="462"/>
                  <a:pt x="1231" y="445"/>
                </a:cubicBezTo>
                <a:cubicBezTo>
                  <a:pt x="1242" y="434"/>
                  <a:pt x="1244" y="415"/>
                  <a:pt x="1257" y="406"/>
                </a:cubicBezTo>
                <a:cubicBezTo>
                  <a:pt x="1285" y="387"/>
                  <a:pt x="1417" y="369"/>
                  <a:pt x="1440" y="366"/>
                </a:cubicBezTo>
                <a:cubicBezTo>
                  <a:pt x="1939" y="384"/>
                  <a:pt x="2170" y="408"/>
                  <a:pt x="2618" y="393"/>
                </a:cubicBezTo>
                <a:cubicBezTo>
                  <a:pt x="2657" y="354"/>
                  <a:pt x="2679" y="356"/>
                  <a:pt x="2697" y="301"/>
                </a:cubicBezTo>
                <a:cubicBezTo>
                  <a:pt x="2707" y="114"/>
                  <a:pt x="2649" y="0"/>
                  <a:pt x="2841" y="0"/>
                </a:cubicBezTo>
              </a:path>
            </a:pathLst>
          </a:custGeom>
          <a:noFill/>
          <a:ln w="63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1336680"/>
            <a:ext cx="5299200" cy="2092320"/>
          </a:xfrm>
          <a:custGeom>
            <a:avLst/>
            <a:gdLst/>
            <a:ahLst/>
            <a:rect l="l" t="t" r="r" b="b"/>
            <a:pathLst>
              <a:path w="3338" h="1318">
                <a:moveTo>
                  <a:pt x="0" y="349"/>
                </a:moveTo>
                <a:cubicBezTo>
                  <a:pt x="211" y="208"/>
                  <a:pt x="423" y="68"/>
                  <a:pt x="589" y="205"/>
                </a:cubicBezTo>
                <a:cubicBezTo>
                  <a:pt x="755" y="342"/>
                  <a:pt x="777" y="1030"/>
                  <a:pt x="995" y="1174"/>
                </a:cubicBezTo>
                <a:cubicBezTo>
                  <a:pt x="1213" y="1318"/>
                  <a:pt x="1614" y="1257"/>
                  <a:pt x="1898" y="1069"/>
                </a:cubicBezTo>
                <a:cubicBezTo>
                  <a:pt x="2182" y="881"/>
                  <a:pt x="2456" y="96"/>
                  <a:pt x="2696" y="48"/>
                </a:cubicBezTo>
                <a:cubicBezTo>
                  <a:pt x="2936" y="0"/>
                  <a:pt x="3231" y="659"/>
                  <a:pt x="3338" y="781"/>
                </a:cubicBezTo>
              </a:path>
            </a:pathLst>
          </a:custGeom>
          <a:noFill/>
          <a:ln w="54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660760" y="5154480"/>
            <a:ext cx="5340240" cy="134964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5"/>
          <p:cNvSpPr/>
          <p:nvPr/>
        </p:nvSpPr>
        <p:spPr>
          <a:xfrm>
            <a:off x="353880" y="3906720"/>
            <a:ext cx="1662120" cy="1579680"/>
          </a:xfrm>
          <a:prstGeom prst="rect">
            <a:avLst/>
          </a:prstGeom>
          <a:noFill/>
          <a:ln w="540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143000" y="1954080"/>
            <a:ext cx="1600200" cy="1474920"/>
          </a:xfrm>
          <a:prstGeom prst="triangle">
            <a:avLst>
              <a:gd name="adj" fmla="val 50000"/>
            </a:avLst>
          </a:prstGeom>
          <a:noFill/>
          <a:ln w="540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7"/>
          <p:cNvSpPr/>
          <p:nvPr/>
        </p:nvSpPr>
        <p:spPr>
          <a:xfrm rot="2394000">
            <a:off x="3595320" y="2233440"/>
            <a:ext cx="976320" cy="2389320"/>
          </a:xfrm>
          <a:prstGeom prst="ellipse">
            <a:avLst/>
          </a:prstGeom>
          <a:noFill/>
          <a:ln w="540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8"/>
          <p:cNvSpPr/>
          <p:nvPr/>
        </p:nvSpPr>
        <p:spPr>
          <a:xfrm rot="11098800">
            <a:off x="2119320" y="5050800"/>
            <a:ext cx="3470400" cy="1392120"/>
          </a:xfrm>
          <a:custGeom>
            <a:avLst/>
            <a:gdLst>
              <a:gd name="textAreaLeft" fmla="*/ 722880 w 3470400"/>
              <a:gd name="textAreaRight" fmla="*/ 2747520 w 3470400"/>
              <a:gd name="textAreaTop" fmla="*/ 289800 h 1392120"/>
              <a:gd name="textAreaBottom" fmla="*/ 1102320 h 139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noFill/>
          <a:ln w="540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9"/>
          <p:cNvSpPr/>
          <p:nvPr/>
        </p:nvSpPr>
        <p:spPr>
          <a:xfrm>
            <a:off x="5527800" y="1913040"/>
            <a:ext cx="1476360" cy="1515960"/>
          </a:xfrm>
          <a:prstGeom prst="ellipse">
            <a:avLst/>
          </a:prstGeom>
          <a:noFill/>
          <a:ln w="540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"/>
          <p:cNvSpPr/>
          <p:nvPr/>
        </p:nvSpPr>
        <p:spPr>
          <a:xfrm rot="19949400">
            <a:off x="5221080" y="3936960"/>
            <a:ext cx="3616200" cy="1611360"/>
          </a:xfrm>
          <a:prstGeom prst="parallelogram">
            <a:avLst>
              <a:gd name="adj" fmla="val 93549"/>
            </a:avLst>
          </a:prstGeom>
          <a:noFill/>
          <a:ln w="540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440640" y="289080"/>
            <a:ext cx="7567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03dff"/>
                </a:solidFill>
                <a:latin typeface="Comic Sans MS"/>
              </a:rPr>
              <a:t>Геометрические фигуры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i="1" lang="en-US" sz="4400" spc="-1" strike="noStrike">
                <a:solidFill>
                  <a:srgbClr val="7368fe"/>
                </a:solidFill>
                <a:latin typeface="Comic Sans MS"/>
              </a:rPr>
              <a:t>замкнутые</a:t>
            </a:r>
            <a:r>
              <a:rPr b="1" i="1" lang="en-US" sz="4400" spc="-1" strike="noStrike">
                <a:solidFill>
                  <a:srgbClr val="703dff"/>
                </a:solidFill>
                <a:latin typeface="Comic Sans MS"/>
              </a:rPr>
              <a:t> линии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3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3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880"/>
                            </p:stCondLst>
                            <p:childTnLst>
                              <p:par>
                                <p:cTn id="1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7"/>
          <p:cNvSpPr/>
          <p:nvPr/>
        </p:nvSpPr>
        <p:spPr>
          <a:xfrm>
            <a:off x="2548080" y="1219320"/>
            <a:ext cx="861840" cy="22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900" spc="-1" strike="noStrike">
                <a:solidFill>
                  <a:srgbClr val="703dff"/>
                </a:solidFill>
                <a:latin typeface="Arial"/>
              </a:rPr>
              <a:t>1</a:t>
            </a:r>
            <a:endParaRPr b="0" lang="en-US" sz="1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4573800" y="1219320"/>
            <a:ext cx="1264320" cy="22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9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1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6726240" y="1635120"/>
            <a:ext cx="1393920" cy="22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900" spc="-1" strike="noStrike">
                <a:solidFill>
                  <a:srgbClr val="00b200"/>
                </a:solidFill>
                <a:latin typeface="Arial"/>
              </a:rPr>
              <a:t>Л</a:t>
            </a:r>
            <a:endParaRPr b="0" lang="en-US" sz="1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6520320" y="4235400"/>
            <a:ext cx="1450080" cy="22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900" spc="-1" strike="noStrike">
                <a:solidFill>
                  <a:srgbClr val="ffb800"/>
                </a:solidFill>
                <a:latin typeface="Arial"/>
              </a:rPr>
              <a:t>П</a:t>
            </a:r>
            <a:endParaRPr b="0" lang="en-US" sz="1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4308480" y="3429000"/>
            <a:ext cx="1162080" cy="22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900" spc="-1" strike="noStrike">
                <a:solidFill>
                  <a:srgbClr val="cc0066"/>
                </a:solidFill>
                <a:latin typeface="Arial"/>
              </a:rPr>
              <a:t>2</a:t>
            </a:r>
            <a:endParaRPr b="0" lang="en-US" sz="1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949680" y="2843280"/>
            <a:ext cx="1454760" cy="22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900" spc="-1" strike="noStrike">
                <a:solidFill>
                  <a:srgbClr val="ff6600"/>
                </a:solidFill>
                <a:latin typeface="Arial"/>
              </a:rPr>
              <a:t>С</a:t>
            </a:r>
            <a:endParaRPr b="0" lang="en-US" sz="1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2690640" y="4648320"/>
            <a:ext cx="1162080" cy="22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900" spc="-1" strike="noStrike">
                <a:solidFill>
                  <a:srgbClr val="00cc00"/>
                </a:solidFill>
                <a:latin typeface="Arial"/>
              </a:rPr>
              <a:t>5</a:t>
            </a:r>
            <a:endParaRPr b="0" lang="en-US" sz="1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0"/>
          <p:cNvSpPr/>
          <p:nvPr/>
        </p:nvSpPr>
        <p:spPr>
          <a:xfrm flipH="1">
            <a:off x="328680" y="281160"/>
            <a:ext cx="7912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7030a0"/>
                </a:solidFill>
                <a:latin typeface="Comic Sans MS"/>
              </a:rPr>
              <a:t>Незамкнутые лини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301760" y="882720"/>
            <a:ext cx="322200" cy="3110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48120" y="1312920"/>
            <a:ext cx="245880" cy="247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71720" y="2657520"/>
            <a:ext cx="333360" cy="301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path" presetID="3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3.16678E-006 C 0.01059 -0.01342 0.02656 -0.01967 0.03923 -0.01967 C 0.05798 -0.01967 0.07621 -0.00995 0.08663 0.00647 C 0.13142 0.07333 0.16562 0.21929 0.16562 0.39209 C 0.16562 0.39255 0.16562 0.39486 0.16562 0.39556 C 0.16562 0.39486 0.16562 0.39833 0.16562 0.39903 C 0.16562 0.57113 0.13142 0.72056 0.08663 0.78695 C 0.07621 0.80037 0.05798 0.81008 0.03923 0.81008 C 0.02656 0.81008 0.01059 0.80384 1.94444E-006 0.79042 C -0.01059 0.777 -0.0158 0.76012 -0.0158 0.74045 C -0.0158 0.71709 -0.00781 0.69743 0.00538 0.68448 C 0.05798 0.62456 0.17344 0.58107 0.31024 0.58107 C 0.31024 0.58154 0.3125 0.58107 0.3125 0.58154 C 0.3125 0.58107 0.31528 0.58107 0.31528 0.58154 C 0.45208 0.58107 0.57031 0.62456 0.62274 0.68448 C 0.63316 0.69743 0.64114 0.71709 0.64114 0.74045 C 0.64114 0.76012 0.63594 0.777 0.62535 0.79042 C 0.61493 0.80384 0.60173 0.81008 0.58576 0.81008 C 0.56753 0.81008 0.55208 0.80037 0.54149 0.78695 C 0.4941 0.72056 0.45989 0.57113 0.45989 0.39833 C 0.45989 0.39903 0.45989 0.39486 0.45989 0.39556 C 0.45989 0.39486 0.45989 0.39209 0.45989 0.39255 C 0.45989 0.21929 0.4941 0.07333 0.54149 0.00347 C 0.55208 -0.00995 0.56753 -0.01967 0.58576 -0.01967 C 0.60173 -0.01967 0.61493 -0.01342 0.62535 3.16678E-006 C 0.63594 0.01341 0.64114 0.03377 0.64114 0.0495 C 0.64114 0.07333 0.63316 0.09299 0.62274 0.10987 C 0.57031 0.16632 0.45208 0.20934 0.31528 0.20934 C 0.31528 0.2098 0.31528 0.20934 0.3125 0.20934 C 0.3125 0.2098 0.31024 0.20934 0.31024 0.2098 C 0.17344 0.20934 0.05798 0.16632 0.00538 0.10987 C -0.00781 0.09299 -0.0158 0.07333 -0.0158 0.0495 C -0.0158 0.03377 -0.01059 0.01341 1.94444E-006 3.16678E-006 Z">
                                      <p:cBhvr>
                                        <p:cTn id="183" dur="15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500"/>
                            </p:stCondLst>
                            <p:childTnLst>
                              <p:par>
                                <p:cTn id="18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6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6500"/>
                            </p:stCondLst>
                            <p:childTnLst>
                              <p:par>
                                <p:cTn id="196" nodeType="after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976 -0.12075 C -0.19167 -0.02591 -0.07292 0.05806 0.07656 0.06153 C 0.19531 0.06939 0.29236 0.02359 0.29479 -0.03378 C 0.29479 -0.09068 0.19913 -0.14389 0.07882 -0.14712 C 0.01823 -0.14712 -0.03611 -0.14019 -0.075 -0.12075 C -0.1316 -0.09438 -0.16458 -0.05228 -0.16458 -0.00278 C -0.16458 0.02359 -0.15486 0.05019 -0.13715 0.07332 C -0.09653 0.12283 -0.01667 0.1566 0.07448 0.16053 C 0.18177 0.16863 0.26927 0.12607 0.26927 0.07726 C 0.27118 0.02359 0.18385 -0.02175 0.07656 -0.02961 C 0.02222 -0.02961 -0.02656 -0.02175 -0.06354 -0.00648 C -0.11233 0.01989 -0.1434 0.06153 -0.1434 0.10363 C -0.1434 0.12607 -0.13351 0.1492 -0.11788 0.17233 C -0.0809 0.21397 -0.01076 0.24843 0.07292 0.2519 C 0.17014 0.2556 0.24792 0.21813 0.24792 0.17233 C 0.24983 0.12607 0.17205 0.08466 0.07448 0.0805 C 0.02604 0.07726 -0.01875 0.08466 -0.05174 0.09969 C -0.09653 0.12283 -0.1217 0.1566 -0.1217 0.1987 C -0.1217 0.21813 -0.11389 0.24034 -0.10052 0.25977 C -0.06719 0.29817 -0.00294999999999999 0.32824 0.07101 0.33148 C 0.15833 0.33148 0.2283 0.30141 0.2283 0.25977 C 0.2283 0.21813 0.16059 0.17973 0.07292 0.1758 C 0.03003 0.1758 -0.01076 0.18366 -0.03993 0.195 C -0.0809 0.21397 -0.10434 0.24843 -0.10608 0.2829 C -0.10608 0.30141 -0.09653 0.32037 -0.08472 0.33564 C -0.05573 0.37404 0.00260000000000001 0.40041 0.06892 0.40041 C 0.14653 0.40434 0.21094 0.37774 0.21094 0.33981 C 0.21285 0.30141 0.14844 0.26763 0.07101 0.26347 C 0.03194 0.26347 -0.00504 0.26763 -0.03056 0.2829 C -0.06719 0.29817 -0.08872 0.32824 -0.08872 0.35877 C -0.08872 0.37774 -0.08281 0.39301 -0.07136 0.40828 C -0.04392 0.44205 0.00677 0.46518 0.06701 0.46911 C 0.13871 0.46911 0.19531 0.44598 0.19531 0.41152 C 0.19722 0.37774 0.14097 0.34675 0.06892 0.34351 C 0.03368 0.34351 0.0026 0.34675 -0.02066 0.35877 C -0.05365 0.37404 -0.07292 0.40041 -0.07292 0.43095 C -0.07292 0.44598 -0.06719 0.45778 -0.05764 0.47305 C -0.03403 0.50358 0.01233 0.52209 0.06701 0.52602 C 0.13108 0.52995 0.18177 0.50682 0.18177 0.47305 C 0.18177 0.44598 0.13316 0.41568 0.06892 0.41568 C 0.03559 0.41152 0.00677 0.41938 -0.01476 0.42678 C -0.04392 0.44205 -0.06163 0.46518 -0.06163 0.49155 C -0.06163 0.50682 -0.05573 0.51862 -0.04583 0.52995 C -0.02431 0.55632 0.01823 0.57552 0.0651 0.57945 C 0.12326 0.58339 0.17014 0.56025 0.17014 0.53388 C 0.17014 0.50358 0.12326 0.48045 0.06701 0.47628 C 0.03993 0.47628 0.01233 0.48045 -0.00729 0.49155 C -0.03403 0.50358 -0.04983 0.52209 -0.04983 0.54915 C -0.04983 0.56025 -0.04392 0.57159 -0.03611 0.58339 C -0.01667 0.60606 0.02031 0.62502 0.0651 0.62502 C 0.11545 0.62919 0.15833 0.60976 0.15833 0.58339 C 0.15833 0.56025 0.11736 0.53712 0.0651 0.53712 C 0.04149 0.53388 0.01667 0.53712 -0.00104 0.54499 C -0.02431 0.56025 -0.03837 0.57945 -0.03837 0.59865 C -0.03837 0.60976 -0.03403 0.62109 -0.02656 0.62919 C -0.00886 0.65139 0.02413 0.66666 0.0651 0.67083 C 0.1118 0.67083 0.14844 0.65139 0.14844 0.63243 C 0.14844 0.60976 0.1118 0.58663 0.0651 0.58663 C 0.04149 0.58663 0.02031 0.59079 0.00677 0.59865 C -0.01667 0.60606 -0.02847 0.62502 -0.02847 0.64422 C -0.02847 0.65139 -0.02431 0.66342 -0.01875 0.67083 C -0.00295 0.69396 0.02812 0.70506 0.06302 0.70923 C 0.1059 0.70923 0.13871 0.69396 0.13871 0.67453 C 0.13871 0.65139 0.1059 0.63613 0.0651 0.63243 C 0.0434 0.63243 0.02413 0.63613 0.01042 0.64422 C -0.00886 0.65139 -0.02066 0.66666 -0.02066 0.68586 C -0.02066 0.69396 -0.01667 0.7009 -0.01076 0.70923 E">
                                      <p:cBhvr>
                                        <p:cTn id="197" dur="20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6500"/>
                            </p:stCondLst>
                            <p:childTnLst>
                              <p:par>
                                <p:cTn id="199" nodeType="after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0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85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9000"/>
                            </p:stCondLst>
                            <p:childTnLst>
                              <p:par>
                                <p:cTn id="209" nodeType="after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0903 0.03701 C 0.61007 0.13416 0.55695 0.21466 0.49288 0.21466 C 0.42535 0.21466 0.3724 0.13416 0.3724 0.03701 C 0.37222 -0.05968 0.3191 -0.14018 0.25643 -0.14018 C 0.19236 -0.14018 0.13941 -0.05968 0.13941 0.03701 C 0.13941 0.13416 0.08646 0.21351 0.0224 0.21466 C -0.04097 0.21443 -0.09392 0.13416 -0.09392 0.03701 C -0.09392 -0.05968 -0.14653 -0.14018 -0.21389 -0.14018 C -0.27882 -0.14018 -0.33073 -0.05968 -0.33038 0.03701 C -0.3309 0.13301 -0.27882 0.21351 -0.21423 0.21466 C -0.14653 0.21351 -0.09392 0.13416 -0.09392 0.03701 C -0.09392 -0.05968 -0.04097 -0.13995 0.02222 -0.14018 C 0.08629 -0.14018 0.13941 -0.05968 0.13941 0.03701 C 0.13941 0.13416 0.19219 0.21466 0.25608 0.21466 C 0.31962 0.21397 0.3724 0.13416 0.3724 0.03701 C 0.37222 -0.05968 0.42518 -0.13995 0.49271 -0.14018 C 0.55677 -0.14065 0.61007 -0.05968 0.60903 0.03701 Z">
                                      <p:cBhvr>
                                        <p:cTn id="210" dur="20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9000"/>
                            </p:stCondLst>
                            <p:childTnLst>
                              <p:par>
                                <p:cTn id="212" nodeType="after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1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988920" y="1130400"/>
            <a:ext cx="324000" cy="3427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380360" y="1150920"/>
            <a:ext cx="387360" cy="34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227480" y="3292560"/>
            <a:ext cx="515880" cy="517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89840" y="5862600"/>
            <a:ext cx="387360" cy="3985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04840" y="4002120"/>
            <a:ext cx="290520" cy="322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646520" y="258840"/>
            <a:ext cx="216000" cy="2142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59080" y="6056280"/>
            <a:ext cx="355680" cy="3222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035920" y="3011400"/>
            <a:ext cx="387360" cy="378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774880" y="763560"/>
            <a:ext cx="452520" cy="419040"/>
          </a:xfrm>
          <a:prstGeom prst="ellipse">
            <a:avLst/>
          </a:prstGeom>
          <a:solidFill>
            <a:srgbClr val="7368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3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0"/>
                            </p:stCondLst>
                            <p:childTnLst>
                              <p:par>
                                <p:cTn id="236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7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6000"/>
                            </p:stCondLst>
                            <p:childTnLst>
                              <p:par>
                                <p:cTn id="2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7000"/>
                            </p:stCondLst>
                            <p:childTnLst>
                              <p:par>
                                <p:cTn id="243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4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8000"/>
                            </p:stCondLst>
                            <p:childTnLst>
                              <p:par>
                                <p:cTn id="2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9000"/>
                            </p:stCondLst>
                            <p:childTnLst>
                              <p:par>
                                <p:cTn id="250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1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7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8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4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5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1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2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6000"/>
                            </p:stCondLst>
                            <p:childTnLst>
                              <p:par>
                                <p:cTn id="2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7000"/>
                            </p:stCondLst>
                            <p:childTnLst>
                              <p:par>
                                <p:cTn id="278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9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ubBanner"/>
          <p:cNvSpPr/>
          <p:nvPr/>
        </p:nvSpPr>
        <p:spPr>
          <a:xfrm>
            <a:off x="498600" y="0"/>
            <a:ext cx="8145360" cy="20289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376280" y="638280"/>
            <a:ext cx="6389640" cy="1039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0066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олодцы, ребята!</a:t>
            </a:r>
            <a:endParaRPr b="0" lang="en-US" sz="6000" spc="1" strike="noStrike">
              <a:ln w="9360">
                <a:solidFill>
                  <a:srgbClr val="cc0066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336760" y="1778040"/>
            <a:ext cx="447048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иколайчук Евгений Иванович</cp:lastModifiedBy>
  <dcterms:modified xsi:type="dcterms:W3CDTF">2011-10-23T19:15:14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