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F1A-0D24-4AB0-94CD-4E021EC3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A54-0090-4680-936F-F705D8A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7A4-F6FD-4045-858D-4AFC40F4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7F7-094B-4012-9F4D-7092304B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EAE-0C6A-4B5C-834E-2097DA4D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9D1-3ED9-4A31-BEE0-73685C6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AEF-C557-4589-947A-9BE98F3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07C-1606-49D4-BA13-57D9B2F0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583-76B7-496B-B134-D3DE2FD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913-FF25-4049-917B-8968F04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0B9-4CEB-4E95-BB6A-4B9253A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40C-3DA4-49F1-BB44-BC67F2D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BA12-76FB-4C3F-9E3B-733FF1017C2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Unit 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WE HAVE A LOT IN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154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odoni MT"/>
              </a:rPr>
              <a:t>SECTION 1</a:t>
            </a:r>
            <a:r>
              <a:rPr b="0" lang="en-US" sz="3200" spc="-1" strike="noStrike">
                <a:solidFill>
                  <a:srgbClr val="c0504d"/>
                </a:solidFill>
                <a:latin typeface="Bookman Old Style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Do we like doing the same th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o we have the same hobb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гр в футб"/>
          <p:cNvPicPr/>
          <p:nvPr/>
        </p:nvPicPr>
        <p:blipFill>
          <a:blip r:embed="rId2"/>
          <a:stretch/>
        </p:blipFill>
        <p:spPr>
          <a:xfrm>
            <a:off x="0" y="0"/>
            <a:ext cx="5076720" cy="5076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foo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рогулка"/>
          <p:cNvPicPr/>
          <p:nvPr/>
        </p:nvPicPr>
        <p:blipFill>
          <a:blip r:embed="rId2"/>
          <a:stretch/>
        </p:blipFill>
        <p:spPr>
          <a:xfrm>
            <a:off x="0" y="0"/>
            <a:ext cx="5508720" cy="5151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lk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нтернет"/>
          <p:cNvPicPr/>
          <p:nvPr/>
        </p:nvPicPr>
        <p:blipFill>
          <a:blip r:embed="rId2"/>
          <a:stretch/>
        </p:blipFill>
        <p:spPr>
          <a:xfrm>
            <a:off x="0" y="0"/>
            <a:ext cx="6156360" cy="4618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rfing the INTER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инотеатр"/>
          <p:cNvPicPr/>
          <p:nvPr/>
        </p:nvPicPr>
        <p:blipFill>
          <a:blip r:embed="rId2"/>
          <a:stretch/>
        </p:blipFill>
        <p:spPr>
          <a:xfrm>
            <a:off x="0" y="0"/>
            <a:ext cx="6227640" cy="4145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to the cin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окупки"/>
          <p:cNvPicPr/>
          <p:nvPr/>
        </p:nvPicPr>
        <p:blipFill>
          <a:blip r:embed="rId2"/>
          <a:stretch/>
        </p:blipFill>
        <p:spPr>
          <a:xfrm>
            <a:off x="0" y="0"/>
            <a:ext cx="4016520" cy="5143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ing shopp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22-300x284"/>
          <p:cNvPicPr/>
          <p:nvPr/>
        </p:nvPicPr>
        <p:blipFill>
          <a:blip r:embed="rId2"/>
          <a:stretch/>
        </p:blipFill>
        <p:spPr>
          <a:xfrm>
            <a:off x="0" y="0"/>
            <a:ext cx="5364000" cy="507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Jogg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1640" y="285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estions you can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14560" y="1214280"/>
            <a:ext cx="404028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like d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do you do in  your free (spare)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60" y="92160"/>
            <a:ext cx="40417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ow to re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3160" y="1000080"/>
            <a:ext cx="4613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watch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TV.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swim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LIKE + VERB+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watching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like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Baskerville Old Fac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</a:t>
            </a:r>
            <a:r>
              <a:rPr b="0" lang="en-US" sz="2800" spc="-1" strike="noStrike">
                <a:solidFill>
                  <a:srgbClr val="e46c0a"/>
                </a:solidFill>
                <a:latin typeface="Baskerville Old Face"/>
              </a:rPr>
              <a:t>GO + VERB+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  (sports, exerci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swimm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 I </a:t>
            </a:r>
            <a:r>
              <a:rPr b="0" lang="en-US" sz="2800" spc="-1" strike="noStrike">
                <a:solidFill>
                  <a:srgbClr val="558ed5"/>
                </a:solidFill>
                <a:latin typeface="Baskerville Old Face"/>
              </a:rPr>
              <a:t>go joggin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9288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I'm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lly ke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on football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ts and craf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'm a creative / practical person, and like doing things with my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enjoy being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ysically 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spend a lot of time playing sports and team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par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42880" y="1428480"/>
            <a:ext cx="50007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do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gerun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(V-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general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fis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840" y="1428480"/>
            <a:ext cx="40388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ke + infinitiv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e talk about more specific likes: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 like to go fishing at the week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2"/>
          <a:srcRect l="4001" t="20393" r="13000" b="113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80000" y="771480"/>
            <a:ext cx="1728720" cy="129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08360" y="3292560"/>
            <a:ext cx="180036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3919680"/>
            <a:ext cx="1800360" cy="596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708360" y="2571840"/>
            <a:ext cx="1800360" cy="72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2643120"/>
            <a:ext cx="1800360" cy="1368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08360" y="700200"/>
            <a:ext cx="1800360" cy="1366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4191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leisure"/>
          <p:cNvPicPr/>
          <p:nvPr/>
        </p:nvPicPr>
        <p:blipFill>
          <a:blip r:embed="rId2"/>
          <a:stretch/>
        </p:blipFill>
        <p:spPr>
          <a:xfrm>
            <a:off x="0" y="-3240"/>
            <a:ext cx="9144000" cy="4432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0" y="39434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Baskerville Old Face"/>
              </a:rPr>
              <a:t>Hobbies differ like tasties. If you have chosen a hobby according to your character and taste you are lucky because your life becomes more interes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rans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560" y="64260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going to the cinema. I usually go to the cinema on Saturdays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watching TV. I always watch television in the even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spending time with my family. I spend a lot of time with my family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playing the guitar. I play the flute and the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playing computer games. I play video g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hang around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sometimes surf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l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4280" y="749160"/>
            <a:ext cx="73584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sten to music. I like listening to music.</a:t>
            </a:r>
            <a:br>
              <a:rPr sz="2800"/>
            </a:b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like reading boo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like writing letters and text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I go shopping with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play football and tennis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On Sunday morning we go for a walk in the pa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t the weekend I go to the bars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Baskerville Old Face"/>
              </a:rPr>
              <a:t>Visit friends   I visit my friends in the ev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268200"/>
            <a:ext cx="4319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Разработано и проведено учителем английского языка Хорошевой Маргаритой Павлов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МКОУ СОШ п. Светлополян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9" descr="booksforkids"/>
          <p:cNvPicPr/>
          <p:nvPr/>
        </p:nvPicPr>
        <p:blipFill>
          <a:blip r:embed="rId2"/>
          <a:stretch/>
        </p:blipFill>
        <p:spPr>
          <a:xfrm>
            <a:off x="0" y="0"/>
            <a:ext cx="6372360" cy="4245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0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hildren-piano"/>
          <p:cNvPicPr/>
          <p:nvPr/>
        </p:nvPicPr>
        <p:blipFill>
          <a:blip r:embed="rId2"/>
          <a:stretch/>
        </p:blipFill>
        <p:spPr>
          <a:xfrm>
            <a:off x="0" y="0"/>
            <a:ext cx="6300720" cy="4065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00720" y="84312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musical instru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gaming-kids"/>
          <p:cNvPicPr/>
          <p:nvPr/>
        </p:nvPicPr>
        <p:blipFill>
          <a:blip r:embed="rId2"/>
          <a:stretch/>
        </p:blipFill>
        <p:spPr>
          <a:xfrm>
            <a:off x="0" y="0"/>
            <a:ext cx="6516720" cy="4929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video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isten-music-student-girl"/>
          <p:cNvPicPr/>
          <p:nvPr/>
        </p:nvPicPr>
        <p:blipFill>
          <a:blip r:embed="rId2"/>
          <a:stretch/>
        </p:blipFill>
        <p:spPr>
          <a:xfrm>
            <a:off x="0" y="0"/>
            <a:ext cx="5940360" cy="3944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istening to mus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tock-illustration-395348-girl-surfing-internet-happy-version"/>
          <p:cNvPicPr/>
          <p:nvPr/>
        </p:nvPicPr>
        <p:blipFill>
          <a:blip r:embed="rId2"/>
          <a:stretch/>
        </p:blipFill>
        <p:spPr>
          <a:xfrm>
            <a:off x="0" y="0"/>
            <a:ext cx="4791240" cy="5143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300720" y="8431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laying computer ga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atch-TV-on-PC-with-3000-channels"/>
          <p:cNvPicPr/>
          <p:nvPr/>
        </p:nvPicPr>
        <p:blipFill>
          <a:blip r:embed="rId2"/>
          <a:stretch/>
        </p:blipFill>
        <p:spPr>
          <a:xfrm>
            <a:off x="0" y="0"/>
            <a:ext cx="5829480" cy="3860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300720" y="8431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atching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writingдев"/>
          <p:cNvPicPr/>
          <p:nvPr/>
        </p:nvPicPr>
        <p:blipFill>
          <a:blip r:embed="rId2"/>
          <a:stretch/>
        </p:blipFill>
        <p:spPr>
          <a:xfrm>
            <a:off x="0" y="0"/>
            <a:ext cx="486576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300720" y="843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31:59Z</dcterms:created>
  <dc:creator>Admin</dc:creator>
  <dc:description/>
  <dc:language>en-US</dc:language>
  <cp:lastModifiedBy>Admin</cp:lastModifiedBy>
  <dcterms:modified xsi:type="dcterms:W3CDTF">2012-03-03T11:12:53Z</dcterms:modified>
  <cp:revision>8</cp:revision>
  <dc:subject/>
  <dc:title>Unit 8  WE HAVE A LOT IN COMMON</dc:title>
</cp:coreProperties>
</file>