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4E9-BB37-4B31-BA5D-ED789302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840-8FCD-4203-B4DD-424CFEBB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E2B-AC48-4602-87EA-10F335AD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1C0-7D30-4734-A20E-0E3DC72D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9CD-D79E-4580-9687-466E86F3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DF4-B033-4A14-B0D5-B3ECE88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8C1-CF27-46A9-A8D2-755972B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352-6C47-4CCA-8FCF-7B9A78D9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B12-E0A6-4C52-9564-4F853EB2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10C-638E-4C62-8E2E-64988CB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28B-7195-47AD-AA8E-E3D12A5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B78-62B6-4DCE-BD83-C5A9EFD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E4B-0FC9-4EDC-80E0-96E96CC175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8F9-F0D2-4259-B785-93A60F96D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5" descr=""/>
          <p:cNvPicPr/>
          <p:nvPr/>
        </p:nvPicPr>
        <p:blipFill>
          <a:blip r:embed="rId2"/>
          <a:stretch/>
        </p:blipFill>
        <p:spPr>
          <a:xfrm>
            <a:off x="506520" y="781200"/>
            <a:ext cx="7802280" cy="4492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3"/>
          <a:stretch/>
        </p:blipFill>
        <p:spPr>
          <a:xfrm>
            <a:off x="3357720" y="2500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4"/>
          <a:stretch/>
        </p:blipFill>
        <p:spPr>
          <a:xfrm>
            <a:off x="2714760" y="21430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5"/>
          <a:stretch/>
        </p:blipFill>
        <p:spPr>
          <a:xfrm>
            <a:off x="2071800" y="27860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6"/>
          <a:stretch/>
        </p:blipFill>
        <p:spPr>
          <a:xfrm>
            <a:off x="4143240" y="114300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7"/>
          <a:stretch/>
        </p:blipFill>
        <p:spPr>
          <a:xfrm>
            <a:off x="1357200" y="192888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8"/>
          <a:stretch/>
        </p:blipFill>
        <p:spPr>
          <a:xfrm>
            <a:off x="3357720" y="857160"/>
            <a:ext cx="680760" cy="68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9"/>
          <a:stretch/>
        </p:blipFill>
        <p:spPr>
          <a:xfrm>
            <a:off x="2286000" y="142884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10"/>
          <a:stretch/>
        </p:blipFill>
        <p:spPr>
          <a:xfrm>
            <a:off x="3286080" y="157176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11"/>
          <a:stretch/>
        </p:blipFill>
        <p:spPr>
          <a:xfrm>
            <a:off x="4000680" y="1928880"/>
            <a:ext cx="714240" cy="714240"/>
          </a:xfrm>
          <a:prstGeom prst="rect">
            <a:avLst/>
          </a:prstGeom>
          <a:ln w="0">
            <a:noFill/>
          </a:ln>
        </p:spPr>
      </p:pic>
      <p:grpSp>
        <p:nvGrpSpPr>
          <p:cNvPr id="52" name="Прямоугольник 76"/>
          <p:cNvGrpSpPr/>
          <p:nvPr/>
        </p:nvGrpSpPr>
        <p:grpSpPr>
          <a:xfrm>
            <a:off x="96840" y="96840"/>
            <a:ext cx="8955000" cy="6669000"/>
            <a:chOff x="96840" y="96840"/>
            <a:chExt cx="8955000" cy="6669000"/>
          </a:xfrm>
        </p:grpSpPr>
        <p:pic>
          <p:nvPicPr>
            <p:cNvPr id="53" name="Прямоугольник 76" descr=""/>
            <p:cNvPicPr/>
            <p:nvPr/>
          </p:nvPicPr>
          <p:blipFill>
            <a:blip r:embed="rId12"/>
            <a:stretch/>
          </p:blipFill>
          <p:spPr>
            <a:xfrm>
              <a:off x="96840" y="96840"/>
              <a:ext cx="895500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2920" y="14292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21" descr="H:\Documents and Settings\Aida\Рабочий стол\НОвая ГРАФИКА сборник\КАРТИНКИ СБОРНИК_ школьные\Копия boworms3.gif"/>
          <p:cNvPicPr/>
          <p:nvPr/>
        </p:nvPicPr>
        <p:blipFill>
          <a:blip r:embed="rId13"/>
          <a:stretch/>
        </p:blipFill>
        <p:spPr>
          <a:xfrm flipH="1">
            <a:off x="5072040" y="2000160"/>
            <a:ext cx="1643040" cy="1736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0"/>
          <p:cNvSpPr/>
          <p:nvPr/>
        </p:nvSpPr>
        <p:spPr>
          <a:xfrm>
            <a:off x="219240" y="642924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 flipV="1" rot="10800000">
            <a:off x="754200" y="4797360"/>
            <a:ext cx="76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дачи на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ФОРМУЛА  ПУ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КОРОСТЬ 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РЕМЯ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СТОЯНИЕ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F807-2A93-488C-A785-2AEE84F449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E66D-7B2B-4303-AC65-D3C6012E4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5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, №2 с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1600200"/>
          <a:ext cx="8507520" cy="4551480"/>
        </p:xfrm>
        <a:graphic>
          <a:graphicData uri="http://schemas.openxmlformats.org/drawingml/2006/table">
            <a:tbl>
              <a:tblPr/>
              <a:tblGrid>
                <a:gridCol w="2282760"/>
                <a:gridCol w="2108520"/>
                <a:gridCol w="2041200"/>
                <a:gridCol w="20750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s = v*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v = s : 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t = s : 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ол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спы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  с.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179280" y="3141720"/>
            <a:ext cx="8642520" cy="7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79280" y="256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>
            <a:off x="142920" y="25718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3284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8604360" y="3141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 rot="16200000">
            <a:off x="3636000" y="-2115000"/>
            <a:ext cx="1727280" cy="8640720"/>
          </a:xfrm>
          <a:custGeom>
            <a:avLst/>
            <a:gdLst>
              <a:gd name="textAreaLeft" fmla="*/ 0 w 1727280"/>
              <a:gd name="textAreaRight" fmla="*/ 623520 w 1727280"/>
              <a:gd name="textAreaTop" fmla="*/ 225000 h 8640720"/>
              <a:gd name="textAreaBottom" fmla="*/ 8415720 h 86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48"/>
                </a:lnTo>
                <a:cubicBezTo>
                  <a:pt x="10800" y="9348"/>
                  <a:pt x="16200" y="10248"/>
                  <a:pt x="21600" y="10248"/>
                </a:cubicBezTo>
                <a:cubicBezTo>
                  <a:pt x="16200" y="10248"/>
                  <a:pt x="10800" y="11148"/>
                  <a:pt x="10800" y="1204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492360" y="126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2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 flipV="1">
            <a:off x="140328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248436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 flipV="1">
            <a:off x="370836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V="1">
            <a:off x="500364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2"/>
          <p:cNvSpPr/>
          <p:nvPr/>
        </p:nvSpPr>
        <p:spPr>
          <a:xfrm flipV="1">
            <a:off x="63007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 flipV="1">
            <a:off x="759636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 flipV="1">
            <a:off x="882000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79280" y="2214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0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0" y="37162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0 ч 45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V="1">
            <a:off x="214200" y="3142800"/>
            <a:ext cx="864252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 с.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2189160"/>
        </p:xfrm>
        <a:graphic>
          <a:graphicData uri="http://schemas.openxmlformats.org/drawingml/2006/table">
            <a:tbl>
              <a:tblPr/>
              <a:tblGrid>
                <a:gridCol w="2057400"/>
                <a:gridCol w="2090880"/>
                <a:gridCol w="2023920"/>
                <a:gridCol w="205740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Line 4"/>
          <p:cNvSpPr/>
          <p:nvPr/>
        </p:nvSpPr>
        <p:spPr>
          <a:xfrm flipV="1">
            <a:off x="250920" y="5373720"/>
            <a:ext cx="8642160" cy="7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>
            <a:off x="250920" y="486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250920" y="4869000"/>
            <a:ext cx="165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23760" y="5373720"/>
            <a:ext cx="8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 flipV="1" rot="10803000">
            <a:off x="7376760" y="5370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зеро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8893080" y="47242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6300720" y="47242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1908000" y="50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 flipV="1">
            <a:off x="4140360" y="50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1547640" y="5300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 ч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2ч                      3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250920" y="450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5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2"/>
          <p:cNvSpPr/>
          <p:nvPr/>
        </p:nvSpPr>
        <p:spPr>
          <a:xfrm flipV="1">
            <a:off x="7596360" y="50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1"/>
          <p:cNvSpPr/>
          <p:nvPr/>
        </p:nvSpPr>
        <p:spPr>
          <a:xfrm rot="16200000">
            <a:off x="2554920" y="1485000"/>
            <a:ext cx="1440000" cy="6048360"/>
          </a:xfrm>
          <a:custGeom>
            <a:avLst/>
            <a:gdLst>
              <a:gd name="textAreaLeft" fmla="*/ 0 w 1440000"/>
              <a:gd name="textAreaRight" fmla="*/ 519840 w 1440000"/>
              <a:gd name="textAreaTop" fmla="*/ 157680 h 6048360"/>
              <a:gd name="textAreaBottom" fmla="*/ 589068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70"/>
                </a:lnTo>
                <a:cubicBezTo>
                  <a:pt x="10800" y="9270"/>
                  <a:pt x="16200" y="10170"/>
                  <a:pt x="21600" y="10170"/>
                </a:cubicBezTo>
                <a:cubicBezTo>
                  <a:pt x="16200" y="10170"/>
                  <a:pt x="10800" y="11070"/>
                  <a:pt x="10800" y="119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2"/>
          <p:cNvSpPr/>
          <p:nvPr/>
        </p:nvSpPr>
        <p:spPr>
          <a:xfrm rot="16200000">
            <a:off x="6876720" y="3213000"/>
            <a:ext cx="1440000" cy="2592360"/>
          </a:xfrm>
          <a:custGeom>
            <a:avLst/>
            <a:gdLst>
              <a:gd name="textAreaLeft" fmla="*/ 0 w 1440000"/>
              <a:gd name="textAreaRight" fmla="*/ 519840 w 1440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70"/>
                </a:lnTo>
                <a:cubicBezTo>
                  <a:pt x="10800" y="9270"/>
                  <a:pt x="16200" y="10170"/>
                  <a:pt x="21600" y="10170"/>
                </a:cubicBezTo>
                <a:cubicBezTo>
                  <a:pt x="16200" y="10170"/>
                  <a:pt x="10800" y="11070"/>
                  <a:pt x="10800" y="119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6300720" y="4724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4"/>
          <p:cNvSpPr/>
          <p:nvPr/>
        </p:nvSpPr>
        <p:spPr>
          <a:xfrm>
            <a:off x="6299280" y="436572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5"/>
          <p:cNvSpPr/>
          <p:nvPr/>
        </p:nvSpPr>
        <p:spPr>
          <a:xfrm flipV="1" rot="5400000">
            <a:off x="4320360" y="1593000"/>
            <a:ext cx="576000" cy="8569080"/>
          </a:xfrm>
          <a:custGeom>
            <a:avLst/>
            <a:gdLst>
              <a:gd name="textAreaLeft" fmla="*/ 0 w 576000"/>
              <a:gd name="textAreaRight" fmla="*/ 208080 w 576000"/>
              <a:gd name="textAreaTop" fmla="*/ 223200 h 8569080"/>
              <a:gd name="textAreaBottom" fmla="*/ 834588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14"/>
                </a:lnTo>
                <a:cubicBezTo>
                  <a:pt x="10800" y="9314"/>
                  <a:pt x="16200" y="10214"/>
                  <a:pt x="21600" y="10214"/>
                </a:cubicBezTo>
                <a:cubicBezTo>
                  <a:pt x="16200" y="10214"/>
                  <a:pt x="10800" y="11114"/>
                  <a:pt x="10800" y="120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2843280" y="3933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7"/>
          <p:cNvSpPr/>
          <p:nvPr/>
        </p:nvSpPr>
        <p:spPr>
          <a:xfrm>
            <a:off x="7310160" y="36878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8"/>
          <p:cNvSpPr/>
          <p:nvPr/>
        </p:nvSpPr>
        <p:spPr>
          <a:xfrm>
            <a:off x="4324320" y="595944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2"/>
          <p:cNvSpPr/>
          <p:nvPr/>
        </p:nvSpPr>
        <p:spPr>
          <a:xfrm rot="16200000">
            <a:off x="6862680" y="3209760"/>
            <a:ext cx="1440000" cy="2592360"/>
          </a:xfrm>
          <a:custGeom>
            <a:avLst/>
            <a:gdLst>
              <a:gd name="textAreaLeft" fmla="*/ 0 w 1440000"/>
              <a:gd name="textAreaRight" fmla="*/ 519840 w 1440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70"/>
                </a:lnTo>
                <a:cubicBezTo>
                  <a:pt x="10800" y="9270"/>
                  <a:pt x="16200" y="10170"/>
                  <a:pt x="21600" y="10170"/>
                </a:cubicBezTo>
                <a:cubicBezTo>
                  <a:pt x="16200" y="10170"/>
                  <a:pt x="10800" y="11070"/>
                  <a:pt x="10800" y="119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6  с.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507520" cy="2881440"/>
        </p:xfrm>
        <a:graphic>
          <a:graphicData uri="http://schemas.openxmlformats.org/drawingml/2006/table">
            <a:tbl>
              <a:tblPr/>
              <a:tblGrid>
                <a:gridCol w="2448000"/>
                <a:gridCol w="1943280"/>
                <a:gridCol w="2041200"/>
                <a:gridCol w="2075040"/>
              </a:tblGrid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s = v*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v = s : 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t = s : 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тоб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33"/>
          <p:cNvSpPr/>
          <p:nvPr/>
        </p:nvSpPr>
        <p:spPr>
          <a:xfrm flipV="1" rot="10797000">
            <a:off x="393480" y="4364640"/>
            <a:ext cx="49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7 с.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179280" y="3141720"/>
            <a:ext cx="8642520" cy="7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 flipV="1">
            <a:off x="142920" y="2525760"/>
            <a:ext cx="1000080" cy="4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>
            <a:off x="142920" y="25718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3284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8286840" y="31417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 rot="16200000">
            <a:off x="3839400" y="-1910160"/>
            <a:ext cx="1285920" cy="8678880"/>
          </a:xfrm>
          <a:custGeom>
            <a:avLst/>
            <a:gdLst>
              <a:gd name="textAreaLeft" fmla="*/ 0 w 1285920"/>
              <a:gd name="textAreaRight" fmla="*/ 464400 w 1285920"/>
              <a:gd name="textAreaTop" fmla="*/ 167400 h 8678880"/>
              <a:gd name="textAreaBottom" fmla="*/ 8511480 h 867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7"/>
                  <a:pt x="10800" y="1334"/>
                </a:cubicBezTo>
                <a:lnTo>
                  <a:pt x="10800" y="8914"/>
                </a:lnTo>
                <a:cubicBezTo>
                  <a:pt x="10800" y="9581"/>
                  <a:pt x="16200" y="10248"/>
                  <a:pt x="21600" y="10248"/>
                </a:cubicBezTo>
                <a:cubicBezTo>
                  <a:pt x="16200" y="10248"/>
                  <a:pt x="10800" y="10915"/>
                  <a:pt x="10800" y="11582"/>
                </a:cubicBezTo>
                <a:lnTo>
                  <a:pt x="10800" y="20266"/>
                </a:lnTo>
                <a:cubicBezTo>
                  <a:pt x="10800" y="2093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492360" y="126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60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 flipV="1">
            <a:off x="2500200" y="2785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 flipV="1">
            <a:off x="5143680" y="2785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 flipV="1">
            <a:off x="882000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142920" y="2143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60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214200" y="3142800"/>
            <a:ext cx="864252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V="1">
            <a:off x="1285920" y="299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2286000" y="2286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80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V="1">
            <a:off x="2500200" y="2739960"/>
            <a:ext cx="571680" cy="4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2"/>
          <p:cNvSpPr/>
          <p:nvPr/>
        </p:nvSpPr>
        <p:spPr>
          <a:xfrm rot="5400000">
            <a:off x="928440" y="2428920"/>
            <a:ext cx="785880" cy="2357280"/>
          </a:xfrm>
          <a:custGeom>
            <a:avLst/>
            <a:gdLst>
              <a:gd name="textAreaLeft" fmla="*/ 0 w 785880"/>
              <a:gd name="textAreaRight" fmla="*/ 283680 w 785880"/>
              <a:gd name="textAreaTop" fmla="*/ 36720 h 2357280"/>
              <a:gd name="textAreaBottom" fmla="*/ 232056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0"/>
                  <a:pt x="10800" y="1080"/>
                </a:cubicBezTo>
                <a:lnTo>
                  <a:pt x="10800" y="9090"/>
                </a:lnTo>
                <a:cubicBezTo>
                  <a:pt x="10800" y="9630"/>
                  <a:pt x="16200" y="10170"/>
                  <a:pt x="21600" y="10170"/>
                </a:cubicBezTo>
                <a:cubicBezTo>
                  <a:pt x="16200" y="10170"/>
                  <a:pt x="10800" y="10710"/>
                  <a:pt x="10800" y="11250"/>
                </a:cubicBezTo>
                <a:lnTo>
                  <a:pt x="10800" y="20520"/>
                </a:lnTo>
                <a:cubicBezTo>
                  <a:pt x="10800" y="2106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2"/>
          <p:cNvSpPr/>
          <p:nvPr/>
        </p:nvSpPr>
        <p:spPr>
          <a:xfrm rot="5400000">
            <a:off x="928440" y="2428920"/>
            <a:ext cx="785880" cy="2357280"/>
          </a:xfrm>
          <a:custGeom>
            <a:avLst/>
            <a:gdLst>
              <a:gd name="textAreaLeft" fmla="*/ 0 w 785880"/>
              <a:gd name="textAreaRight" fmla="*/ 283680 w 785880"/>
              <a:gd name="textAreaTop" fmla="*/ 36720 h 2357280"/>
              <a:gd name="textAreaBottom" fmla="*/ 232056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0"/>
                  <a:pt x="10800" y="1080"/>
                </a:cubicBezTo>
                <a:lnTo>
                  <a:pt x="10800" y="9090"/>
                </a:lnTo>
                <a:cubicBezTo>
                  <a:pt x="10800" y="9630"/>
                  <a:pt x="16200" y="10170"/>
                  <a:pt x="21600" y="10170"/>
                </a:cubicBezTo>
                <a:cubicBezTo>
                  <a:pt x="16200" y="10170"/>
                  <a:pt x="10800" y="10710"/>
                  <a:pt x="10800" y="11250"/>
                </a:cubicBezTo>
                <a:lnTo>
                  <a:pt x="10800" y="20520"/>
                </a:lnTo>
                <a:cubicBezTo>
                  <a:pt x="10800" y="2106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2"/>
          <p:cNvSpPr/>
          <p:nvPr/>
        </p:nvSpPr>
        <p:spPr>
          <a:xfrm rot="5400000">
            <a:off x="3393000" y="2321280"/>
            <a:ext cx="857160" cy="2643480"/>
          </a:xfrm>
          <a:custGeom>
            <a:avLst/>
            <a:gdLst>
              <a:gd name="textAreaLeft" fmla="*/ 0 w 857160"/>
              <a:gd name="textAreaRight" fmla="*/ 309600 w 857160"/>
              <a:gd name="textAreaTop" fmla="*/ 39960 h 2643480"/>
              <a:gd name="textAreaBottom" fmla="*/ 2603520 h 264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6"/>
                  <a:pt x="10800" y="1051"/>
                </a:cubicBezTo>
                <a:lnTo>
                  <a:pt x="10800" y="8959"/>
                </a:lnTo>
                <a:cubicBezTo>
                  <a:pt x="10800" y="9485"/>
                  <a:pt x="16200" y="10010"/>
                  <a:pt x="21600" y="10010"/>
                </a:cubicBezTo>
                <a:cubicBezTo>
                  <a:pt x="16200" y="10010"/>
                  <a:pt x="10800" y="10536"/>
                  <a:pt x="10800" y="11061"/>
                </a:cubicBezTo>
                <a:lnTo>
                  <a:pt x="10800" y="20549"/>
                </a:lnTo>
                <a:cubicBezTo>
                  <a:pt x="10800" y="210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 flipV="1">
            <a:off x="2928960" y="299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 flipV="1">
            <a:off x="3357720" y="299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2"/>
          <p:cNvSpPr/>
          <p:nvPr/>
        </p:nvSpPr>
        <p:spPr>
          <a:xfrm flipV="1">
            <a:off x="3786120" y="299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 flipV="1">
            <a:off x="4214880" y="299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4714920" y="299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2"/>
          <p:cNvSpPr/>
          <p:nvPr/>
        </p:nvSpPr>
        <p:spPr>
          <a:xfrm rot="5400000">
            <a:off x="6536520" y="1749960"/>
            <a:ext cx="928800" cy="3714480"/>
          </a:xfrm>
          <a:custGeom>
            <a:avLst/>
            <a:gdLst>
              <a:gd name="textAreaLeft" fmla="*/ 0 w 928800"/>
              <a:gd name="textAreaRight" fmla="*/ 335520 w 928800"/>
              <a:gd name="textAreaTop" fmla="*/ 43560 h 3714480"/>
              <a:gd name="textAreaBottom" fmla="*/ 3670920 h 37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200"/>
                </a:lnTo>
                <a:cubicBezTo>
                  <a:pt x="10800" y="9605"/>
                  <a:pt x="16200" y="10010"/>
                  <a:pt x="21600" y="10010"/>
                </a:cubicBezTo>
                <a:cubicBezTo>
                  <a:pt x="16200" y="10010"/>
                  <a:pt x="10800" y="10415"/>
                  <a:pt x="10800" y="1082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5840" y="4071960"/>
          <a:ext cx="8572320" cy="176832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720"/>
                <a:gridCol w="1071360"/>
                <a:gridCol w="1071720"/>
                <a:gridCol w="1071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Прямоугольник 44"/>
          <p:cNvSpPr/>
          <p:nvPr/>
        </p:nvSpPr>
        <p:spPr>
          <a:xfrm>
            <a:off x="285840" y="592920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5"/>
          <p:cNvSpPr/>
          <p:nvPr/>
        </p:nvSpPr>
        <p:spPr>
          <a:xfrm>
            <a:off x="5429160" y="27147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ост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153960" y="2380680"/>
            <a:ext cx="2546280" cy="2240280"/>
          </a:xfrm>
          <a:prstGeom prst="rect">
            <a:avLst/>
          </a:prstGeom>
          <a:blipFill rotWithShape="0">
            <a:blip r:embed="rId1">
              <a:alphaModFix amt="77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лянцева Наталия Арк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01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19" dur="10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20" dur="10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45:18Z</dcterms:created>
  <dc:creator>333</dc:creator>
  <dc:description>http://aida.ucoz.ru</dc:description>
  <dc:language>en-US</dc:language>
  <cp:lastModifiedBy>Учитель</cp:lastModifiedBy>
  <dcterms:modified xsi:type="dcterms:W3CDTF">2011-03-28T10:48:13Z</dcterms:modified>
  <cp:revision>7</cp:revision>
  <dc:subject/>
  <dc:title>Слайд 1</dc:title>
</cp:coreProperties>
</file>