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59B4-BABF-4C40-973C-608878850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8D85-7D00-4706-BB69-6AFBF126F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B018-42C2-41AD-B11E-DC4C4C7A8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4578-0CB3-4D6F-BAED-494F9FCE4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1EDC2A-326A-4C9A-A797-0FE83510F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03B3D9-2761-4416-BE49-874D6172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44E42D-0CF4-4413-BB6C-E72FA0829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F6FE60-4307-435C-8791-9D8AC159E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40457C-8A50-4DF8-B67F-03685EB27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E9FD82-948F-475D-A521-E38E4CE30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B30470-8365-43A0-9F90-A917299E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93B6-18BD-451B-A059-82CA8D0B2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449D16-55B9-4D25-9AED-7F23F6AE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918286-4052-4743-883F-C4833391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B26B06-6E3D-4901-87DF-5F55BE195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0DE4C4-6D1E-4476-B0E5-EA0BFF2F3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0E8F16-123B-4A88-951E-A8545CC8F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3B83-C521-4303-B785-79E0E76D6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68C0-2C92-4844-94E1-57E7B0035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D2B8-227A-4A78-A89C-B1902FE66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ACA5-3648-4966-8C44-AA096BB76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3C8D-8D5A-424C-9F4E-BD9E395A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AB20-CD90-491D-8C43-39CA2B46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080C-0E5A-47A5-8ED5-9D24AC7C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A0722-1D8C-4408-A5C9-E837646F310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1D06E-2AAC-42CD-A0ED-38430F962DB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Животные Афри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Тропики, саванны, пустын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Человекообразны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104840" y="1905120"/>
            <a:ext cx="2743200" cy="41148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295960" y="1905120"/>
            <a:ext cx="2743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662200" y="291960"/>
            <a:ext cx="3817800" cy="57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амое высокое животно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104840" y="1905120"/>
            <a:ext cx="2743200" cy="4114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648320" y="261612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755640" y="692280"/>
            <a:ext cx="7637400" cy="57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амое крупное животное суш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57200" y="2616120"/>
            <a:ext cx="4038480" cy="26924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648320" y="261612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914400" y="717480"/>
            <a:ext cx="73152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Корабль пустын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486080" y="1905120"/>
            <a:ext cx="6172200" cy="411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914400" y="717480"/>
            <a:ext cx="73152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Царь звере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104840" y="1905120"/>
            <a:ext cx="2743200" cy="4114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181480" y="1905120"/>
            <a:ext cx="2971800" cy="1981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5219640" y="4076640"/>
            <a:ext cx="30132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52400" y="291960"/>
            <a:ext cx="7637400" cy="57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1T14:21:53Z</dcterms:created>
  <dc:creator>Пользователь</dc:creator>
  <dc:description/>
  <dc:language>en-US</dc:language>
  <cp:lastModifiedBy>Admin</cp:lastModifiedBy>
  <dcterms:modified xsi:type="dcterms:W3CDTF">2012-02-01T14:26:56Z</dcterms:modified>
  <cp:revision>5</cp:revision>
  <dc:subject/>
  <dc:title>Животные Африки</dc:title>
</cp:coreProperties>
</file>