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B6E8-E75F-4690-A69D-E18B04AF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E360-C1E5-42BC-A7B6-93EB23E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6533-AE63-4E13-9AB0-C0E9ABD6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2C7F-41C1-4017-BE73-725E6CE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3263-90A9-4F8E-BFE2-A3486933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18B-FE23-4FA5-A296-1B4CC68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3E1-ADE8-4960-A2E9-D17ADAF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B9A-E0D1-4DB7-95CA-4EB22AC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1E34-7C3B-4033-AB24-EF0D428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6C8-FEE5-4F80-BE20-2F104A0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A9B4-65A3-4A31-9A86-22537A90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93BD-9AA8-4F0A-A28B-5864D3B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952-06A1-4135-B10F-8B5AA1E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9740-DBD8-44AF-A16B-9482E75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AF1F-5615-419B-A626-63372974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687C-AA5A-4BA5-8179-5BBC7013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D47-1EE0-4B78-A6D9-70187437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B2CD-89C0-4B29-B7D8-975BB654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603C-09D6-4382-8E5B-EEAB1EF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43CC-8F04-4EFD-B188-D044A7C7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E5C7-53E4-4A20-91D2-FB9A422F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148F-E566-406D-BB87-EF637EF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1578-1030-48EB-960E-1C53A54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17DC-2D72-44EF-AE65-0B30DD7A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01D-D728-40F1-A6DC-9ED5BAB0FB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95A-504F-4955-9E33-9F1FC42DA2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7920" y="14475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РГАНИЗАЦИОННО-УПРАВЛЕНЧЕСКАЯ 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ДЕЯТЕЛЬНОСТЬ ПО ПОДГОТОВКЕ 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ВЫПУСКНИКОВ ШКОЛЫ К  ГИА и ЕГЭ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Вопросы ГИА и ЕГЭ в тематике классных собраний 9,12- классов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2057400"/>
          <a:ext cx="9144000" cy="4710240"/>
        </p:xfrm>
        <a:graphic>
          <a:graphicData uri="http://schemas.openxmlformats.org/drawingml/2006/table">
            <a:tbl>
              <a:tblPr/>
              <a:tblGrid>
                <a:gridCol w="1371600"/>
                <a:gridCol w="4950000"/>
                <a:gridCol w="2822400"/>
              </a:tblGrid>
              <a:tr h="1058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снов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б участии выпускников школы в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накомство с Положением о проведении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накомство с инструкциями по проведению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накомство с перечнем предметов, проводимых в форме ГИА и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Информация о результатах ГИА и  ЕГЭ прошлого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копов Э.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8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 порядке проведения государственной итоговой аттестации в форме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роки проведения пробных экзаменов в форме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накомство с инструкциями по подготовке и участию выпускников 12-х классов в ЕГ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копов Э.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3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 порядке окончания учебного год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б учете результатов ЕГЭ в выставлении итоговых отмет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б организации приема и рассмотрения апелляций на результаты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б организации выдачи свидетельств о результатах ЕГ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 правилах приема в вузы, учреждения СПО и НП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копов Э.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убъективны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Объективные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дачи для подготовки участников образовательного процесса к  ГИА и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ормы работы по подготовке к итоговой аттестации в форме ГИА и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новные направления деятельности заместителя директора по учебно-воспитательной работе по подготовке к сдаче  государственного экза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лан организации подготовки и проведения государственной (итоговой) аттестации выпускников 9.12-х клас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убъективные проблемы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чная развитость у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ниверсальных мыслительны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ерац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чное развитие  у учащихся уме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рого следовать инструкциям к задан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чная психологическая подготов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ей и  учащихся 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даче  ГИА и ЕГЭ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Объективные проблемы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сутствие четких критериев оцени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ащихся, совпадающих 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ребованиями оценивания результатов ЕГЭ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чность контрольно-измерительн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риалов по отдельн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ым задачам в рамках учебн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сципли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не разработано тематическое планирование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риентированное 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работку учебных задач, необходимых д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дачи ЕГ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для подготовки участников образовательного процесса к  ГИА и ЕГЭ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ормативно-правовой базы, регламентирующей проведение государственного экзаме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алгоритма управленческой деятельности администрации школы по подготовке к ГИА и ЕГ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комство педагогов и  учащихся с требованиями и особенностями проведения государственной итоговой аттестации выпускников 9,12-х классов в форме ГИА и ЕГ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ификация существующих программ с учетом новых образовательных стандартов и требований ГИА и ЕГ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учебных модулей по развитию универсальных мыслительных операций и общеучебных умений и навыков обучающихся на второй и третьей ступенях школы, значимых при сдаче экзаменов в форме ГИА и ЕГ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внеурочных и факультативных форм работы по предметам для коррекции расхождения действующего учебного плана и требований ГИА и ЕГЭ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работы по подготовке к итоговой аттестации в форме ГИА и ЕГЭ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новные формы работы педколлект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подготовке к итоговой аттестации в форме ГИА и ЕГЭ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ведения индивидуальных консультаций для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готовка графика консультаций с учащимися по предме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методических объединений школы по подготовке учителей к ГИА и ЕГ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равление учителей-предметников на курсы по подготовке к итоговой аттестации в форме  ГИА и ЕГ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Учителя: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зучение и анализ КИМов итоговой аттестации в форме ГИА И ЕГЭ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дбор материалов по подготовке учащихся к итоговой аттестаци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ведение консультаций по предмет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учение учащихся 12-х классов заполнению бланков ответов ЕГЭ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учение на курсах по подготовке и проведению итоговой аттестации в форме ЕГЭ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тернет-ресурсами по подготовке к итоговой аттестаци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Формирование программы по подготовке к итоговой аттестации выпускник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Классные руководители 9,12-х класс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для формирования региональной базы данных выпуск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комление учащихся с нормативными документами по организации итоговой аттестации в форме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иторинг выбора учащимися  9,12-х классов предметов итоговой аттес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 посещаемости учащимися консультаций по подготовке к итоговой аттес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индивидуальных консультаций с уча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Содержание тематического стенда «Готовимся к ГИА и ЕГЭ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ожение о проведении единого государственного экзаме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енд «Готовимся к единым государственным экзаменам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а свидетельства о результатах ЕГ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рафики проведения предметных недел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а бланков для проведения итоговой аттестации в форме ГИА и ЕГ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ожение о проведении государственной итоговой аттест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рафик консультаций по предметам по подготовке к ГИА и ЕГ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рафик проведения пробных экзаменов и тренировочных раб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равочная информация с сайта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pi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u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т.д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7:53:23Z</dcterms:created>
  <dc:creator>user</dc:creator>
  <dc:description/>
  <dc:language>en-US</dc:language>
  <cp:lastModifiedBy>Школа</cp:lastModifiedBy>
  <dcterms:modified xsi:type="dcterms:W3CDTF">2012-03-03T11:05:1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