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245F-D28B-4D9C-BCD9-7CD90AB814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15DF-37CD-4C99-856A-AE12CFE69C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0DC9-BDAD-4158-BAF2-60AC8817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C1BF-FEA0-4ECA-B9A8-073047DA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1DAA-44F9-4EFA-86BC-AD8CE3044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CC2F-313D-48D7-B968-71942E8D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AB3E-F897-4B8B-B9FB-32995709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8FD3-2776-4EA7-B040-742CF4EA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7638-400F-488B-B43C-574EA32A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7920-CE56-42ED-A577-B95389D6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F9DF-E715-4800-83C0-91CC6572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4DD1-7BE4-44E4-A966-55C54E3B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BA0F-9422-4B93-AD26-18C2EDF9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2D5E-D6DE-4D8E-A7BF-A192C2FC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7FD6-17BF-4982-8F36-A3475A26C3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Готовимся к ЕГ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49192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Акопов Э.В., учитель русского языка  МКОУВ(с)ОШ №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1"/>
          <p:cNvSpPr/>
          <p:nvPr/>
        </p:nvSpPr>
        <p:spPr>
          <a:xfrm>
            <a:off x="1116000" y="2550960"/>
            <a:ext cx="720108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тработать орфографические и пунктуационные навыки, необходимые при выполнении заданий ЕГ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714240" y="214200"/>
            <a:ext cx="778680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             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1. Прочитайте и выполните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714240" y="1285920"/>
            <a:ext cx="7858440" cy="1618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По лесу прокатился короткий шум. 2. Было очень похоже на вздох облегчения оттого,(1) что после длительного ожидания жизнь деревьев пробуждается вновь,(2) уже обозначившись язычками распустившихся почек.3. Иначе почему же ветви шевельнулись,(3) и вслед за этим засвиркала сини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857160" y="3214800"/>
            <a:ext cx="2000520" cy="398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За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928800" y="3786120"/>
            <a:ext cx="5929200" cy="398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Подберите синоним к слову прокатил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5"/>
          <p:cNvSpPr/>
          <p:nvPr/>
        </p:nvSpPr>
        <p:spPr>
          <a:xfrm>
            <a:off x="6858000" y="3643200"/>
            <a:ext cx="2000160" cy="1000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обеж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928800" y="4286160"/>
            <a:ext cx="5929200" cy="642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Укажите слово, в приставке которого выбор согласного на конце зависит от глухости последующего соглас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7"/>
          <p:cNvSpPr/>
          <p:nvPr/>
        </p:nvSpPr>
        <p:spPr>
          <a:xfrm>
            <a:off x="6286680" y="4786200"/>
            <a:ext cx="2714400" cy="1271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распустивш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1000080" y="5072040"/>
            <a:ext cx="5786640" cy="703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Укажите № запятой,которая разделяет части СС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Блок-схема: узел 9"/>
          <p:cNvSpPr/>
          <p:nvPr/>
        </p:nvSpPr>
        <p:spPr>
          <a:xfrm>
            <a:off x="5857920" y="5572080"/>
            <a:ext cx="714240" cy="67140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1071720" y="5929200"/>
            <a:ext cx="6715080" cy="398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Укажите № запятой,которая разделяет части СП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Блок-схема: узел 12"/>
          <p:cNvSpPr/>
          <p:nvPr/>
        </p:nvSpPr>
        <p:spPr>
          <a:xfrm>
            <a:off x="7643880" y="6143760"/>
            <a:ext cx="571320" cy="60012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3857760" y="500040"/>
            <a:ext cx="857160" cy="520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TextBox 2"/>
          <p:cNvGrpSpPr/>
          <p:nvPr/>
        </p:nvGrpSpPr>
        <p:grpSpPr>
          <a:xfrm>
            <a:off x="133200" y="1206360"/>
            <a:ext cx="9017280" cy="2463840"/>
            <a:chOff x="133200" y="1206360"/>
            <a:chExt cx="9017280" cy="2463840"/>
          </a:xfrm>
        </p:grpSpPr>
        <p:pic>
          <p:nvPicPr>
            <p:cNvPr id="64" name="TextBox 2" descr=""/>
            <p:cNvPicPr/>
            <p:nvPr/>
          </p:nvPicPr>
          <p:blipFill>
            <a:blip r:embed="rId1"/>
            <a:stretch/>
          </p:blipFill>
          <p:spPr>
            <a:xfrm>
              <a:off x="133200" y="1206360"/>
              <a:ext cx="9017280" cy="24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85840" y="1285920"/>
              <a:ext cx="87152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Calibri"/>
                </a:rPr>
                <a:t>1. 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Причудливым узором вьются тульские деревянные кружева по фасадам  старых домов. 2.Руками народных умельцев издавна украшались здания,(1) и эти украшения отличались неистощимой выдумкой,(2) мастерским исполнением. 3. Небезынтересны искусные деревянные украшения на домах и нам,(3) и нашим детям,(4) и нашим внукам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Box 3"/>
          <p:cNvSpPr/>
          <p:nvPr/>
        </p:nvSpPr>
        <p:spPr>
          <a:xfrm>
            <a:off x="1714680" y="3643200"/>
            <a:ext cx="2714400" cy="45972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За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500040" y="4214880"/>
            <a:ext cx="8001000" cy="3988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Укажите количество грамматических основ в предложении №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Блок-схема: узел 5"/>
          <p:cNvSpPr/>
          <p:nvPr/>
        </p:nvSpPr>
        <p:spPr>
          <a:xfrm>
            <a:off x="8286840" y="4286160"/>
            <a:ext cx="571320" cy="67176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571680" y="4714920"/>
            <a:ext cx="8286480" cy="3988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Из предложения 2 выпишите словосочетание со связью примык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Блок-схема: узел 7"/>
          <p:cNvSpPr/>
          <p:nvPr/>
        </p:nvSpPr>
        <p:spPr>
          <a:xfrm>
            <a:off x="6357960" y="4714920"/>
            <a:ext cx="2886120" cy="100008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здавна украшал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8429760" y="5286240"/>
            <a:ext cx="357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571680" y="5214960"/>
            <a:ext cx="8572320" cy="7038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Укажите № запятой(ых),которая(ые) отделяет(ют) однородные члены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Блок-схема: узел 10"/>
          <p:cNvSpPr/>
          <p:nvPr/>
        </p:nvSpPr>
        <p:spPr>
          <a:xfrm>
            <a:off x="6572160" y="5572080"/>
            <a:ext cx="1214640" cy="60012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2,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1"/>
          <p:cNvSpPr/>
          <p:nvPr/>
        </p:nvSpPr>
        <p:spPr>
          <a:xfrm>
            <a:off x="571680" y="6000840"/>
            <a:ext cx="8429400" cy="7646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Словосочетани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родных умельцев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согласование) замените словосочетанием со связью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12"/>
          <p:cNvSpPr/>
          <p:nvPr/>
        </p:nvSpPr>
        <p:spPr>
          <a:xfrm>
            <a:off x="5929200" y="5372280"/>
            <a:ext cx="3143520" cy="1485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Умельцев из на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Прочитай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1280" y="2642760"/>
            <a:ext cx="4500720" cy="21430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гда зима на ледяные пряж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стёгивает горные леса,(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нежинки превращаются ромашки,(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телью застилая небе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Зад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4071960" y="214200"/>
            <a:ext cx="857160" cy="5814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4714920" y="2286000"/>
            <a:ext cx="3929040" cy="703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Укажите слово с чередованием гласной в кор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Блок-схема: узел 12"/>
          <p:cNvSpPr/>
          <p:nvPr/>
        </p:nvSpPr>
        <p:spPr>
          <a:xfrm>
            <a:off x="7221600" y="2421000"/>
            <a:ext cx="1922400" cy="88560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застил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4714920" y="3071880"/>
            <a:ext cx="4214880" cy="703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Укажите № запятой, выделяющей обособленное обстоятель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ятно 1 15"/>
          <p:cNvSpPr/>
          <p:nvPr/>
        </p:nvSpPr>
        <p:spPr>
          <a:xfrm>
            <a:off x="7472520" y="3139920"/>
            <a:ext cx="914400" cy="914400"/>
          </a:xfrm>
          <a:prstGeom prst="irregularSeal1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6"/>
          <p:cNvSpPr/>
          <p:nvPr/>
        </p:nvSpPr>
        <p:spPr>
          <a:xfrm>
            <a:off x="4643280" y="4214880"/>
            <a:ext cx="4357800" cy="703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Укажите № запятой,разделяющ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асти СС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ятно 1 17"/>
          <p:cNvSpPr/>
          <p:nvPr/>
        </p:nvSpPr>
        <p:spPr>
          <a:xfrm>
            <a:off x="7800840" y="4187880"/>
            <a:ext cx="914400" cy="914400"/>
          </a:xfrm>
          <a:prstGeom prst="irregularSeal1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714240" y="5072040"/>
            <a:ext cx="821556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Подберите синоним к слову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стёгив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2-конечная звезда 19"/>
          <p:cNvSpPr/>
          <p:nvPr/>
        </p:nvSpPr>
        <p:spPr>
          <a:xfrm>
            <a:off x="6084720" y="5057640"/>
            <a:ext cx="2559240" cy="7718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акрыв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0"/>
          <p:cNvSpPr/>
          <p:nvPr/>
        </p:nvSpPr>
        <p:spPr>
          <a:xfrm>
            <a:off x="785880" y="5643720"/>
            <a:ext cx="7715160" cy="825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Найдите слово, выбор приставки в котором зависит от  зна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21"/>
          <p:cNvSpPr/>
          <p:nvPr/>
        </p:nvSpPr>
        <p:spPr>
          <a:xfrm>
            <a:off x="5000760" y="6059520"/>
            <a:ext cx="2928960" cy="798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ревращ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2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6840" y="1285920"/>
            <a:ext cx="4040280" cy="714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рочитай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2920" y="2174760"/>
            <a:ext cx="4354560" cy="3951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оза,(1) нахлынувшая тучей,(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мутит небесную лазур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опрометчиво- безум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друг на дубраву набежит,(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вся дубрава задрожит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Ф. Тютче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4720" y="1285920"/>
            <a:ext cx="4041720" cy="714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ыполните зад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5080" y="2174400"/>
            <a:ext cx="4284720" cy="13971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Укажите слово, в котором написание гласного в окончании после шипящих зависит от удар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4214880" y="428760"/>
            <a:ext cx="714240" cy="5814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10-конечная звезда 7"/>
          <p:cNvSpPr/>
          <p:nvPr/>
        </p:nvSpPr>
        <p:spPr>
          <a:xfrm>
            <a:off x="7715160" y="2565360"/>
            <a:ext cx="1428840" cy="10065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уч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4643280" y="3714840"/>
            <a:ext cx="4214880" cy="1008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Укажите № запятой, которая выделяет обособленное опреде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0-конечная звезда 9"/>
          <p:cNvSpPr/>
          <p:nvPr/>
        </p:nvSpPr>
        <p:spPr>
          <a:xfrm>
            <a:off x="7715160" y="385776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1"/>
          <p:cNvSpPr/>
          <p:nvPr/>
        </p:nvSpPr>
        <p:spPr>
          <a:xfrm>
            <a:off x="4714920" y="4857840"/>
            <a:ext cx="4143240" cy="7038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Укажите № запятой, которая разделяет части СС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10-конечная звезда 12"/>
          <p:cNvSpPr/>
          <p:nvPr/>
        </p:nvSpPr>
        <p:spPr>
          <a:xfrm>
            <a:off x="7929720" y="485784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4786200" y="5643720"/>
            <a:ext cx="4214880" cy="7038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Подберите синоним к слову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беж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0-конечная звезда 14"/>
          <p:cNvSpPr/>
          <p:nvPr/>
        </p:nvSpPr>
        <p:spPr>
          <a:xfrm>
            <a:off x="6858000" y="5572080"/>
            <a:ext cx="2000160" cy="1143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алет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7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2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71560" y="142560"/>
            <a:ext cx="1214280" cy="8571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285840" y="1357200"/>
            <a:ext cx="8572320" cy="137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) Хороша Волга во время весеннего разл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) Бескрайняя,(1) как море,(2)затопив окрестные луга,(3) стремительно и быстро катит она свои воды. 3) Правый берег покрыт нежной пеленой цветущих яблонь,(4) вишен,(5) черёмух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2714760" y="2928960"/>
            <a:ext cx="3929040" cy="3988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полните за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428760" y="3429000"/>
            <a:ext cx="8143920" cy="7038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Найдите и выпишите слово с орфограммой «Непроизносимый согласный в корне слов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5"/>
          <p:cNvSpPr/>
          <p:nvPr/>
        </p:nvSpPr>
        <p:spPr>
          <a:xfrm>
            <a:off x="6357960" y="3214800"/>
            <a:ext cx="242892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крес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428760" y="4214880"/>
            <a:ext cx="8001000" cy="398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Объясните, почему в слов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есеннег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ишетс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7"/>
          <p:cNvSpPr/>
          <p:nvPr/>
        </p:nvSpPr>
        <p:spPr>
          <a:xfrm>
            <a:off x="6286680" y="4214880"/>
            <a:ext cx="24285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6000840" y="4357800"/>
            <a:ext cx="285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ен-н-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Дуга 11"/>
          <p:cNvSpPr/>
          <p:nvPr/>
        </p:nvSpPr>
        <p:spPr>
          <a:xfrm>
            <a:off x="6143760" y="4500720"/>
            <a:ext cx="2143080" cy="985680"/>
          </a:xfrm>
          <a:custGeom>
            <a:avLst/>
            <a:gdLst>
              <a:gd name="textAreaLeft" fmla="*/ 678600 w 2143080"/>
              <a:gd name="textAreaRight" fmla="*/ 1490040 w 2143080"/>
              <a:gd name="textAreaTop" fmla="*/ 0 h 985680"/>
              <a:gd name="textAreaBottom" fmla="*/ 38880 h 985680"/>
            </a:gdLst>
            <a:ahLst/>
            <a:rect l="textAreaLeft" t="textAreaTop" r="textAreaRight" b="textAreaBottom"/>
            <a:pathLst>
              <a:path stroke="0" w="2143125" h="985837">
                <a:moveTo>
                  <a:pt x="678630" y="34335"/>
                </a:moveTo>
                <a:lnTo>
                  <a:pt x="678630" y="34335"/>
                </a:lnTo>
                <a:arcTo wR="1071563" hR="492919" stAng="-7835473" swAng="4996346"/>
                <a:lnTo>
                  <a:pt x="1071563" y="492919"/>
                </a:lnTo>
                <a:close/>
              </a:path>
              <a:path fill="none" w="2143125" h="985837">
                <a:moveTo>
                  <a:pt x="678630" y="34335"/>
                </a:moveTo>
                <a:lnTo>
                  <a:pt x="678630" y="34335"/>
                </a:lnTo>
                <a:arcTo wR="1071563" hR="492919" stAng="-7835473" swAng="499634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0"/>
          <p:cNvSpPr/>
          <p:nvPr/>
        </p:nvSpPr>
        <p:spPr>
          <a:xfrm>
            <a:off x="500040" y="4714920"/>
            <a:ext cx="7786800" cy="7038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Выпишите слово, правописание приставки в котором зависит от звонкости последующего соглас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41"/>
          <p:cNvSpPr/>
          <p:nvPr/>
        </p:nvSpPr>
        <p:spPr>
          <a:xfrm>
            <a:off x="6500880" y="4786200"/>
            <a:ext cx="2143080" cy="1057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азл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2"/>
          <p:cNvSpPr/>
          <p:nvPr/>
        </p:nvSpPr>
        <p:spPr>
          <a:xfrm>
            <a:off x="571680" y="5572080"/>
            <a:ext cx="8001000" cy="7038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Укажите № запятой(ых) , которая(ые) разделяет(ют) однородные члены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0-конечная звезда 43"/>
          <p:cNvSpPr/>
          <p:nvPr/>
        </p:nvSpPr>
        <p:spPr>
          <a:xfrm>
            <a:off x="7773840" y="566100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4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15:38:43Z</dcterms:created>
  <dc:creator>Admin</dc:creator>
  <dc:description/>
  <dc:language>en-US</dc:language>
  <cp:lastModifiedBy>Школа</cp:lastModifiedBy>
  <dcterms:modified xsi:type="dcterms:W3CDTF">2012-03-04T11:23:28Z</dcterms:modified>
  <cp:revision>30</cp:revision>
  <dc:subject/>
  <dc:title>Готовимся к ГИА</dc:title>
</cp:coreProperties>
</file>