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DDF-4829-43AE-94F9-10E9BF31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E9A-DAB9-49C8-9863-4E8A7EF8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58E-A38E-49D3-8EF5-8765B9E7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B08-424B-452A-8219-3C67E69D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0D9-47E2-474F-9E25-D51FC678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201-FDF9-4EB1-9131-269DDDD2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D88-BFB0-4CF7-B115-9535BDB3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643-6712-41D5-B288-0AA2ABB8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C26-3155-4409-B721-4913E8C6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44B-A316-4C36-871F-CDDC6DEF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976-2863-4D12-B5B5-0F55BB33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D7E-688D-4458-9451-85BC3E5D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cc66ff"/>
            </a:gs>
            <a:gs pos="100000">
              <a:srgbClr val="c0c0c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A07F-F0E8-4A55-9BD8-19914117CC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072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образовательное учреждение детский сад компенсирующего вида №16 «Елочка»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14240" y="5785920"/>
            <a:ext cx="3810240" cy="7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500040" y="2143080"/>
            <a:ext cx="4643640" cy="31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Monotype Corsiva"/>
              </a:rPr>
              <a:t>Хвощинска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Monotype Corsiva"/>
              </a:rPr>
              <a:t>Надежда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Monotype Corsiva"/>
              </a:rPr>
              <a:t> </a:t>
            </a: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Monotype Corsiva"/>
              </a:rPr>
              <a:t>Леонидовна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4" name="Track02.MP3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9"/>
          <a:stretch/>
        </p:blipFill>
        <p:spPr>
          <a:xfrm>
            <a:off x="5489640" y="2001960"/>
            <a:ext cx="2582640" cy="46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Практическая значи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78560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ка моей педагогической деятельности, а так же результаты диагностики показывают успешность и эффективность использования активных методов и средств развития мыслительной деятельности в коррекции речи и подготовке детей к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ирование, экспериментирование и тренинг обеспечивают эффективность умственного воспитания дошкольников; развивающие игры и работа с загадкой являются активными средствами их умственного восп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ожности использования активных методов и средств умственного воспитания огромны. Дошкольники вовлекаются в процесс добывания знаний, у них развивается интерес к размышлению. Очень важен и нравственный аспект: все участники объединены совместной познавательной деятельн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8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38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38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38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Формы работы с детьм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5110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ронтальные за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ьные и подгрупповые за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Содержимое 3" descr="DSC02793.JPG"/>
          <p:cNvPicPr/>
          <p:nvPr/>
        </p:nvPicPr>
        <p:blipFill>
          <a:blip r:embed="rId3"/>
          <a:stretch/>
        </p:blipFill>
        <p:spPr>
          <a:xfrm>
            <a:off x="6072120" y="1714680"/>
            <a:ext cx="2484360" cy="4425840"/>
          </a:xfrm>
          <a:prstGeom prst="rect">
            <a:avLst/>
          </a:prstGeom>
          <a:ln w="38160">
            <a:solidFill>
              <a:srgbClr val="ff9966"/>
            </a:solidFill>
            <a:miter/>
          </a:ln>
        </p:spPr>
      </p:pic>
      <p:pic>
        <p:nvPicPr>
          <p:cNvPr id="71" name="Содержимое 4" descr="DSC02803.JPG"/>
          <p:cNvPicPr/>
          <p:nvPr/>
        </p:nvPicPr>
        <p:blipFill>
          <a:blip r:embed="rId4"/>
          <a:stretch/>
        </p:blipFill>
        <p:spPr>
          <a:xfrm>
            <a:off x="714240" y="3643200"/>
            <a:ext cx="4489560" cy="2519640"/>
          </a:xfrm>
          <a:prstGeom prst="rect">
            <a:avLst/>
          </a:prstGeom>
          <a:ln w="38160">
            <a:solidFill>
              <a:srgbClr val="ff9966"/>
            </a:solidFill>
            <a:miter/>
          </a:ln>
        </p:spPr>
      </p:pic>
      <p:pic>
        <p:nvPicPr>
          <p:cNvPr id="72" name="Содержимое 4" descr="DSC02803.JPG"/>
          <p:cNvPicPr/>
          <p:nvPr/>
        </p:nvPicPr>
        <p:blipFill>
          <a:blip r:embed="rId5"/>
          <a:stretch/>
        </p:blipFill>
        <p:spPr>
          <a:xfrm>
            <a:off x="714240" y="3643200"/>
            <a:ext cx="4489560" cy="2519640"/>
          </a:xfrm>
          <a:prstGeom prst="rect">
            <a:avLst/>
          </a:prstGeom>
          <a:ln w="38160">
            <a:solidFill>
              <a:srgbClr val="ff9966"/>
            </a:solidFill>
            <a:miter/>
          </a:ln>
        </p:spPr>
      </p:pic>
    </p:spTree>
  </p:cSld>
  <p:transition advTm="1000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723564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Собственные разработ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0040" y="1642680"/>
            <a:ext cx="7956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пективный план по развитию мелкой моторики руки (старшая и подготовительная групп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пекты занятий по развитию речи и познавательному развитию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тренингов по развитию навыков коммуникаб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работы по организации экспериментально- опытнической деятельности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занятий по развитию речи с использований схем-мод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ющие иг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8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385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Результативность работы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85680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0% выпуск детей логопедических групп подготовленных к обучению в общеобразовательной школ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бщение опыта работы по теме: «Развитие мелкой моторики рук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международном конкурсе детского рисунка «Поделись улыбкою своей». Воспитанники заняли 1-е и 2-е место по Ступинскому район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бор и изготовление пособий для активизации развития мыслительной деятельности де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организации и проведении РМО по теме «Развитие мелкой моторики руки – неотъемлемая часть развития речи детей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бликации в интерне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Образ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840" y="1052640"/>
            <a:ext cx="869004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6 г. – Серпуховское педагогическое училище по специальности: дошкольное воспит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83 г. – МГЗПИ по специальности: «Педагогика и психолог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дошколь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шая категория с 1995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440" y="4869000"/>
            <a:ext cx="61722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– 31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й – 31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олжности методиста –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олжности воспитателя – 26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85880" y="4000680"/>
            <a:ext cx="39211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Стаж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8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385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38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38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Самообразов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012000" y="1413000"/>
            <a:ext cx="29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28760" y="13572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 повышения квалификации и переподготовки работников народного образования Московской области по теме: «Подготовка детей к школ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гуманитарный университет им. М.А. Шолохова. Краткосрочное повышение квалификации, по «Программе воспитания и обучения в детском саду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в режиме инновации по теме: «Разработка и внедрение системного подхода по реализации коммуникативного потенциала дошкольников с ОН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Направление  педагогической 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512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ивизация развития мыслительной деятельности дошколь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7" descr="DSC02858.JPG"/>
          <p:cNvPicPr/>
          <p:nvPr/>
        </p:nvPicPr>
        <p:blipFill>
          <a:blip r:embed="rId1"/>
          <a:stretch/>
        </p:blipFill>
        <p:spPr>
          <a:xfrm>
            <a:off x="1285920" y="2786040"/>
            <a:ext cx="6605640" cy="370836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</p:spTree>
  </p:cSld>
  <p:transition advTm="1000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Используемые активные методы и средства  организации мыслительной деятель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2286000" y="28288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сперимен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н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вающие иг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с загад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8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385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C:\Documents and Settings\Admin\Рабочий стол\Презентация\IMG_3300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ксперимент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C:\Documents and Settings\Admin\Рабочий стол\Презентация\IMG_3308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нин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Documents and Settings\Admin\Рабочий стол\Презентация\IMG_3312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вивающие иг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C:\Documents and Settings\Admin\Рабочий стол\Защита\IMG_2178.JPG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3-03T19:34:59Z</dcterms:modified>
  <cp:revision>152</cp:revision>
  <dc:subject/>
  <dc:title>PowerPoint Presentation</dc:title>
</cp:coreProperties>
</file>