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464-584D-45A2-9D96-05017060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A59-2CE9-411D-ADA4-0A948630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958-2D51-4065-BCF3-4BA5BA79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5F6-14E5-4908-B8A5-8AFC97CB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588A-DC5D-4320-9B21-F81BFDD1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9377-301B-4027-B9BF-C78A8C84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3FC7-82D4-47CF-949F-B46CCF8F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195C-38CC-45ED-813A-AB4C3370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801D-9198-49B3-A50D-2165B2DC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1110-A25A-4A3E-A675-4D3EE800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5B55-6620-4805-A135-877B010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43A-C940-4665-BB4E-6D683C92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B0BC-4F59-428E-8F4B-1493C9E5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E0E8-963E-4FB2-A111-65D0209F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270D-5E0A-403B-BD1D-86B8E819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8486-C350-4BCC-8732-A7965DE4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776D-622A-4F72-923F-524D3C91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EEED-4759-4C41-B020-2D574147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6E1-DCF1-44EE-87D6-F0D136F6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3EC-4A4F-414A-A4F1-082B6780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BEB-B2D3-420C-95DC-FA554CAC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791-AB03-45D4-BAFD-89AB42E9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CF8-15FE-4BC4-9F48-83F58A9C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92C-268C-43A2-8DF2-C424E20E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6C19-6FA7-43FF-B740-D87E3F541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93FB-FFED-46FF-B3C7-53F9697E6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Измерение информац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БОУ СОШ № 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екурова Евгения Александ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ообщение уменьшающее неопределенность знаний в два раза несет 1 бит информ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81471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из равновероятных событий тогда х –кол-во б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 baseline="54000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X= log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барабане для розыгрыша лотереи находится 32 шара. Сколько информации содержит сообщение о выпавшем номере №1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4797360"/>
            <a:ext cx="45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=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вет: 5 б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 выходите на следующей остановке?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просили человека в автобусе. «нет»-ответил 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корзине 8 шаров. Достали шар красного цв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учена телеграмма «встречайте вагон,7». В составе 16 ваго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школьной библиотеке 16 стеллажей с книгами. На каждом стеллаже 8 полок. Библиотекарь сообщил Пете, что его книга на 5 стеллаже, 3 полке сверх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пределите количество информ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Кодирование текстовой информации.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символы кодируются  одинаковым числом бит (алфавитный подхо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ще всего используют кодировки, в которых на символ отводится 8 бит (8-битные) или 16 бит (16-битны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измерении количества информации принимается, что в одном байте 8 бит, а в одном килобайте (1 Кбайт) – 1024 байта, в мегабайте (1 Мбайт) – 1024 Кбай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знака препинания внутри (не в конце!) текста ставится проб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найти информационный объем текст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ужно умножить количество символов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число бит на символ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две строчки текста не могут занимать 100 Кбайт в памя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читая, что каждый символ кодируется одним байтом, определите, чему равен информационный объем следующего высказывания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Жан-Жака Русс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 бита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ысячи путей ведут к заблуждению, к истине – только од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шение подсчитываем количество символов и умножаем на 8 (количество бит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вет: 2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считайте количество символов в сообщении, если информационный объем сообщения в этой кодировке равен 160 б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1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5445000"/>
            <a:ext cx="32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60/8 = 20 симво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: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е количество информации несет сообщение, что встреча назначена на 15 числ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е количество информации несет сообщение, что встреча назначена на сентябр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е количество информации несет сообщение что встреча назначена на 23.10.в 15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47:44Z</dcterms:created>
  <dc:creator>Николай</dc:creator>
  <dc:description/>
  <dc:language>en-US</dc:language>
  <cp:lastModifiedBy>Звезда</cp:lastModifiedBy>
  <dcterms:modified xsi:type="dcterms:W3CDTF">2012-03-04T09:04:38Z</dcterms:modified>
  <cp:revision>5</cp:revision>
  <dc:subject/>
  <dc:title>Измерение информации</dc:title>
</cp:coreProperties>
</file>