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DD6F-1CDA-4D23-938F-2D3D9CC5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3683-7057-41BA-AF99-BBD70F09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F047-4654-4CD6-997A-30ECB959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9EC0-79DB-443A-8120-D5051703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0A06-B80E-4BA5-BA7F-C7CA4152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4119-8DAB-4C04-8905-55DB8510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A6F5-F7A8-4CA1-9D35-0CE27958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4DD7-C5D7-459F-B7CA-C9BB4A43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06BD-13B1-4DE5-AEF7-85D2D55C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B762-74B6-4CE2-9E93-C013E812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48A9-1675-4573-B2FF-32476AC6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1259-6275-4CDD-91E4-AAE6132C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EA55-E026-4B48-AA1C-F80A59A7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6BDB-B1BF-48B9-A951-48FD35F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C23D-CD6D-40C4-84B1-7F082EA5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E33E-0C73-4F7F-B299-24172C60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4DBC-4DAA-43CC-BE74-A6EDF70C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5849-75B0-4621-95A8-46B5893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01AA-2400-49B2-A271-25D9AEF0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140E-3638-460A-8A1A-B1776241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83E6-60CA-4D1C-A4D3-65D6B39B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3B39-4E69-4AB1-A130-E25DBB2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3803-C549-4F2B-BC6E-F9C2094F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F73B-B790-4CB3-8E97-2B490A6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8CEE-24FC-4FC7-8F33-E00E351CBC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D01C-C163-422E-BA62-4D65B65B9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27280" y="1197000"/>
            <a:ext cx="6192720" cy="19843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c00"/>
                </a:solidFill>
                <a:latin typeface="Arial"/>
              </a:rPr>
              <a:t>Калейдоскоп, увиденных животных и птиц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427640" y="4581360"/>
            <a:ext cx="446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Проект подготовил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щиеся 1 «В» кла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дагог: Красницкая Т.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3141720"/>
            <a:ext cx="5832720" cy="11509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Часть 1. Домашние животные и пт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76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2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01028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Загад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92000" y="1267920"/>
            <a:ext cx="41907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вразвалочку идё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ёстренькая груд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уки-кряки издаё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ечно, эт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5960" y="3089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573360"/>
            <a:ext cx="504036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ждый вечер, так легк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а дает нам моло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ворит она два сло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зовут её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5516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2857320" cy="2228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27957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Загадк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1767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ьше всех встаё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Ку-ка-ре-ку!» поё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70160" y="256536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ПЕТ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0520" y="3141720"/>
            <a:ext cx="28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вост крючко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с пятач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4320" y="342900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2520" y="4292640"/>
            <a:ext cx="476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лужку он важно броди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воды сухим выходи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сит красные ботин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рит мягкие пер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5240" y="558972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ГУ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1619280" cy="1743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867280" y="2708280"/>
            <a:ext cx="2016360" cy="1216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435720" y="4076640"/>
            <a:ext cx="1522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Угадай, чей голосок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580000" y="256536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56536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580000" y="386064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86064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580000" y="2133720"/>
          <a:ext cx="3049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21337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580000" y="4437000"/>
          <a:ext cx="30492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44370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580000" y="2997360"/>
          <a:ext cx="30492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0000" y="299736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580000" y="3429000"/>
          <a:ext cx="30492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34290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580000" y="1700280"/>
          <a:ext cx="304920" cy="30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80000" y="170028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580000" y="5013360"/>
          <a:ext cx="30492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80000" y="501336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556000" y="1557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го-го-г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19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-у-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-ка-ре -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я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3429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-е-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3860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ав-гав-га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4365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рю-хрю- хрю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4941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-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Назови детёныш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79280" y="1483920"/>
            <a:ext cx="2103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ШК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1484280"/>
            <a:ext cx="210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79640" y="206064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АК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7280" y="206064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Щ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637000"/>
            <a:ext cx="230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РОВ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2637000"/>
            <a:ext cx="2103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9640" y="3213000"/>
            <a:ext cx="23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УРИЦ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321300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378936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ТК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5280" y="3789360"/>
            <a:ext cx="210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436572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УСЬ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4365720"/>
            <a:ext cx="2103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У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494172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З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4941720"/>
            <a:ext cx="210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13044" t="5834" r="0" b="19655"/>
          <a:stretch/>
        </p:blipFill>
        <p:spPr>
          <a:xfrm>
            <a:off x="6659640" y="836640"/>
            <a:ext cx="1130400" cy="1441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1628640"/>
            <a:ext cx="1547640" cy="1320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rcRect l="0" t="0" r="0" b="14804"/>
          <a:stretch/>
        </p:blipFill>
        <p:spPr>
          <a:xfrm>
            <a:off x="7596360" y="1773360"/>
            <a:ext cx="1331640" cy="1511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1547640" cy="1209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rcRect l="9871" t="13785" r="14549" b="6984"/>
          <a:stretch/>
        </p:blipFill>
        <p:spPr>
          <a:xfrm>
            <a:off x="0" y="393372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6948360" y="306864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380360" y="400536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250920" y="4797360"/>
            <a:ext cx="1133280" cy="1700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1258920" y="56912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Герои фотосессий: утенок и лягушонок."/>
          <p:cNvPicPr/>
          <p:nvPr/>
        </p:nvPicPr>
        <p:blipFill>
          <a:blip r:embed="rId10"/>
          <a:srcRect l="6168" t="20443" r="6168" b="6894"/>
          <a:stretch/>
        </p:blipFill>
        <p:spPr>
          <a:xfrm>
            <a:off x="6443640" y="4941720"/>
            <a:ext cx="155592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2843280" y="5516640"/>
            <a:ext cx="1203120" cy="1341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4932360" y="5516640"/>
            <a:ext cx="13240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560" y="206028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Arial"/>
              </a:rPr>
              <a:t>Б Л А Г О Д А Р И М  З А  В Н И М А Н И 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18920" y="5300280"/>
            <a:ext cx="547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(ПРОДОЛЖЕНИЕ СЛЕДУЕТ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26683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9806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Цель проект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000" y="2637000"/>
            <a:ext cx="7127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ассказать об увиденных домашних животных и птица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64056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Задачи проект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280" y="1125000"/>
            <a:ext cx="71550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знать где живут, чем питаются домашние животные и птиц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знать названия детёнышей домашних животных и птиц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ься искать новое с помощью книг, журналов, компьюте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формить  книжку со стихами и загадками о домашних животных и птиц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делать макет «Деревенский дво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Введение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знаем много домашних животных и птиц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я над проектом, мы выполнили макет «Деревенский двор», коллаж «Домашние животные», а также сделали рисунки к загадкам и стих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годня мы расскажем и покажем каких животных и птиц мы ви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Стих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563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яу! Мяу!» - Чёрный к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 у бабушки живё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789360"/>
            <a:ext cx="563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Гав! Гав! Гав!» - Лохматый пё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вост кольцом и чёрный но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Стих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92000" y="1557360"/>
            <a:ext cx="63514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Хрю! Хрю! Хрю!» - А это сви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инка – розовая спи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500280"/>
            <a:ext cx="63514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-го-го!!» - Вот это кон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вост и грива как ого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Стих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56322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е-бе-бе!» - Барашек чёр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весёлый и провор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860640"/>
            <a:ext cx="563256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е! – кричит козёл сердито,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окинуто корыто!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Загадк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010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А сейчас мы загадаем загад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492280"/>
            <a:ext cx="561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ягкие лап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в лапках – царап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64500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365720"/>
            <a:ext cx="4968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ёт, идёт бородой трясё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вки просит: «Ме-ме-м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й-ка вкусной мне-е-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4724280"/>
            <a:ext cx="31114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5516640"/>
            <a:ext cx="165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КОЗЁ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паризанский козел"/>
          <p:cNvPicPr/>
          <p:nvPr/>
        </p:nvPicPr>
        <p:blipFill>
          <a:blip r:embed="rId2"/>
          <a:stretch/>
        </p:blipFill>
        <p:spPr>
          <a:xfrm>
            <a:off x="6372360" y="4292640"/>
            <a:ext cx="23050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ff"/>
                </a:solidFill>
                <a:latin typeface="Arial"/>
              </a:rPr>
              <a:t>Загадк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92000" y="1557000"/>
            <a:ext cx="41907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 копытами сту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 скачу, скачу, ск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ива вьётся на вет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э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3213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221000"/>
            <a:ext cx="61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омко лает, а в дом не пуск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4172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2409840" cy="1807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96000" y="704880"/>
            <a:ext cx="2521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7:32:30Z</dcterms:created>
  <dc:creator>User</dc:creator>
  <dc:description/>
  <dc:language>en-US</dc:language>
  <cp:lastModifiedBy>User</cp:lastModifiedBy>
  <dcterms:modified xsi:type="dcterms:W3CDTF">2012-03-03T17:10:06Z</dcterms:modified>
  <cp:revision>11</cp:revision>
  <dc:subject/>
  <dc:title>Калейдоскоп увиденных домашних животных и птиц</dc:title>
</cp:coreProperties>
</file>